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FE7-7703-4BFE-9CCF-93226C5B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A0E-0547-4CE5-9D77-576250D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EF6-6E5F-4D25-86A6-EAEE464B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752-55DC-4B60-A1B6-9C2EDD1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627B-2311-4B0C-9E7E-1247DB5D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EF45-1D78-40DA-8AC3-3A9039E4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E8BE-352E-4D40-BB4E-0696EC6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F43C-B3C0-4262-8021-FD8C315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2D2-FADD-4A51-BCEB-4C98763C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C412-2343-4FDE-8274-771CC636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CFFB-D102-4D65-93FD-16CFE31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8C2-E521-4FC5-AEEA-CC5FB0E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183-96D4-4A3D-BF3A-2FB6A90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12E0-93F1-4669-B91C-D873261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A15A-76D2-428B-B523-9DE48F4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9204-BDE9-4099-8974-B8DC2C38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61A-655D-47C3-9892-1763FDBD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7EB-7489-404D-913C-C1A4260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E93-C89E-46F5-83FD-903B14C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540-2030-43C0-A34C-2D61609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936-0034-457E-B74C-94B1BBEA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6FB-D32F-49A6-A497-AA3AF37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995-3F31-42F4-BBF6-92BAC3D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813-A63C-4534-9C03-6F55BA23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33AF-C554-48A0-A7B2-2AFF33C12E86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C5BF-69A6-487A-A132-A222F0CD59E5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33"/>
                </a:solidFill>
                <a:latin typeface="Garamond"/>
                <a:ea typeface="標楷體"/>
              </a:rPr>
              <a:t>創意教學活動設計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趙家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縣新莊市丹鳳國小校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z22031@yahoo.com.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靈活運用教學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0066"/>
                </a:solidFill>
                <a:latin typeface="標楷體"/>
                <a:ea typeface="標楷體"/>
              </a:rPr>
              <a:t>如何達成教學目標，能讓學生學會、願意學、喜歡學，就是最好的教學法。</a:t>
            </a:r>
            <a:r>
              <a:rPr b="0" lang="zh-TW" sz="39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學生主體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目標生活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進程自然化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活動多元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教學趣味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取材平衡化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文法配角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測驗合理化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語文一體化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應用全面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教學策略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ㄧ、模仿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ㄧ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跟我做：跟我做動作，跟我說這個字、跟我唱這首歌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學…做：學動物的叫聲、動作，學我說的話，學媽媽說的話，照樣造句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、跟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ㄧ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我說你演：依據我所說的做動作，雙簧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接龍：接續前面的動作、語句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71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三、角色扮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ㄧ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劇本腳色：扮演故事裡的人物，順著劇情發展學習對話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生活腳色：扮演身邊的人物、動物，表演平常所發生的小事件，理解彼此的關係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假面具：戴上面具或操弄布偶，藉由替代的面具、玩偶，表現自己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8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四、半具體操作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ㄧ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圖卡想像：繪本、圖片的提示，引發想像空間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情境轉移：佈置相仿的學習情境，讓孩子投攝，表達感受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教具操作：利用教具協助理解問題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920" y="907920"/>
            <a:ext cx="764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五、遊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團體遊戲：設計有趣的遊戲，大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一起參與，增加趣味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個別遊戲：提供遊戲器材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積木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電腦…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，讓孩子個別操作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44920" y="2460600"/>
            <a:ext cx="1241640" cy="49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聚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44920" y="1628640"/>
            <a:ext cx="1241640" cy="49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教學構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96160" y="1628640"/>
            <a:ext cx="1241280" cy="133056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44920" y="3292560"/>
            <a:ext cx="1241640" cy="498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擬定目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4920" y="4124160"/>
            <a:ext cx="1241640" cy="49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訂定計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9320" y="3790800"/>
            <a:ext cx="1441440" cy="6652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工作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4941720"/>
            <a:ext cx="1241280" cy="49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實施教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96160" y="4124160"/>
            <a:ext cx="1241280" cy="133056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教材選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44920" y="5788080"/>
            <a:ext cx="1241640" cy="49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教學評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4622760"/>
            <a:ext cx="930240" cy="7207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習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74840" y="4622760"/>
            <a:ext cx="930240" cy="7207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知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60600" y="4622760"/>
            <a:ext cx="930240" cy="7207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資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444600">
            <a:off x="7167600" y="3833640"/>
            <a:ext cx="1163520" cy="414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回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14800" y="214776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65560" y="2959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65560" y="46227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560" y="37908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65560" y="54547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560" y="3459240"/>
            <a:ext cx="13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76720" y="2311200"/>
            <a:ext cx="908280" cy="3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560" y="345924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119320" y="4456080"/>
            <a:ext cx="31104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65560" y="4789440"/>
            <a:ext cx="93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667640" y="1628640"/>
            <a:ext cx="3492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686560" y="1628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12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27600" y="6093000"/>
            <a:ext cx="21574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4437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8680" y="76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教學設計的基本流程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Garamond"/>
                <a:ea typeface="標楷體"/>
              </a:rPr>
              <a:t>教學設計案例</a:t>
            </a:r>
            <a:r>
              <a:rPr b="0" lang="zh-TW" sz="3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幼童華語讀本第一冊第一課</a:t>
            </a: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16000" y="907920"/>
          <a:ext cx="7567560" cy="5113080"/>
        </p:xfrm>
        <a:graphic>
          <a:graphicData uri="http://schemas.openxmlformats.org/drawingml/2006/table">
            <a:tbl>
              <a:tblPr/>
              <a:tblGrid>
                <a:gridCol w="934920"/>
                <a:gridCol w="6632640"/>
              </a:tblGrid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題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我的名字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目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道自己的中文名字：聽到別人叫名字時，會回應；會介紹自己的名字。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道自己的性別。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正確認讀課文，練習寫漢字。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策略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練習法、角色扮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背景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識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第一人稱—我     </a:t>
                      </a: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自己的名字  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孩、女孩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4360" y="1052640"/>
          <a:ext cx="7777080" cy="4176720"/>
        </p:xfrm>
        <a:graphic>
          <a:graphicData uri="http://schemas.openxmlformats.org/drawingml/2006/table">
            <a:tbl>
              <a:tblPr/>
              <a:tblGrid>
                <a:gridCol w="719280"/>
                <a:gridCol w="7057800"/>
              </a:tblGrid>
              <a:tr h="41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準備活動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準備句型長條、詞與字的卡片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個學生介紹自己的中文名字。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3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玩「大風吹」遊戲，其中吹男孩、女孩次數多一點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二發展活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閃示句型長條，全體一起練習唸，並加動作「我叫王小平」「我是男孩」「我叫李小美」「不是女孩」「我是女孩」「不是男孩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動作可由大家一起創作，或老師指定男孩表演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superman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，女孩則以抱娃娃表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語文領域的基本理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培養學生正確理解和靈活應用本國語言文字的能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使學生具備良好的聽、說、讀、寫、作等基本能力，並能使用語文，充分表情達意， 陶冶性情，啟發心智，解決問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培養學生有效應用中國語文，從事思考、理解、推理、協調、討論、欣賞、創作，以擴充生活經驗，拓展多元視野，面對國際思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激發學生廣泛閱讀的興趣，提昇欣賞文學作品的能力，以體認中華文化精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引導學生學習利用工具書，結合資訊網路，藉以增進語文學習的廣度和深度，培養學生自學的能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我叫王小平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我叫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我是男孩，不是女孩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我是  男孩   </a:t>
            </a:r>
            <a:r>
              <a:rPr b="1" lang="zh-TW" sz="2900" spc="-1" strike="noStrike">
                <a:solidFill>
                  <a:srgbClr val="ff0000"/>
                </a:solidFill>
                <a:latin typeface="標楷體"/>
                <a:ea typeface="標楷體"/>
              </a:rPr>
              <a:t>不  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女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我叫李小美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我是女孩，不是男孩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我叫  我是  男孩  女孩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ff0000"/>
                </a:solidFill>
                <a:latin typeface="標楷體"/>
                <a:ea typeface="標楷體"/>
              </a:rPr>
              <a:t>我叫    是  男    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閃示詞卡「我叫」「我是」「男孩」「女孩」，全體一起練習唸，並與長條的句子比對，找出一樣的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閃識字卡「我」「叫」「是」「不」「男」「女」，正面是華文，背面是拼音，老師先請學生在詞卡中比對出單字，熟唸之後再說明每一個字的結構與意思，學習部件、發音、筆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基本筆法、筆順書空、描紅、自行練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497800" cy="53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編一段簡單的韻文，幫助學生記憶，也可延伸學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例：我我我，我是誰的我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男男男，是男孩的男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我說你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老師說：我是王小平。王小平則站起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老師說：我是男孩，不是女孩。王小平則做出動作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學生熟練後，便由學生輪流擔任老師的腳色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聽選練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學生聽老師唸的句子，選出正確的句子、詞卡、字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三、綜合活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畫一張自畫像，旁邊寫上自己的中文名字，並註明是男孩或女孩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學生輪流上台展示自己的畫作，並介紹自己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(</a:t>
            </a: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二</a:t>
            </a: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)</a:t>
            </a: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生活華語第三冊第九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26920" y="1052640"/>
          <a:ext cx="7783560" cy="5695920"/>
        </p:xfrm>
        <a:graphic>
          <a:graphicData uri="http://schemas.openxmlformats.org/drawingml/2006/table">
            <a:tbl>
              <a:tblPr/>
              <a:tblGrid>
                <a:gridCol w="979560"/>
                <a:gridCol w="68040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我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標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理解「對我好」的語意及用法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說出誰對我好的句型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流暢的唸誦課文，並知道押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o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ㄠ韻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認讀及書寫單字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策略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練習法  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學習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拼圖法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     3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表 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創意寫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背景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識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、學生舊經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已知道家屬的稱謂「爺爺、奶奶、哥哥、姊姊」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已學過「書包」一詞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、新概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我好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給我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替我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買…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做…  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</a:t>
                      </a:r>
                      <a:r>
                        <a:rPr b="0" lang="zh-TW" sz="2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背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71640" y="824040"/>
            <a:ext cx="75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準備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準備句型長條、詞與字的卡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布偶戲：一個是奶奶，一個是我，演一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生活小故事，套入「奶奶對我好，給我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蛋糕」的句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展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閃示句型長條，全體一起練習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爺爺對我好，給我買書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奶奶對我好，給我做蛋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哥哥對我好，替我背書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姊姊對我好，跟我ㄧ起去慢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爺爺對我好，給我買書</a:t>
            </a:r>
            <a:r>
              <a:rPr b="1" lang="zh-TW" sz="3700" spc="-1" strike="noStrike">
                <a:solidFill>
                  <a:srgbClr val="00cc00"/>
                </a:solidFill>
                <a:latin typeface="標楷體"/>
                <a:ea typeface="標楷體"/>
              </a:rPr>
              <a:t>包</a:t>
            </a: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對我好  給我  買書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奶奶對我好，給我做蛋</a:t>
            </a:r>
            <a:r>
              <a:rPr b="1" lang="zh-TW" sz="3700" spc="-1" strike="noStrike">
                <a:solidFill>
                  <a:srgbClr val="00cc00"/>
                </a:solidFill>
                <a:latin typeface="標楷體"/>
                <a:ea typeface="標楷體"/>
              </a:rPr>
              <a:t>糕</a:t>
            </a: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做蛋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哥哥對我好，替我背書</a:t>
            </a:r>
            <a:r>
              <a:rPr b="1" lang="zh-TW" sz="3700" spc="-1" strike="noStrike">
                <a:solidFill>
                  <a:srgbClr val="00cc00"/>
                </a:solidFill>
                <a:latin typeface="標楷體"/>
                <a:ea typeface="標楷體"/>
              </a:rPr>
              <a:t>包</a:t>
            </a: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替我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00000"/>
                </a:solidFill>
                <a:latin typeface="標楷體"/>
                <a:ea typeface="標楷體"/>
              </a:rPr>
              <a:t>姊姊對我好，跟我ㄧ起去慢</a:t>
            </a:r>
            <a:r>
              <a:rPr b="1" lang="zh-TW" sz="3700" spc="-1" strike="noStrike">
                <a:solidFill>
                  <a:srgbClr val="00cc00"/>
                </a:solidFill>
                <a:latin typeface="標楷體"/>
                <a:ea typeface="標楷體"/>
              </a:rPr>
              <a:t>跑</a:t>
            </a:r>
            <a:r>
              <a:rPr b="0" lang="zh-TW" sz="41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8072280" cy="51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閃示詞卡「對我好」「給我」「替我」「買書包」「做蛋糕」，全體一起練習唸，並與長條的句子比對，找出一樣的詞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閃示字卡「書」「奶」「買」「姊」「起」正面是華文，背面是拼音，老師先請學生在詞卡中比對出單字，熟唸之後再說明每一個字的結構與意思，學習部件、發音、筆順、集中識字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女—奶、姊、 妹、媽、好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說明押韻，本課押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ao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ㄠ韻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00cc"/>
                </a:solidFill>
                <a:latin typeface="標楷體"/>
                <a:ea typeface="標楷體"/>
              </a:rPr>
              <a:t>對我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00cc"/>
                </a:solidFill>
                <a:latin typeface="標楷體"/>
                <a:ea typeface="標楷體"/>
              </a:rPr>
              <a:t>給我    替我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00cc"/>
                </a:solidFill>
                <a:latin typeface="標楷體"/>
                <a:ea typeface="標楷體"/>
              </a:rPr>
              <a:t>買書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00cc"/>
                </a:solidFill>
                <a:latin typeface="標楷體"/>
                <a:ea typeface="標楷體"/>
              </a:rPr>
              <a:t>做蛋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標楷體"/>
                <a:ea typeface="標楷體"/>
              </a:rPr>
              <a:t>書 奶 買 姊 起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7636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集中識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56920" y="768960"/>
            <a:ext cx="7078320" cy="5835240"/>
            <a:chOff x="556920" y="768960"/>
            <a:chExt cx="7078320" cy="5835240"/>
          </a:xfrm>
        </p:grpSpPr>
        <p:sp>
          <p:nvSpPr>
            <p:cNvPr id="158" name=""/>
            <p:cNvSpPr/>
            <p:nvPr/>
          </p:nvSpPr>
          <p:spPr>
            <a:xfrm>
              <a:off x="3276720" y="2708280"/>
              <a:ext cx="1776240" cy="1370160"/>
            </a:xfrm>
            <a:prstGeom prst="pentagon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56920" y="768960"/>
              <a:ext cx="7078320" cy="5835240"/>
              <a:chOff x="556920" y="768960"/>
              <a:chExt cx="7078320" cy="58352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93920" y="1177920"/>
                <a:ext cx="5397840" cy="4644720"/>
                <a:chOff x="1393920" y="1177920"/>
                <a:chExt cx="5397840" cy="4644720"/>
              </a:xfrm>
            </p:grpSpPr>
            <p:sp>
              <p:nvSpPr>
                <p:cNvPr id="161" name=""/>
                <p:cNvSpPr/>
                <p:nvPr/>
              </p:nvSpPr>
              <p:spPr>
                <a:xfrm rot="1621800">
                  <a:off x="4147920" y="1506600"/>
                  <a:ext cx="1776240" cy="13698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4000" spc="-1" strike="noStrike">
                      <a:solidFill>
                        <a:srgbClr val="000000"/>
                      </a:solidFill>
                      <a:latin typeface="Verdana"/>
                      <a:ea typeface="標楷體"/>
                    </a:rPr>
                    <a:t>奶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9852200">
                  <a:off x="2341800" y="1577880"/>
                  <a:ext cx="1776240" cy="13701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4000" spc="-1" strike="noStrike">
                      <a:solidFill>
                        <a:srgbClr val="000000"/>
                      </a:solidFill>
                      <a:latin typeface="Verdana"/>
                      <a:ea typeface="標楷體"/>
                    </a:rPr>
                    <a:t>姊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9023000">
                  <a:off x="1622520" y="3306240"/>
                  <a:ext cx="1776240" cy="13701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4000" spc="-1" strike="noStrike">
                      <a:solidFill>
                        <a:srgbClr val="000000"/>
                      </a:solidFill>
                      <a:latin typeface="Verdana"/>
                      <a:ea typeface="標楷體"/>
                    </a:rPr>
                    <a:t>妹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35400">
                  <a:off x="3351240" y="4095360"/>
                  <a:ext cx="1776600" cy="13701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4000" spc="-1" strike="noStrike">
                      <a:solidFill>
                        <a:srgbClr val="000000"/>
                      </a:solidFill>
                      <a:latin typeface="Verdana"/>
                      <a:ea typeface="標楷體"/>
                    </a:rPr>
                    <a:t>媽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666400">
                  <a:off x="4789080" y="3306600"/>
                  <a:ext cx="1776600" cy="13701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4000" spc="-1" strike="noStrike">
                      <a:solidFill>
                        <a:srgbClr val="000000"/>
                      </a:solidFill>
                      <a:latin typeface="Verdana"/>
                      <a:ea typeface="標楷體"/>
                    </a:rPr>
                    <a:t>好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rot="3637200">
                <a:off x="5436720" y="1193400"/>
                <a:ext cx="1542960" cy="971640"/>
              </a:xfrm>
              <a:prstGeom prst="flowChartManualOperation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牛奶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4305000">
                <a:off x="6160680" y="3303360"/>
                <a:ext cx="1542960" cy="971640"/>
              </a:xfrm>
              <a:prstGeom prst="flowChartManualOperation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好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8497800">
                <a:off x="4430880" y="5258520"/>
                <a:ext cx="1542960" cy="971640"/>
              </a:xfrm>
              <a:prstGeom prst="flowChartManualOperation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媽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385200">
                <a:off x="469440" y="3162240"/>
                <a:ext cx="1543320" cy="971640"/>
              </a:xfrm>
              <a:prstGeom prst="flowChartManualOperation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姊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252200">
                <a:off x="1191600" y="1287360"/>
                <a:ext cx="1543320" cy="971280"/>
              </a:xfrm>
              <a:prstGeom prst="flowChartManualOperation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大姊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學生的多元智慧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人類的智慧是多元的，至少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智慧，包括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100" spc="-1" strike="noStrike">
                <a:solidFill>
                  <a:srgbClr val="000000"/>
                </a:solidFill>
                <a:latin typeface="標楷體"/>
                <a:ea typeface="標楷體"/>
              </a:rPr>
              <a:t>語文智慧、邏輯</a:t>
            </a:r>
            <a:r>
              <a:rPr b="0" lang="zh-TW" sz="51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5100" spc="-1" strike="noStrike">
                <a:solidFill>
                  <a:srgbClr val="000000"/>
                </a:solidFill>
                <a:latin typeface="標楷體"/>
                <a:ea typeface="標楷體"/>
              </a:rPr>
              <a:t>數學智慧、空間智慧、肢體動覺智慧、音樂智慧、人際關係智慧、內省智慧和自然觀察智慧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200" spc="-1" strike="noStrike">
                <a:solidFill>
                  <a:srgbClr val="006633"/>
                </a:solidFill>
                <a:latin typeface="標楷體"/>
                <a:ea typeface="標楷體"/>
              </a:rPr>
              <a:t>(</a:t>
            </a:r>
            <a:r>
              <a:rPr b="0" lang="zh-TW" sz="5200" spc="-1" strike="noStrike">
                <a:solidFill>
                  <a:srgbClr val="006633"/>
                </a:solidFill>
                <a:latin typeface="標楷體"/>
                <a:ea typeface="標楷體"/>
              </a:rPr>
              <a:t>五</a:t>
            </a:r>
            <a:r>
              <a:rPr b="0" lang="zh-TW" sz="5200" spc="-1" strike="noStrike">
                <a:solidFill>
                  <a:srgbClr val="006633"/>
                </a:solidFill>
                <a:latin typeface="標楷體"/>
                <a:ea typeface="標楷體"/>
              </a:rPr>
              <a:t>)</a:t>
            </a:r>
            <a:r>
              <a:rPr b="0" lang="zh-TW" sz="5200" spc="-1" strike="noStrike">
                <a:solidFill>
                  <a:srgbClr val="006633"/>
                </a:solidFill>
                <a:latin typeface="標楷體"/>
                <a:ea typeface="標楷體"/>
              </a:rPr>
              <a:t>拼圖教學</a:t>
            </a:r>
            <a:endParaRPr b="0" lang="en-US" sz="5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77708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人分成一個小組，每人依序報數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號到第一主題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號到第二主題學習，依序類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老師及助教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人，每人負責一個主題教學，講解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運用課文後的語法練習內容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我好，對我很好：舉例練習說明，讓學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解句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給我，替我：分辨詞意，舉例練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買…：小孩需要買哪些東西？買與賣的分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做…：哪些活動用「做」，做與坐的分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背…：什麼動作稱為背，背的用法練習，破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字練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生回到自己的組，互相說明方才各組老師教學的內容，並設法讓夥伴理解。計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404640"/>
            <a:ext cx="1800000" cy="1729080"/>
          </a:xfrm>
          <a:prstGeom prst="downArrowCallout">
            <a:avLst>
              <a:gd name="adj1" fmla="val 26028"/>
              <a:gd name="adj2" fmla="val 26025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第一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各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404640"/>
            <a:ext cx="1800360" cy="1729080"/>
          </a:xfrm>
          <a:prstGeom prst="downArrowCallout">
            <a:avLst>
              <a:gd name="adj1" fmla="val 26033"/>
              <a:gd name="adj2" fmla="val 26031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第二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各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068640"/>
            <a:ext cx="1800360" cy="1728720"/>
          </a:xfrm>
          <a:prstGeom prst="downArrowCallout">
            <a:avLst>
              <a:gd name="adj1" fmla="val 26038"/>
              <a:gd name="adj2" fmla="val 26036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第五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404640"/>
            <a:ext cx="1800360" cy="1729080"/>
          </a:xfrm>
          <a:prstGeom prst="downArrowCallout">
            <a:avLst>
              <a:gd name="adj1" fmla="val 26033"/>
              <a:gd name="adj2" fmla="val 26031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第三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各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3141720"/>
            <a:ext cx="1800360" cy="1728720"/>
          </a:xfrm>
          <a:prstGeom prst="downArrowCallout">
            <a:avLst>
              <a:gd name="adj1" fmla="val 26038"/>
              <a:gd name="adj2" fmla="val 26036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第四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4600" y="21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對我好，對我很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5840" y="220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33"/>
                </a:solidFill>
                <a:latin typeface="Verdana"/>
                <a:ea typeface="標楷體"/>
              </a:rPr>
              <a:t>給我，替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44920" y="2178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cc"/>
                </a:solidFill>
                <a:latin typeface="Verdana"/>
                <a:ea typeface="標楷體"/>
              </a:rPr>
              <a:t>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436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9900"/>
                </a:solidFill>
                <a:latin typeface="Verdana"/>
                <a:ea typeface="標楷體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551664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05228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學習評量：全組一起做，共同記分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問題式對話：例：哥哥怎麼樣對你好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答：哥哥對我好，替我背書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學習單：「買」「做」「背」的聯想造詞。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「替我」「給我」配對連連看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替我        給我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900" spc="-1" strike="noStrike">
                <a:solidFill>
                  <a:srgbClr val="cc00cc"/>
                </a:solidFill>
                <a:latin typeface="標楷體"/>
                <a:ea typeface="標楷體"/>
              </a:rPr>
              <a:t>問路   蛋糕   洗澡   故事書   寫字  玩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050920" y="4005360"/>
            <a:ext cx="194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2764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005360"/>
            <a:ext cx="2665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76360" y="3933720"/>
            <a:ext cx="2879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84360" y="4005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4005360"/>
            <a:ext cx="165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比手畫腳：每組計時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秒，老師表演動作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請學生猜動作 內容，答對的越多得分越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高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6633"/>
                </a:solidFill>
                <a:latin typeface="標楷體"/>
                <a:ea typeface="標楷體"/>
              </a:rPr>
              <a:t>三、綜合活動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656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依照分組，請學生集體畫一張四格漫畫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圖，每個圖說明一個誰對他好的情節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各組學生發表自己所畫的四格漫畫內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模仿課文的句法，依照自己所畫的圖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再創造一篇新的故事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zh-TW" sz="3800" spc="-1" strike="noStrike">
                <a:solidFill>
                  <a:srgbClr val="006633"/>
                </a:solidFill>
                <a:latin typeface="Garamond"/>
                <a:ea typeface="標楷體"/>
              </a:rPr>
              <a:t>閱讀指導教學設計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我變成一隻噴火龍了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賴馬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民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85,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國語日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深入閱讀理解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、阿古力為什麼會生氣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、阿古力生氣時發生了什麼事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三、最後阿古力怎麼澆熄生氣的大火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四、生氣到底好不好？請你說說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五、如果真的遇到很令人生氣的事，你會怎麼做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六、如果家人或朋友生氣了，你會用哪些方法澆熄他的怒火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6633"/>
                </a:solidFill>
                <a:latin typeface="Garamond"/>
              </a:rPr>
              <a:t>創思活動設計</a:t>
            </a:r>
            <a:br>
              <a:rPr sz="3800"/>
            </a:b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一、怒氣收集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目的：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（一）學習移轉生氣的情緒。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（二）了解自己發怒的原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方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一）在吹得半鼓的氣球上，用麥克筆寫出所有讓自己生氣的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二）利用嘴吹或打氣筒把氣球充氣，直到氣球鼓脹到極限為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三）用銳利物刺破氣球，象徵令人生氣的事已經煙消雲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綜合活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一）討論：氣球越吹越大時，你的心情有什麼變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二）完成學習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學習單—</a:t>
            </a:r>
            <a:br>
              <a:rPr sz="3800"/>
            </a:b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怒氣收集袋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68360" y="2349360"/>
          <a:ext cx="5759280" cy="4248000"/>
        </p:xfrm>
        <a:graphic>
          <a:graphicData uri="http://schemas.openxmlformats.org/drawingml/2006/table">
            <a:tbl>
              <a:tblPr/>
              <a:tblGrid>
                <a:gridCol w="3041280"/>
                <a:gridCol w="216000"/>
                <a:gridCol w="216000"/>
                <a:gridCol w="2286000"/>
              </a:tblGrid>
              <a:tr h="756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22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 flipH="1">
            <a:off x="2268360" y="3933720"/>
            <a:ext cx="3456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3860640"/>
            <a:ext cx="3456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二、噴火龍劇場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目的：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（一）演出故事情節，加深對故事內涵的理解。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（二）學習控制發怒的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一）決定角色：主要角色（蚊子波泰、阿古力、鄰居、吉普拉）其餘可按學生興趣增加蚊子、鄰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（二）演出故事：演出重點：波泰叮了阿古力→阿古力生氣的模樣→阿古力想控制噴火的種種方法→阿古力哭了→大家的反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綜合活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討論：你覺得誰演得最好？為什麼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完成學習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兒童心理發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兒童自從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歲起，即有語言溝通的能力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簡單的ㄚㄚ聲、哭聲、笑聲、叫聲，都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表達他的情緒與需求，而後學會模仿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音，建構語言的意義，直到可以由語言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為文字的學習，這是ㄧ段很漫長的歷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也是稍縱即逝的重要階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學習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你演的是書中的哪一個角色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____________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演出時，你覺得最容易演的是哪一部份？ 請寫下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你當個小戲評家，選三個令你印象深刻的角色，分別寫下你的看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扮演的角色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扮演的同學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戲評家的話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小豬</a:t>
            </a:r>
            <a:r>
              <a:rPr b="0" lang="zh-TW" sz="4200" spc="-1" strike="noStrike" u="sng">
                <a:solidFill>
                  <a:srgbClr val="006633"/>
                </a:solidFill>
                <a:uFillTx/>
                <a:latin typeface="Garamond"/>
              </a:rPr>
              <a:t>普普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讀完小豬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普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故事後，請你找出有關「時間的詞」，把它圈起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起討論這些時間的詞表示什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6633"/>
                </a:solidFill>
                <a:latin typeface="Garamond"/>
              </a:rPr>
              <a:t>創思活動設計</a:t>
            </a: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—時間魔法輪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了解時間與人的關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熟練的在句法中運用時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以太陽畫出每一個時間的出現的方位、顏色，作成轉盤的底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生自己畫出一天的重要活動：吃飯、睡覺、上課、遊戲、看電視…，作成轉盤的第二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生轉動轉盤，一邊敘述轉盤上出現的內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綜合活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討論：你覺得誰的生活過得最精采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習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學習單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你的生活如何安排？什麼時間學習？什麼時間遊戲？什麼時間休息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79640" y="2276640"/>
            <a:ext cx="4633560" cy="3644280"/>
            <a:chOff x="1979640" y="2276640"/>
            <a:chExt cx="4633560" cy="3644280"/>
          </a:xfrm>
        </p:grpSpPr>
        <p:sp>
          <p:nvSpPr>
            <p:cNvPr id="218" name=""/>
            <p:cNvSpPr/>
            <p:nvPr/>
          </p:nvSpPr>
          <p:spPr>
            <a:xfrm>
              <a:off x="2843280" y="2923920"/>
              <a:ext cx="2952720" cy="25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5400000">
              <a:off x="2039400" y="3872520"/>
              <a:ext cx="626400" cy="745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上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5400000">
              <a:off x="3983760" y="2216880"/>
              <a:ext cx="626760" cy="745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中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5400000">
              <a:off x="4055040" y="5234400"/>
              <a:ext cx="626760" cy="746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清晨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5400000">
              <a:off x="5926680" y="3800880"/>
              <a:ext cx="626760" cy="746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下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5400000">
              <a:off x="5423400" y="4953240"/>
              <a:ext cx="626400" cy="746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傍晚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5400000">
              <a:off x="2543760" y="4953240"/>
              <a:ext cx="626400" cy="746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早上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 rot="5400000">
              <a:off x="2543760" y="2792880"/>
              <a:ext cx="626760" cy="746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上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5400000">
              <a:off x="5495040" y="2719800"/>
              <a:ext cx="626760" cy="745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新細明體"/>
                </a:rPr>
                <a:t>下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  <a:ea typeface="新細明體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創意教學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—自由聯想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教學目的：激發多元創意思考，置入情境學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、題材：老師提供一根木棒、一塊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、學習活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請學生用這兩樣東西自由聯想，可以做什麼事情，分組討論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分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生分組上台表演他們的構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三、綜合活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看到別人的表演，自己有何感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共評誰演得最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把故事寫下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6633"/>
                </a:solidFill>
                <a:latin typeface="Garamond"/>
              </a:rPr>
              <a:t>創意教學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—共同創作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教學目的：統整生活中所發生的事件，形成篇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題材：老師提供一個想像的物品，如：籃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習活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全班為成個圓圈，老師對學生拋球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僅有動作，沒有球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，學生要立即接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每個人要有不同的動作，不同的事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可以邊作動作邊發出喊叫、加油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綜合活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大家一起把這場拋球活動敘述成一篇文章、一個故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確認活動中最驚險刺激的高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共同寫成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6</a:t>
            </a:r>
            <a:r>
              <a:rPr b="0" lang="zh-TW" sz="4200" spc="-1" strike="noStrike">
                <a:solidFill>
                  <a:srgbClr val="006633"/>
                </a:solidFill>
                <a:latin typeface="標楷體"/>
                <a:ea typeface="標楷體"/>
              </a:rPr>
              <a:t>歲以前的兒童特質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自我中心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玩具比朋友重要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自言自語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重複性行為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模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好奇心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模糊的時間觀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要求公平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6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歲至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1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歲的兒童特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結交朋友，找夥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團體活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接受圖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半具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大量與人溝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好奇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強烈模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開始有時間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競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教學運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在課堂上，安排二至三種教學方式，刺激孩子不同的反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練習法—基本語文練習，生字教學、句型練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肢體反應法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Total Physical Response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簡稱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TPR)—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趣味遊戲，生字的聲調、意義；生詞；句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合作學習—利用小組成員之間的分工合作，共同利用資源，互相支援，去進行學習；並利用小組本位的評核及組間的比賽，製造團隊比賽的社會心理氣氛，以增進學習的成效。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評量多元化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75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口頭問答—學生的發音、語調、語法的正確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紙筆測驗—學生對知識的文字化表達，理解多少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表演活動—對所用的語言內涵了解程度為何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資料蒐集—學生主動學習的結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討論對話—能否運用流利的語言表達、析辨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作業整理—對於所學的知識是否能有序整理。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發表活動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00"/>
                </a:solidFill>
                <a:latin typeface="Arial"/>
                <a:ea typeface="標楷體"/>
              </a:rPr>
              <a:t>作業展覽—回家作業、學習檔案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00"/>
                </a:solidFill>
                <a:latin typeface="Arial"/>
                <a:ea typeface="標楷體"/>
              </a:rPr>
              <a:t>節慶表演—利用節慶時間，配合課程設計主題性表演，如：舞獅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00"/>
                </a:solidFill>
                <a:latin typeface="Arial"/>
                <a:ea typeface="標楷體"/>
              </a:rPr>
              <a:t>總結性表演—學習至一階段，讓學生以朗讀、演說、戲劇…等方式演出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4:54:17Z</dcterms:created>
  <dc:creator>chues</dc:creator>
  <dc:description/>
  <dc:language>en-US</dc:language>
  <cp:lastModifiedBy>Colling</cp:lastModifiedBy>
  <dcterms:modified xsi:type="dcterms:W3CDTF">2008-07-05T00:13:34Z</dcterms:modified>
  <cp:revision>19</cp:revision>
  <dc:subject/>
  <dc:title>教具製作</dc:title>
</cp:coreProperties>
</file>