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gif" ContentType="image/gif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5A20-3669-43D9-897C-1DD24A28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8A96-A412-4C8D-ACE5-85630B45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7F47-216F-4940-8C1F-2EBA5B02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9A41-84CA-4388-A723-7FB7E9047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A303-278E-4627-A9D1-CF713D0C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0148-5D8B-4A4A-ABBB-9FF452BC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E36E-9221-487A-8BF8-C9F11DBD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0735-2E2B-4326-AE1A-D0366BD9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F4E3-CE36-4FC2-820D-BC767670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21A0-F003-45F5-8669-604909E3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095D-6493-4DA5-B292-3B3ADAF5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1069-DFCB-4F45-A1B8-859F3671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67A7-614E-4013-AD73-98CF7B43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176E-550F-4603-BBF4-BAF7E1A4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F4D1-5673-44C0-8666-C5737FB5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20E4-4913-49CE-BF40-55A9B0DF1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B239-69C5-40C2-A0FA-59D8224F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1A8F-8EEC-4296-B6D1-72975178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F8ED-717C-4252-8822-620E093C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3511-74C7-457C-AB44-DE1021FA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E187-0040-4166-89B4-CC14CF33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5EBB-695A-4744-A2D1-9005937C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F33B-B726-4F75-A823-7F188A8D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7E4D-1791-4932-95B3-10444A05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A718-4689-4BD0-913F-40963412E4D3}" type="slidenum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B827-D624-45DB-831F-876ACF06F6C8}" type="slidenum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Comic Sans MS"/>
              </a:rPr>
              <a:t>團康學華語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440"/>
            <a:ext cx="60325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趙家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台北縣新莊市丹鳳國小校長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z22031@yahoo.com.t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549360"/>
            <a:ext cx="7696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703dff"/>
                </a:solidFill>
                <a:latin typeface="Comic Sans MS"/>
              </a:rPr>
              <a:t>用圖片、字卡學說話，認字認詞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老師拿出詞卡分別發送給每個學生，例如：水果、動物、車種、吃的東西、喝的東西等等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老師說：我買「蘋果、香蕉、鳳梨、橘子⋯⋯」、我坐「火車、飛機、船⋯⋯」、我的籃子有「國王、土地、生日快樂⋯⋯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被點到的人，跟著走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聽到「籃子倒了，不坐了，不買了，不吃了⋯⋯」，便去搶座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90792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703dff"/>
                </a:solidFill>
                <a:latin typeface="Comic Sans MS"/>
              </a:rPr>
              <a:t>傳口令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每五人一組，站成一列，每人間距約一之手臂長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老師給站在最後的學生閃示不同的詞卡，要他口耳相傳給前一位學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，直到第一位學生根據所聽到的詞，到黑板上指認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475920"/>
            <a:ext cx="7696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703dff"/>
                </a:solidFill>
                <a:latin typeface="Comic Sans MS"/>
              </a:rPr>
              <a:t>農場交響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老師給每名學生一個農場上動物或鳥類的名字，學生多的時候，可以重複出現同一種動物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學生先熟悉自己的動物名字，還要學會動物的叫聲，例：狗「汪汪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老師開始講一個農場的故事，故事提到哪一種動物，代表那個動物的就要學動物叫，如果同一種動物多，就要說「幾匹馬」「幾頭牛」「幾隻雞」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69192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703dff"/>
                </a:solidFill>
                <a:latin typeface="Comic Sans MS"/>
              </a:rPr>
              <a:t>王老先生有塊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老師帶唱：王老先生有塊地，一呀一呀喔，他在田邊養動物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在田裡種青菜…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，一呀一呀喔，有大水牛、小烏龜、肥母雞、瘦猴子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學生跟著老師唱到一呀一呀喔，當老師唱完有什麼後，請學生回答，考驗記憶力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99"/>
                </a:solidFill>
                <a:latin typeface="Comic Sans MS"/>
              </a:rPr>
              <a:t>句法練習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703dff"/>
                </a:solidFill>
                <a:latin typeface="Comic Sans MS"/>
              </a:rPr>
              <a:t>支援前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學生三至五人分成一組，老師宣布一個緊急情境急需救援，例：小美在上學途中摔傷了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各組分頭在組內找尋可以救援的東西，並分別上台發表該組要如何運用這些東西救治小美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說得最有創意的給予鼓勵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83628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703dff"/>
                </a:solidFill>
                <a:latin typeface="Comic Sans MS"/>
              </a:rPr>
              <a:t>請你跟我這樣說</a:t>
            </a:r>
            <a:r>
              <a:rPr b="1" lang="zh-TW" sz="2800" spc="-1" strike="noStrike">
                <a:solidFill>
                  <a:srgbClr val="703dff"/>
                </a:solidFill>
                <a:latin typeface="Comic Sans MS"/>
              </a:rPr>
              <a:t>(rap</a:t>
            </a:r>
            <a:r>
              <a:rPr b="1" lang="zh-TW" sz="2800" spc="-1" strike="noStrike">
                <a:solidFill>
                  <a:srgbClr val="703dff"/>
                </a:solidFill>
                <a:latin typeface="Comic Sans MS"/>
              </a:rPr>
              <a:t>節奏</a:t>
            </a:r>
            <a:r>
              <a:rPr b="1" lang="zh-TW" sz="2800" spc="-1" strike="noStrike">
                <a:solidFill>
                  <a:srgbClr val="703d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老師先教一個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rap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急口令或短歌，並加上動作，等大家都熟練後即可開始。例：天這麼黑，風這麼大，爸爸打漁去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學生分組，並找出領袖，第一組先開始，第二組接棒後要先模仿第一組的短歌及動作，再做本組設計的短歌動作，第三組要模仿第二組的新創動作後，再創自己的短歌動作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每一組的歌詞不得重複，否則落敗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703dff"/>
                </a:solidFill>
                <a:latin typeface="Comic Sans MS"/>
              </a:rPr>
              <a:t>優點大轟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找一位學生當被轟炸者，全體學生每人想一句稱讚他的話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讓學生一一說出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書寫能力佳，可以用寫的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該生的優點，無論是外表、品格…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703dff"/>
                </a:solidFill>
                <a:latin typeface="Comic Sans MS"/>
              </a:rPr>
              <a:t>重新組合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老師設計數個句子，句子裡不要有一樣的字，把每個字寫在卡片上。例：我要趕快長大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分給每位學生一張字卡，分組進行句子組合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620640"/>
            <a:ext cx="7696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703dff"/>
                </a:solidFill>
                <a:latin typeface="Comic Sans MS"/>
              </a:rPr>
              <a:t>尋寶圖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老師先在教室裡佈置藏寶的情境，再設計一連串的位置指示句，例：從大門直走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步，向右轉走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步，前面的桌子上有個鉛筆盒，鉛筆盒裡有枝我最喜歡的紅筆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請學生依照指示語，找出老師的寶藏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99"/>
                </a:solidFill>
                <a:latin typeface="Comic Sans MS"/>
              </a:rPr>
              <a:t>篇章閱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703dff"/>
                </a:solidFill>
                <a:latin typeface="Comic Sans MS"/>
              </a:rPr>
              <a:t>故事接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老師先起個故事的頭，接者請學生依序每個人接著講一段，可以自由發揮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直到每個人都說完，故事還沒結束則由老師結尾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</a:rPr>
              <a:t>帶領遊戲的教戰守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事先說明規則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分組方式多樣性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靈活運用口號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秩序管理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善用計分板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703dff"/>
                </a:solidFill>
                <a:latin typeface="Comic Sans MS"/>
              </a:rPr>
              <a:t>我演你猜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老師演一段故事情節，邊演邊請學生敘述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請學生完整的說出剛才的劇情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703dff"/>
                </a:solidFill>
                <a:latin typeface="Comic Sans MS"/>
              </a:rPr>
              <a:t>改編故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老師先說一個大家都很熟悉的故事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學生分組分別改編故事的情節，分享各組的故事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62064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703dff"/>
                </a:solidFill>
                <a:latin typeface="Comic Sans MS"/>
              </a:rPr>
              <a:t>寓言聯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老師說一個寓言故事，請學生說出他的寓意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例：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  <a:ea typeface="標楷體"/>
              </a:rPr>
              <a:t>有一個人很誠懇的問上帝：「親愛的上帝，在天堂的一秒鐘，是不是等於人間的一萬年呢？」「是的！」上帝很高興的說。那個人又說：「那麼在天堂的一毛錢，不就是人間的一百萬了？」「是的！」上帝回答他。於是，那個人很高興的向上帝請求說：「請借我一毛錢吧！」上帝考慮了一下說：「好的，請等一秒鐘！」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836640"/>
            <a:ext cx="76960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703dff"/>
                </a:solidFill>
                <a:latin typeface="Comic Sans MS"/>
              </a:rPr>
              <a:t>看圖猜成語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老師設計幾個成語故事圖，請學生猜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例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547640" y="3213000"/>
            <a:ext cx="547236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170080" y="1268280"/>
            <a:ext cx="48452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</a:rPr>
              <a:t>發展性團康活動設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一、</a:t>
            </a:r>
            <a:r>
              <a:rPr b="1" lang="zh-TW" sz="3200" spc="-1" strike="noStrike">
                <a:solidFill>
                  <a:srgbClr val="703dff"/>
                </a:solidFill>
                <a:latin typeface="Comic Sans MS"/>
              </a:rPr>
              <a:t>從孩子的遊戲找靈感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：孩子的互動遊戲十分多元，仔細觀察就會發現其中可資組合的活動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TW" sz="3200" spc="-1" strike="noStrike">
                <a:solidFill>
                  <a:srgbClr val="703dff"/>
                </a:solidFill>
                <a:latin typeface="Comic Sans MS"/>
              </a:rPr>
              <a:t>例：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捉迷藏，把藏人換成藏東西，做鬼的學生不斷提問「請問是不是在…」，直到說對為止。這個活動就可以反覆練習一個句型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85800" y="1052280"/>
            <a:ext cx="769608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二、</a:t>
            </a:r>
            <a:r>
              <a:rPr b="1" lang="zh-TW" sz="3200" spc="-1" strike="noStrike">
                <a:solidFill>
                  <a:srgbClr val="703dff"/>
                </a:solidFill>
                <a:latin typeface="Comic Sans MS"/>
              </a:rPr>
              <a:t>從動物的特質找資料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：貓、狗的生活特性很有趣，也深受孩子喜愛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TW" sz="3200" spc="-1" strike="noStrike">
                <a:solidFill>
                  <a:srgbClr val="703dff"/>
                </a:solidFill>
                <a:latin typeface="Comic Sans MS"/>
              </a:rPr>
              <a:t>例：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角色扮演，老師說一個貓狗初見面的故事，請學生表演。這個活動訓練孩子聆聽的能力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26560" y="1268280"/>
            <a:ext cx="7696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三、</a:t>
            </a:r>
            <a:r>
              <a:rPr b="1" lang="zh-TW" sz="3200" spc="-1" strike="noStrike">
                <a:solidFill>
                  <a:srgbClr val="703dff"/>
                </a:solidFill>
                <a:latin typeface="Comic Sans MS"/>
              </a:rPr>
              <a:t>從生活現象找題材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：天氣、植物、都可以運用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TW" sz="3200" spc="-1" strike="noStrike">
                <a:solidFill>
                  <a:srgbClr val="703dff"/>
                </a:solidFill>
                <a:latin typeface="Comic Sans MS"/>
              </a:rPr>
              <a:t>例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：迷宮，老師設計一個情境迷宮，套用教學的內容。這個活動統整了語法、句型練習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090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口號運用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今天的幸運號碼是－（用於製造懸疑氣氛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2.Are You Ready? Go!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（用於統一節奏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優勝的加分圖案是－（用於製造驚奇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紅隊紅隊紅隊，加油加油加油！（用於凝聚士氣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拍手三下（找回注意力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師：鼓勵三下 全體學生：（拍手三下）你好棒！優勝者：謝謝大家！（培養風度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7.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歡呼口令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979640" y="1828800"/>
            <a:ext cx="6402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四、</a:t>
            </a:r>
            <a:r>
              <a:rPr b="1" lang="zh-TW" sz="3200" spc="-1" strike="noStrike">
                <a:solidFill>
                  <a:srgbClr val="703dff"/>
                </a:solidFill>
                <a:latin typeface="Comic Sans MS"/>
              </a:rPr>
              <a:t>改編現成的遊戲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zh-TW" sz="3200" spc="-1" strike="noStrike">
                <a:solidFill>
                  <a:srgbClr val="703dff"/>
                </a:solidFill>
                <a:latin typeface="Comic Sans MS"/>
              </a:rPr>
              <a:t>例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：請你跟我這樣說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大狗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小鳥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追跑了小鳥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跌成堆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99"/>
                </a:solidFill>
                <a:latin typeface="Comic Sans MS"/>
              </a:rPr>
              <a:t>識字遊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703dff"/>
                </a:solidFill>
                <a:latin typeface="Comic Sans MS"/>
              </a:rPr>
              <a:t>心臟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老師準備教過的字卡，鋪陳在桌面上，三至四名學生環繞桌邊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老師唸出一個字，學生即拍那個字卡，拍對了即給一張貼紙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800" y="549360"/>
            <a:ext cx="7696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703dff"/>
                </a:solidFill>
                <a:latin typeface="Comic Sans MS"/>
              </a:rPr>
              <a:t>我的朋友在哪裡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請學生先閉上眼睛，老師悄悄的把字卡放在學生桌上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手上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，而後請學生張開眼睛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老師一邊唱「我的朋友在哪裡」，一邊拿出與學生手上相同的字卡，並請擁有該字卡的學生站出來。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「我的朋友在哪裡」：一二三四五六七，我的朋友在哪裡？在這裡，在這裡，我的朋友在這裡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站出來的學生唸出字卡上的字，唸對了即給一個愛的鼓勵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268280"/>
            <a:ext cx="7696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703dff"/>
                </a:solidFill>
                <a:latin typeface="Comic Sans MS"/>
              </a:rPr>
              <a:t>猜字謎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白人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伯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一山還有一山高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出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兩個月亮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朋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會走路的小月亮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趙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一上一下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卡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475920"/>
            <a:ext cx="7696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703dff"/>
                </a:solidFill>
                <a:latin typeface="Comic Sans MS"/>
              </a:rPr>
              <a:t>大風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老師發給每一位學生一張字卡，每個字都有三至五個卡，老師也要有一張，加入遊戲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每個學生坐一張椅子，老師先當主持人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老師說：大風吹，學生問：吹什麼？老師說：吹「」字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哪些學生持有老師所吹的字，即離開座位，更換位置，老師也加入搶座位，沒有搶到座位的學生當主持人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703dff"/>
                </a:solidFill>
                <a:latin typeface="Comic Sans MS"/>
              </a:rPr>
              <a:t>打電報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學生三至五人分成一組，老師在每一組最後一位學生背後，用手指寫一個字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學生繼而把老師所寫的字依樣畫葫蘆寫在前一位學生的背後，直到第一位，再把所得到的訊息寫出來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99"/>
                </a:solidFill>
                <a:latin typeface="Comic Sans MS"/>
              </a:rPr>
              <a:t>語詞遊戲</a:t>
            </a: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703dff"/>
                </a:solidFill>
                <a:latin typeface="Comic Sans MS"/>
              </a:rPr>
              <a:t>接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老師先說一個詞，在讓學生接詞尾的字繼續造詞，如此循環，別人造過的詞不得再用。接龍的詞視學生程度決定，同音即可，或一定要同一個字才算通過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例：山洞→洞口→口袋→袋子→子弟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4T13:48:44Z</dcterms:created>
  <dc:creator>Colling</dc:creator>
  <dc:description/>
  <dc:language>en-US</dc:language>
  <cp:lastModifiedBy>Colling</cp:lastModifiedBy>
  <dcterms:modified xsi:type="dcterms:W3CDTF">2008-07-04T18:29:56Z</dcterms:modified>
  <cp:revision>5</cp:revision>
  <dc:subject/>
  <dc:title>團康學華語</dc:title>
</cp:coreProperties>
</file>