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465-636C-4634-9536-9C7BB708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A0B-4958-470E-8FEE-86F579B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C56-B463-4A2B-BD32-F73283DC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D9E-1023-400C-B042-65B5338B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189C-94A4-4E6F-8DCF-F38A1FAB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27B-DDF6-43B9-8B7E-23FD9B8C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AE1-4C81-4F20-AB44-16DE126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0DBE-4932-4DF2-9EF0-D4BEA1F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92C8-7E33-4091-92EC-841E10E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1F7-7C94-45D2-81C6-CD72C11C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5329-ABE9-48DA-BFDA-BB6E8CE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E9F-9803-49ED-A40C-4FDDBD33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E10-7D9D-4787-8D33-0CDA94E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6281-6041-45FE-9DF0-36E8763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E7F-0705-44FE-8EA0-6DA5D4C5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0679-3142-4113-8DEA-C8281CEE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F4A8-0B2D-41D1-8EC6-6359E03D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766-AE30-46D5-B0C6-31A5D01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796-43AB-4253-BFF3-75428786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F00-7E81-4A03-A6C8-179F0F19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811-1208-4A74-86CD-37CC712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AC5-CBAB-41E0-8197-09FA7D9D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1AC-806D-4C81-AC16-67B4F40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152-DD90-44B1-B420-94D7BCF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F71-D0DA-4511-9788-3C35D04B8DFE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7126-478B-4D37-B1A4-96E56B46DD4D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22031@yahoo.com.tw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lc.k12.edu.tw/1002613986/page1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../../1.doc" TargetMode="External"/><Relationship Id="rId2" Type="http://schemas.openxmlformats.org/officeDocument/2006/relationships/hyperlink" Target="http://src.tpc.edu.tw/eword/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6633"/>
                </a:solidFill>
                <a:latin typeface="Garamond"/>
                <a:ea typeface="標楷體"/>
              </a:rPr>
              <a:t>識字教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趙家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縣新莊市丹鳳國小校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z22031@yahoo.com.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24447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0033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1125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b812f"/>
                </a:solidFill>
                <a:latin typeface="Arial"/>
              </a:rPr>
              <a:t>認字與寫字發展規律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421000"/>
            <a:ext cx="7894080" cy="2818080"/>
            <a:chOff x="755640" y="2421000"/>
            <a:chExt cx="7894080" cy="2818080"/>
          </a:xfrm>
        </p:grpSpPr>
        <p:sp>
          <p:nvSpPr>
            <p:cNvPr id="131" name=""/>
            <p:cNvSpPr/>
            <p:nvPr/>
          </p:nvSpPr>
          <p:spPr>
            <a:xfrm>
              <a:off x="755640" y="2421000"/>
              <a:ext cx="64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認字著眼於整體，寫字從局部開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55640" y="3350880"/>
              <a:ext cx="7894080" cy="1888200"/>
              <a:chOff x="755640" y="3350880"/>
              <a:chExt cx="7894080" cy="188820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4718520"/>
                <a:ext cx="789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認字是先記憶後理解，寫字則是先理解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5640" y="3350880"/>
                <a:ext cx="78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TW" sz="28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認字的難易度與字義密切相關，寫字與筆畫多少有關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識字教學的基本策略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正音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  <a:ea typeface="標楷體"/>
              </a:rPr>
              <a:t>直接唸讀音節，讀準音調，注意發音部位、聲調的正確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辨識字形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  <a:ea typeface="標楷體"/>
              </a:rPr>
              <a:t>利用漢字的筆劃、筆形、筆順和部件分析、覺知、記憶字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解釋字義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  <a:ea typeface="標楷體"/>
              </a:rPr>
              <a:t>詳細運用六書介紹部件，並解釋合體字的意涵，讓學生能造詞、說話，利用漢字構句，聯繫上下文理解字義，並學習查漢字字典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書寫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  <a:ea typeface="標楷體"/>
              </a:rPr>
              <a:t>練習書空、模寫、抄寫，熟悉字形、筆順和部件組合的定位，筆劃的順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識字的教學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、直觀識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老師以身體動作配合生動的解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200" spc="-1" strike="noStrike">
                <a:solidFill>
                  <a:srgbClr val="9933ff"/>
                </a:solidFill>
                <a:latin typeface="Arial"/>
                <a:ea typeface="標楷體"/>
              </a:rPr>
              <a:t>大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，雙手伸開，雙腳分開站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200" spc="-1" strike="noStrike">
                <a:solidFill>
                  <a:srgbClr val="9933ff"/>
                </a:solidFill>
                <a:latin typeface="Arial"/>
                <a:ea typeface="標楷體"/>
              </a:rPr>
              <a:t>身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，側身站立，一撇是頭，身體裡裝著寶寶，用兩橫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表示，一條腿站直，一條腿踢出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9933ff"/>
                </a:solidFill>
                <a:latin typeface="Arial"/>
                <a:ea typeface="標楷體"/>
              </a:rPr>
              <a:t>看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，用手遮著眼睛看東西。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、筆劃加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利用學生已經認識的字，加減一個筆劃，形成另一個新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古→舌       找→我      大→天     九→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叉→又       瓜→爪      元→兀     王→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、圖像解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根據象形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寫實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造字來源，繪圖說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→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日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    →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                  →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973080" cy="119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95640" y="4653000"/>
            <a:ext cx="9730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依據指事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抽象的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的造字特點，讓學生由字形即可了解字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上、下：一橫表示桌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卡：夾在桌板中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天：大，是人站立的最極限，在人之上就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天，一橫表示無窮的天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刃：刀口，很銳利，能把東西切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旦：太陽昇上地面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網站：六書—中國文字的構造</a:t>
            </a: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ilc.k12.edu.tw/1002613986/page1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3860640"/>
            <a:ext cx="865080" cy="432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852640"/>
            <a:ext cx="865080" cy="4320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四、部件識字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Arial"/>
              </a:rPr>
              <a:t>就是透過漢字『部件』的結構，進行組織、整合的識字教學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形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單部件（如：山、口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複部件（如：殳、香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意義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成字部件（如：日、月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成字部件（如：疒、冖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拼圖遊戲的方式帶入學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</a:rPr>
              <a:t>字的組合—獨體字、合體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、獨體字：毛、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、合體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下結構：志、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左右結構：都、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中下結構：算、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左中右結構：漸、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半包圍：司、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包圍：圍、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4200" indent="-754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品字結構：品、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部件識字的三級結構程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1413000"/>
          <a:ext cx="8147160" cy="4717800"/>
        </p:xfrm>
        <a:graphic>
          <a:graphicData uri="http://schemas.openxmlformats.org/drawingml/2006/table">
            <a:tbl>
              <a:tblPr/>
              <a:tblGrid>
                <a:gridCol w="1165320"/>
                <a:gridCol w="1162080"/>
                <a:gridCol w="1165320"/>
                <a:gridCol w="1162080"/>
                <a:gridCol w="1164960"/>
                <a:gridCol w="1162080"/>
                <a:gridCol w="1165320"/>
              </a:tblGrid>
              <a:tr h="15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先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田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产   彡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立  日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6633"/>
                          </a:solidFill>
                          <a:latin typeface="標楷體"/>
                          <a:ea typeface="標楷體"/>
                        </a:rPr>
                        <a:t>刀   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再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田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+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力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=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男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产 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+ 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彡 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= 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彥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立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+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日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=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音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刀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+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口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=</a:t>
                      </a:r>
                      <a:r>
                        <a:rPr b="0" lang="zh-TW" sz="32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召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後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+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=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甥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言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+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彥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=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諺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音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+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召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= 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部件練習學習單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圈出有「 亠」的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我的家在台北市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喜歡去文化中心看影片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園裡有很多人牽著手散步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漢字的學習障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字體多元：異體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文鼎古印體"/>
              </a:rPr>
              <a:t>寫</a:t>
            </a: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文鼎古印體"/>
              </a:rPr>
              <a:t>八次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文鼎古印體"/>
              </a:rPr>
              <a:t>、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寫</a:t>
            </a: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八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沉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水、</a:t>
            </a: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沈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衛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生、</a:t>
            </a: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衞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鮮</a:t>
            </a: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豔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、鮮</a:t>
            </a: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圈出有「宀」的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注意交通安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今天你完全做到老師的規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文具用完後，記得要收好，下次才容易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拼拼看　 猜猜我是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木＋木＝               安＋木＝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木＋木＋木＝           木＋支＝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木＋昆＝               木＋弟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我們所學的許多國字，都是由部件所組成的，現在就請你利用減法（－）與加法（＋），看看結果會變成什麼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李 － 子 ＋ 利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 梨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１、客 －各  ＋ 谷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２、管 －官 ＋ 爭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３、鷹 －鳥 ＋ 心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巧手畫部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2960" t="8392" r="12677" b="16260"/>
          <a:stretch/>
        </p:blipFill>
        <p:spPr>
          <a:xfrm>
            <a:off x="3635280" y="189000"/>
            <a:ext cx="45500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五、形象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抓住字的特點，加上適當的想像，用生活化的語詞說明字的結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哭→瞪著兩個眼睛，張大嘴巴，滴下眼淚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球→羽毛球要打過肩膀，所以一點在上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六、追根究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弄清楚字的來源，對學生說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籃球：初創的籃球遊戲並沒有籃板，只有一個竹子編的籃框，用以投球，所以「籃」是竹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班門弄斧：古代有個技巧高明的木工名叫魯班，有個人想在大師面前耍弄斧頭劈木的技巧，真不自量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七、部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部首的意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解說部首的意義及字形的演變，有助於字的認識與記憶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與「疒」字組合的字，都與疾病、依靠有關，「疒」字的意思是指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躺在有腳柱的床上，表示人生病了，是個會意字。諸如：疝、病、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「扌」：用手做的動作，打、拍、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「足」：用腳做的動作，跑、跳、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「人」：與人有關的事，仁、他、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「土」：與土相關的，地、塘、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八、自然聲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些字的發音，與自然的聲音接近，老師可實際操作，共同找出發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丁→拿一根釘子，從上向下丟在鐵桌面上，及發出類似「丁」的聲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拍→拍手的聲音，即類似「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滴→水從高處滴到水盆裡，發出「滴」音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</a:rPr>
              <a:t>寫字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我手寫我口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710160" cy="504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902120" y="1413000"/>
            <a:ext cx="3970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同音不同形義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</a:rPr>
              <a:t>到、道、盜、稻、蹈、悼、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筆順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)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上而下 如：安、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2)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左而右 如：地、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3)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中而旁 如：小、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4)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外而內 如：國、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間架結構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均間原則：橫筆畫之間的距離相等。如：畫、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讓右原則：合體字分左右兩部分，左邊為部首時，要以右邊的部件為主。如：林、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中心原則：將字縱分成兩半，左右對稱。如：幕、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撇捺原則：撇捺要開展，夾角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度。如：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41280" y="457200"/>
          <a:ext cx="838512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57200"/>
                    <a:ext cx="83851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772400" y="52578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學習過程注意事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筆順、筆劃、筆形的說明與練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要求學生養成「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  <a:ea typeface="標楷體"/>
              </a:rPr>
              <a:t>口述筆形、筆順和手寫動作同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的習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網站：台北縣政府教育局，</a:t>
            </a: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自編生字練習簿</a:t>
            </a: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src.tpc.edu.tw/eword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</a:rPr>
              <a:t>識字的創意教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字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ff"/>
                </a:solidFill>
                <a:latin typeface="Arial"/>
                <a:ea typeface="標楷體"/>
              </a:rPr>
              <a:t>找出一個獨體字，結合字的部件形成新字，衍生新的意義，快速擴充識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白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百、的、柏、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350028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50028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256536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8360" y="350028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4437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字族文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把握漢字的特點和規律，引發字義的聯想，編撰音形相近的趣味唸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形聲字為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河水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清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蜻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蜓飛過萬里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寧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夏日午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欲開還閉的眼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睛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透露慵懶的心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情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清是水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+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青，和水有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蜻是虫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+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青，和蟲有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晴是日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+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青，和太陽有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睛是目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+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青，和眼睛有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情是忄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+</a:t>
            </a:r>
            <a:r>
              <a:rPr b="0" lang="zh-TW" sz="2600" spc="-1" strike="noStrike">
                <a:solidFill>
                  <a:srgbClr val="0000ff"/>
                </a:solidFill>
                <a:latin typeface="標楷體"/>
                <a:ea typeface="標楷體"/>
              </a:rPr>
              <a:t>青，和心理有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集中識字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TW" sz="3000" spc="-1" strike="noStrike">
                <a:solidFill>
                  <a:srgbClr val="0000ff"/>
                </a:solidFill>
                <a:latin typeface="Arial"/>
              </a:rPr>
              <a:t>字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中心，建立形音義的統一關聯性，從形聲字、基本字組字、部件組字、形相近字的比較、反義詞去學習一批生字後，再讓這批生字在課文中重複出現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33"/>
                </a:solidFill>
                <a:latin typeface="Garamond"/>
              </a:rPr>
              <a:t>1.</a:t>
            </a:r>
            <a:r>
              <a:rPr b="1" lang="zh-TW" sz="2800" spc="-1" strike="noStrike">
                <a:solidFill>
                  <a:srgbClr val="006633"/>
                </a:solidFill>
                <a:latin typeface="Garamond"/>
              </a:rPr>
              <a:t>確定基本關鍵字</a:t>
            </a:r>
            <a:br>
              <a:rPr sz="2800"/>
            </a:br>
            <a:r>
              <a:rPr b="1" lang="zh-TW" sz="2800" spc="-1" strike="noStrike">
                <a:solidFill>
                  <a:srgbClr val="006633"/>
                </a:solidFill>
                <a:latin typeface="Garamond"/>
              </a:rPr>
              <a:t>2.</a:t>
            </a:r>
            <a:r>
              <a:rPr b="1" lang="zh-TW" sz="2800" spc="-1" strike="noStrike">
                <a:solidFill>
                  <a:srgbClr val="006633"/>
                </a:solidFill>
                <a:latin typeface="Garamond"/>
              </a:rPr>
              <a:t>基本字帶字：由獨體字帶出字族，再發展成詞、短文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50872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0066"/>
                </a:solidFill>
                <a:latin typeface="Arial"/>
              </a:rPr>
              <a:t>爸爸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帶我去陽明山                                      </a:t>
            </a:r>
            <a:r>
              <a:rPr b="0" lang="zh-TW" sz="2600" spc="-1" strike="noStrike">
                <a:solidFill>
                  <a:srgbClr val="ff0066"/>
                </a:solidFill>
                <a:latin typeface="Arial"/>
              </a:rPr>
              <a:t>爬山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我們一路穿越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了好幾個</a:t>
            </a:r>
            <a:r>
              <a:rPr b="0" lang="zh-TW" sz="2600" spc="-1" strike="noStrike">
                <a:solidFill>
                  <a:srgbClr val="ff0066"/>
                </a:solidFill>
                <a:latin typeface="Arial"/>
              </a:rPr>
              <a:t>籬笆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終於 到了</a:t>
            </a:r>
            <a:r>
              <a:rPr b="0" lang="zh-TW" sz="2600" spc="-1" strike="noStrike">
                <a:solidFill>
                  <a:srgbClr val="ff0066"/>
                </a:solidFill>
                <a:latin typeface="Arial"/>
              </a:rPr>
              <a:t>芭樂園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4968720" cy="4608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1557360"/>
            <a:ext cx="4968360" cy="4608000"/>
            <a:chOff x="395280" y="1557360"/>
            <a:chExt cx="4968360" cy="4608000"/>
          </a:xfrm>
        </p:grpSpPr>
        <p:sp>
          <p:nvSpPr>
            <p:cNvPr id="199" name=""/>
            <p:cNvSpPr/>
            <p:nvPr/>
          </p:nvSpPr>
          <p:spPr>
            <a:xfrm>
              <a:off x="1476000" y="2636640"/>
              <a:ext cx="2808000" cy="2520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428640"/>
              <a:ext cx="1009080" cy="936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5280" y="1557360"/>
              <a:ext cx="2016000" cy="18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95280" y="4365360"/>
              <a:ext cx="2016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420720" y="1557360"/>
              <a:ext cx="1942920" cy="18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0720" y="4365360"/>
              <a:ext cx="194292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2628720" y="2781000"/>
              <a:ext cx="4568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新細明體"/>
                </a:rPr>
                <a:t>芭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0000" y="4509720"/>
              <a:ext cx="4568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新細明體"/>
                </a:rPr>
                <a:t>笆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636720" y="3573360"/>
              <a:ext cx="4568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新細明體"/>
                </a:rPr>
                <a:t>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692000" y="3573360"/>
              <a:ext cx="4568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新細明體"/>
                </a:rPr>
                <a:t>爬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4428720" y="3644640"/>
              <a:ext cx="914040" cy="69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新細明體"/>
                </a:rPr>
                <a:t>爸爸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411280" y="5229000"/>
              <a:ext cx="1152000" cy="67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新細明體"/>
                </a:rPr>
                <a:t>籬笆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79280" y="1773000"/>
              <a:ext cx="1728360" cy="64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新細明體"/>
                </a:rPr>
                <a:t>芭樂園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  <a:ea typeface="新細明體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468000" y="3428640"/>
              <a:ext cx="91404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新細明體"/>
                </a:rPr>
                <a:t>爬山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  <a:ea typeface="新細明體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分散識字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字不離詞，詞不離句，句不離文，重視字義教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基本字：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長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0" lang="zh-TW" sz="3200" spc="-1" strike="noStrike">
                <a:solidFill>
                  <a:srgbClr val="9933ff"/>
                </a:solidFill>
                <a:latin typeface="標楷體"/>
                <a:ea typeface="標楷體"/>
              </a:rPr>
              <a:t>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根據不同字詞連結講解字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長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城、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長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大、師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200" spc="-1" strike="noStrike">
                <a:solidFill>
                  <a:srgbClr val="9933ff"/>
                </a:solidFill>
                <a:latin typeface="標楷體"/>
                <a:ea typeface="標楷體"/>
              </a:rPr>
              <a:t>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人、</a:t>
            </a:r>
            <a:r>
              <a:rPr b="0" lang="zh-TW" sz="3200" spc="-1" strike="noStrike">
                <a:solidFill>
                  <a:srgbClr val="9933ff"/>
                </a:solidFill>
                <a:latin typeface="標楷體"/>
                <a:ea typeface="標楷體"/>
              </a:rPr>
              <a:t>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列、</a:t>
            </a:r>
            <a:r>
              <a:rPr b="0" lang="zh-TW" sz="3200" spc="-1" strike="noStrike">
                <a:solidFill>
                  <a:srgbClr val="9933ff"/>
                </a:solidFill>
                <a:latin typeface="標楷體"/>
                <a:ea typeface="標楷體"/>
              </a:rPr>
              <a:t>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破音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我穿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</a:rPr>
              <a:t>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大衣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</a:rPr>
              <a:t>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加晚宴，大家對我的穿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</a:rPr>
              <a:t>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很訝異，誰在夏天能穿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</a:rPr>
              <a:t>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件以上的衣服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識字存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步驟一：利用生字簿，在每一頁上方訂正欄處指定標音符號，一頁以一個符號為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步驟二：每天將所學過的國字（一次約五個），依標音符號填入該頁中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我是識字高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讀招牌、廣告紙、讀短文、閱讀書籍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認識的字圈出來或寫下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TW" sz="3000" spc="-1" strike="noStrike">
                <a:solidFill>
                  <a:srgbClr val="006633"/>
                </a:solidFill>
                <a:latin typeface="Arial"/>
              </a:rPr>
              <a:t>熟字加部首組成的字：先複習以掌握的熟字，加上部首，再根據部首辨析字義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分→芬、由→油、票→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TW" sz="3000" spc="-1" strike="noStrike">
                <a:solidFill>
                  <a:srgbClr val="006633"/>
                </a:solidFill>
                <a:latin typeface="Arial"/>
              </a:rPr>
              <a:t>熟字加構字部件組成的生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今→令、巾→布、用→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TW" sz="3000" spc="-1" strike="noStrike">
                <a:solidFill>
                  <a:srgbClr val="006633"/>
                </a:solidFill>
                <a:latin typeface="Arial"/>
              </a:rPr>
              <a:t>熟字改換部首組成的新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次→吹、孩→該、課→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TW" sz="3000" spc="-1" strike="noStrike">
                <a:solidFill>
                  <a:srgbClr val="006633"/>
                </a:solidFill>
                <a:latin typeface="Arial"/>
              </a:rPr>
              <a:t>由熟字中拆出新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近→斤、村→寸、領→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文字大觀園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剪字畫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剪貼組詞、組短語及組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學生利用家中各類廣告紙、報紙，將所認識的字剪出來後，組成五個語詞、短語或句子，貼在剪貼簿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08000" y="2205000"/>
            <a:ext cx="2857320" cy="952560"/>
            <a:chOff x="1908000" y="2205000"/>
            <a:chExt cx="2857320" cy="952560"/>
          </a:xfrm>
        </p:grpSpPr>
        <p:grpSp>
          <p:nvGrpSpPr>
            <p:cNvPr id="222" name=""/>
            <p:cNvGrpSpPr/>
            <p:nvPr/>
          </p:nvGrpSpPr>
          <p:grpSpPr>
            <a:xfrm>
              <a:off x="1908000" y="2205000"/>
              <a:ext cx="1159200" cy="952560"/>
              <a:chOff x="1908000" y="2205000"/>
              <a:chExt cx="1159200" cy="952560"/>
            </a:xfrm>
          </p:grpSpPr>
          <p:sp>
            <p:nvSpPr>
              <p:cNvPr id="223" name=""/>
              <p:cNvSpPr/>
              <p:nvPr/>
            </p:nvSpPr>
            <p:spPr>
              <a:xfrm>
                <a:off x="2440440" y="2271960"/>
                <a:ext cx="482400" cy="680760"/>
              </a:xfrm>
              <a:custGeom>
                <a:avLst/>
                <a:gdLst/>
                <a:ahLst/>
                <a:rect l="l" t="t" r="r" b="b"/>
                <a:pathLst>
                  <a:path w="1155" h="1490">
                    <a:moveTo>
                      <a:pt x="180" y="693"/>
                    </a:moveTo>
                    <a:cubicBezTo>
                      <a:pt x="180" y="681"/>
                      <a:pt x="85" y="210"/>
                      <a:pt x="255" y="153"/>
                    </a:cubicBezTo>
                    <a:cubicBezTo>
                      <a:pt x="306" y="77"/>
                      <a:pt x="323" y="100"/>
                      <a:pt x="390" y="63"/>
                    </a:cubicBezTo>
                    <a:cubicBezTo>
                      <a:pt x="422" y="45"/>
                      <a:pt x="480" y="3"/>
                      <a:pt x="480" y="3"/>
                    </a:cubicBezTo>
                    <a:cubicBezTo>
                      <a:pt x="560" y="8"/>
                      <a:pt x="642" y="0"/>
                      <a:pt x="720" y="18"/>
                    </a:cubicBezTo>
                    <a:cubicBezTo>
                      <a:pt x="755" y="26"/>
                      <a:pt x="810" y="78"/>
                      <a:pt x="810" y="78"/>
                    </a:cubicBezTo>
                    <a:cubicBezTo>
                      <a:pt x="855" y="145"/>
                      <a:pt x="873" y="196"/>
                      <a:pt x="915" y="258"/>
                    </a:cubicBezTo>
                    <a:cubicBezTo>
                      <a:pt x="935" y="336"/>
                      <a:pt x="949" y="481"/>
                      <a:pt x="900" y="543"/>
                    </a:cubicBezTo>
                    <a:cubicBezTo>
                      <a:pt x="889" y="557"/>
                      <a:pt x="869" y="561"/>
                      <a:pt x="855" y="573"/>
                    </a:cubicBezTo>
                    <a:cubicBezTo>
                      <a:pt x="811" y="610"/>
                      <a:pt x="774" y="639"/>
                      <a:pt x="720" y="663"/>
                    </a:cubicBezTo>
                    <a:cubicBezTo>
                      <a:pt x="691" y="676"/>
                      <a:pt x="630" y="693"/>
                      <a:pt x="630" y="693"/>
                    </a:cubicBezTo>
                    <a:cubicBezTo>
                      <a:pt x="449" y="681"/>
                      <a:pt x="360" y="678"/>
                      <a:pt x="210" y="603"/>
                    </a:cubicBezTo>
                    <a:cubicBezTo>
                      <a:pt x="255" y="648"/>
                      <a:pt x="304" y="690"/>
                      <a:pt x="345" y="738"/>
                    </a:cubicBezTo>
                    <a:cubicBezTo>
                      <a:pt x="357" y="752"/>
                      <a:pt x="318" y="704"/>
                      <a:pt x="300" y="708"/>
                    </a:cubicBezTo>
                    <a:cubicBezTo>
                      <a:pt x="282" y="712"/>
                      <a:pt x="280" y="738"/>
                      <a:pt x="270" y="753"/>
                    </a:cubicBezTo>
                    <a:cubicBezTo>
                      <a:pt x="219" y="824"/>
                      <a:pt x="242" y="802"/>
                      <a:pt x="180" y="843"/>
                    </a:cubicBezTo>
                    <a:cubicBezTo>
                      <a:pt x="160" y="873"/>
                      <a:pt x="131" y="899"/>
                      <a:pt x="120" y="933"/>
                    </a:cubicBezTo>
                    <a:cubicBezTo>
                      <a:pt x="95" y="1008"/>
                      <a:pt x="70" y="1083"/>
                      <a:pt x="45" y="1158"/>
                    </a:cubicBezTo>
                    <a:cubicBezTo>
                      <a:pt x="35" y="1188"/>
                      <a:pt x="25" y="1218"/>
                      <a:pt x="15" y="1248"/>
                    </a:cubicBezTo>
                    <a:cubicBezTo>
                      <a:pt x="10" y="1263"/>
                      <a:pt x="0" y="1293"/>
                      <a:pt x="0" y="1293"/>
                    </a:cubicBezTo>
                    <a:cubicBezTo>
                      <a:pt x="5" y="1313"/>
                      <a:pt x="4" y="1336"/>
                      <a:pt x="15" y="1353"/>
                    </a:cubicBezTo>
                    <a:cubicBezTo>
                      <a:pt x="43" y="1395"/>
                      <a:pt x="165" y="1424"/>
                      <a:pt x="210" y="1428"/>
                    </a:cubicBezTo>
                    <a:cubicBezTo>
                      <a:pt x="435" y="1449"/>
                      <a:pt x="660" y="1468"/>
                      <a:pt x="885" y="1488"/>
                    </a:cubicBezTo>
                    <a:cubicBezTo>
                      <a:pt x="955" y="1483"/>
                      <a:pt x="1027" y="1490"/>
                      <a:pt x="1095" y="1473"/>
                    </a:cubicBezTo>
                    <a:cubicBezTo>
                      <a:pt x="1143" y="1461"/>
                      <a:pt x="1155" y="1338"/>
                      <a:pt x="1155" y="1338"/>
                    </a:cubicBezTo>
                    <a:cubicBezTo>
                      <a:pt x="1136" y="1164"/>
                      <a:pt x="1100" y="1043"/>
                      <a:pt x="975" y="918"/>
                    </a:cubicBezTo>
                    <a:cubicBezTo>
                      <a:pt x="970" y="903"/>
                      <a:pt x="967" y="887"/>
                      <a:pt x="960" y="873"/>
                    </a:cubicBezTo>
                    <a:cubicBezTo>
                      <a:pt x="952" y="857"/>
                      <a:pt x="937" y="844"/>
                      <a:pt x="930" y="828"/>
                    </a:cubicBezTo>
                    <a:cubicBezTo>
                      <a:pt x="917" y="799"/>
                      <a:pt x="910" y="768"/>
                      <a:pt x="900" y="738"/>
                    </a:cubicBezTo>
                    <a:cubicBezTo>
                      <a:pt x="867" y="640"/>
                      <a:pt x="870" y="725"/>
                      <a:pt x="870" y="678"/>
                    </a:cubicBezTo>
                    <a:lnTo>
                      <a:pt x="885" y="5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13720" y="2622960"/>
                <a:ext cx="233280" cy="82080"/>
              </a:xfrm>
              <a:custGeom>
                <a:avLst/>
                <a:gdLst/>
                <a:ahLst/>
                <a:rect l="l" t="t" r="r" b="b"/>
                <a:pathLst>
                  <a:path w="559" h="180">
                    <a:moveTo>
                      <a:pt x="559" y="15"/>
                    </a:moveTo>
                    <a:cubicBezTo>
                      <a:pt x="539" y="10"/>
                      <a:pt x="520" y="0"/>
                      <a:pt x="499" y="0"/>
                    </a:cubicBezTo>
                    <a:cubicBezTo>
                      <a:pt x="280" y="0"/>
                      <a:pt x="215" y="24"/>
                      <a:pt x="49" y="135"/>
                    </a:cubicBezTo>
                    <a:cubicBezTo>
                      <a:pt x="0" y="168"/>
                      <a:pt x="4" y="147"/>
                      <a:pt x="4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79280" y="2609280"/>
                <a:ext cx="187920" cy="33840"/>
              </a:xfrm>
              <a:custGeom>
                <a:avLst/>
                <a:gdLst/>
                <a:ahLst/>
                <a:rect l="l" t="t" r="r" b="b"/>
                <a:pathLst>
                  <a:path w="450" h="75">
                    <a:moveTo>
                      <a:pt x="0" y="75"/>
                    </a:moveTo>
                    <a:cubicBezTo>
                      <a:pt x="400" y="59"/>
                      <a:pt x="250" y="60"/>
                      <a:pt x="450" y="60"/>
                    </a:cubicBezTo>
                    <a:lnTo>
                      <a:pt x="37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90480" y="2965680"/>
                <a:ext cx="100080" cy="191880"/>
              </a:xfrm>
              <a:custGeom>
                <a:avLst/>
                <a:gdLst/>
                <a:ahLst/>
                <a:rect l="l" t="t" r="r" b="b"/>
                <a:pathLst>
                  <a:path w="240" h="420">
                    <a:moveTo>
                      <a:pt x="240" y="0"/>
                    </a:moveTo>
                    <a:cubicBezTo>
                      <a:pt x="220" y="30"/>
                      <a:pt x="191" y="56"/>
                      <a:pt x="180" y="90"/>
                    </a:cubicBezTo>
                    <a:cubicBezTo>
                      <a:pt x="175" y="105"/>
                      <a:pt x="173" y="121"/>
                      <a:pt x="165" y="135"/>
                    </a:cubicBezTo>
                    <a:cubicBezTo>
                      <a:pt x="147" y="167"/>
                      <a:pt x="116" y="191"/>
                      <a:pt x="105" y="225"/>
                    </a:cubicBezTo>
                    <a:cubicBezTo>
                      <a:pt x="79" y="302"/>
                      <a:pt x="59" y="361"/>
                      <a:pt x="0" y="4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78840" y="2986200"/>
                <a:ext cx="93960" cy="150480"/>
              </a:xfrm>
              <a:custGeom>
                <a:avLst/>
                <a:gdLst/>
                <a:ahLst/>
                <a:rect l="l" t="t" r="r" b="b"/>
                <a:pathLst>
                  <a:path w="225" h="330">
                    <a:moveTo>
                      <a:pt x="0" y="0"/>
                    </a:moveTo>
                    <a:cubicBezTo>
                      <a:pt x="44" y="66"/>
                      <a:pt x="124" y="117"/>
                      <a:pt x="150" y="195"/>
                    </a:cubicBezTo>
                    <a:cubicBezTo>
                      <a:pt x="155" y="210"/>
                      <a:pt x="157" y="226"/>
                      <a:pt x="165" y="240"/>
                    </a:cubicBezTo>
                    <a:cubicBezTo>
                      <a:pt x="183" y="272"/>
                      <a:pt x="225" y="330"/>
                      <a:pt x="225" y="3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34920" y="2444760"/>
                <a:ext cx="29520" cy="3132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0" y="22"/>
                    </a:moveTo>
                    <a:cubicBezTo>
                      <a:pt x="15" y="17"/>
                      <a:pt x="31" y="0"/>
                      <a:pt x="45" y="7"/>
                    </a:cubicBezTo>
                    <a:cubicBezTo>
                      <a:pt x="59" y="14"/>
                      <a:pt x="71" y="41"/>
                      <a:pt x="60" y="52"/>
                    </a:cubicBezTo>
                    <a:cubicBezTo>
                      <a:pt x="43" y="69"/>
                      <a:pt x="11" y="33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34920" y="2444760"/>
                <a:ext cx="29520" cy="3132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0" y="22"/>
                    </a:moveTo>
                    <a:cubicBezTo>
                      <a:pt x="15" y="17"/>
                      <a:pt x="31" y="0"/>
                      <a:pt x="45" y="7"/>
                    </a:cubicBezTo>
                    <a:cubicBezTo>
                      <a:pt x="59" y="14"/>
                      <a:pt x="71" y="41"/>
                      <a:pt x="60" y="52"/>
                    </a:cubicBezTo>
                    <a:cubicBezTo>
                      <a:pt x="43" y="69"/>
                      <a:pt x="11" y="33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84800" y="2444760"/>
                <a:ext cx="29520" cy="3132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0" y="22"/>
                    </a:moveTo>
                    <a:cubicBezTo>
                      <a:pt x="15" y="17"/>
                      <a:pt x="31" y="0"/>
                      <a:pt x="45" y="7"/>
                    </a:cubicBezTo>
                    <a:cubicBezTo>
                      <a:pt x="59" y="14"/>
                      <a:pt x="71" y="41"/>
                      <a:pt x="60" y="52"/>
                    </a:cubicBezTo>
                    <a:cubicBezTo>
                      <a:pt x="43" y="69"/>
                      <a:pt x="11" y="33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22240" y="2520360"/>
                <a:ext cx="87480" cy="36360"/>
              </a:xfrm>
              <a:custGeom>
                <a:avLst/>
                <a:gdLst/>
                <a:ahLst/>
                <a:rect l="l" t="t" r="r" b="b"/>
                <a:pathLst>
                  <a:path w="210" h="80">
                    <a:moveTo>
                      <a:pt x="0" y="0"/>
                    </a:moveTo>
                    <a:cubicBezTo>
                      <a:pt x="27" y="80"/>
                      <a:pt x="64" y="61"/>
                      <a:pt x="150" y="75"/>
                    </a:cubicBezTo>
                    <a:cubicBezTo>
                      <a:pt x="202" y="58"/>
                      <a:pt x="184" y="71"/>
                      <a:pt x="210" y="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55920" y="2205000"/>
                <a:ext cx="438840" cy="273960"/>
              </a:xfrm>
              <a:custGeom>
                <a:avLst/>
                <a:gdLst/>
                <a:ahLst/>
                <a:rect l="l" t="t" r="r" b="b"/>
                <a:pathLst>
                  <a:path w="1051" h="600">
                    <a:moveTo>
                      <a:pt x="98" y="600"/>
                    </a:moveTo>
                    <a:cubicBezTo>
                      <a:pt x="23" y="575"/>
                      <a:pt x="58" y="600"/>
                      <a:pt x="23" y="495"/>
                    </a:cubicBezTo>
                    <a:cubicBezTo>
                      <a:pt x="18" y="480"/>
                      <a:pt x="8" y="450"/>
                      <a:pt x="8" y="450"/>
                    </a:cubicBezTo>
                    <a:cubicBezTo>
                      <a:pt x="21" y="346"/>
                      <a:pt x="0" y="303"/>
                      <a:pt x="98" y="270"/>
                    </a:cubicBezTo>
                    <a:cubicBezTo>
                      <a:pt x="103" y="240"/>
                      <a:pt x="107" y="210"/>
                      <a:pt x="113" y="180"/>
                    </a:cubicBezTo>
                    <a:cubicBezTo>
                      <a:pt x="117" y="160"/>
                      <a:pt x="112" y="133"/>
                      <a:pt x="128" y="120"/>
                    </a:cubicBezTo>
                    <a:cubicBezTo>
                      <a:pt x="152" y="99"/>
                      <a:pt x="188" y="100"/>
                      <a:pt x="218" y="90"/>
                    </a:cubicBezTo>
                    <a:cubicBezTo>
                      <a:pt x="233" y="85"/>
                      <a:pt x="263" y="75"/>
                      <a:pt x="263" y="75"/>
                    </a:cubicBezTo>
                    <a:cubicBezTo>
                      <a:pt x="342" y="101"/>
                      <a:pt x="295" y="99"/>
                      <a:pt x="398" y="30"/>
                    </a:cubicBezTo>
                    <a:cubicBezTo>
                      <a:pt x="413" y="20"/>
                      <a:pt x="443" y="0"/>
                      <a:pt x="443" y="0"/>
                    </a:cubicBezTo>
                    <a:cubicBezTo>
                      <a:pt x="483" y="5"/>
                      <a:pt x="526" y="0"/>
                      <a:pt x="563" y="15"/>
                    </a:cubicBezTo>
                    <a:cubicBezTo>
                      <a:pt x="580" y="22"/>
                      <a:pt x="580" y="47"/>
                      <a:pt x="593" y="60"/>
                    </a:cubicBezTo>
                    <a:cubicBezTo>
                      <a:pt x="606" y="73"/>
                      <a:pt x="623" y="80"/>
                      <a:pt x="638" y="90"/>
                    </a:cubicBezTo>
                    <a:cubicBezTo>
                      <a:pt x="752" y="52"/>
                      <a:pt x="697" y="54"/>
                      <a:pt x="803" y="75"/>
                    </a:cubicBezTo>
                    <a:cubicBezTo>
                      <a:pt x="813" y="105"/>
                      <a:pt x="807" y="147"/>
                      <a:pt x="833" y="165"/>
                    </a:cubicBezTo>
                    <a:cubicBezTo>
                      <a:pt x="881" y="197"/>
                      <a:pt x="928" y="222"/>
                      <a:pt x="983" y="240"/>
                    </a:cubicBezTo>
                    <a:cubicBezTo>
                      <a:pt x="978" y="270"/>
                      <a:pt x="983" y="304"/>
                      <a:pt x="968" y="330"/>
                    </a:cubicBezTo>
                    <a:cubicBezTo>
                      <a:pt x="960" y="344"/>
                      <a:pt x="923" y="329"/>
                      <a:pt x="923" y="345"/>
                    </a:cubicBezTo>
                    <a:cubicBezTo>
                      <a:pt x="923" y="364"/>
                      <a:pt x="999" y="411"/>
                      <a:pt x="1013" y="420"/>
                    </a:cubicBezTo>
                    <a:cubicBezTo>
                      <a:pt x="1027" y="462"/>
                      <a:pt x="1051" y="511"/>
                      <a:pt x="1013" y="555"/>
                    </a:cubicBezTo>
                    <a:cubicBezTo>
                      <a:pt x="992" y="579"/>
                      <a:pt x="954" y="577"/>
                      <a:pt x="923" y="585"/>
                    </a:cubicBezTo>
                    <a:cubicBezTo>
                      <a:pt x="903" y="590"/>
                      <a:pt x="863" y="600"/>
                      <a:pt x="863" y="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08000" y="2362320"/>
                <a:ext cx="375840" cy="49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712680" y="2287080"/>
              <a:ext cx="1052640" cy="657720"/>
              <a:chOff x="3712680" y="2287080"/>
              <a:chExt cx="1052640" cy="657720"/>
            </a:xfrm>
          </p:grpSpPr>
          <p:sp>
            <p:nvSpPr>
              <p:cNvPr id="235" name=""/>
              <p:cNvSpPr/>
              <p:nvPr/>
            </p:nvSpPr>
            <p:spPr>
              <a:xfrm>
                <a:off x="3712680" y="2450160"/>
                <a:ext cx="375840" cy="41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8520" y="2287080"/>
                <a:ext cx="676800" cy="657720"/>
              </a:xfrm>
              <a:prstGeom prst="su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有趣的部首—</a:t>
            </a:r>
            <a:r>
              <a:rPr b="0" lang="zh-TW" sz="2000" spc="-1" strike="noStrike">
                <a:solidFill>
                  <a:srgbClr val="006633"/>
                </a:solidFill>
                <a:latin typeface="Garamond"/>
              </a:rPr>
              <a:t>運用偏旁部首、結構部件記憶字形 </a:t>
            </a:r>
            <a:br>
              <a:rPr sz="38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用彩色筆標出國字的關鍵筆畫、部首和結構部分，引起學生注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「手」                      「火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「木」                      「口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「日」                      「水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1441440" cy="888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724360" y="2205000"/>
            <a:ext cx="1263960" cy="136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136980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724360" y="3933720"/>
            <a:ext cx="1441440" cy="819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2195640" y="5300640"/>
            <a:ext cx="1439640" cy="1297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580000" y="515772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</a:rPr>
              <a:t>字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隻狗，兩副口          →    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月月不分離，好比親兄弟  →    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個國王今天在一起彈琴  →    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會走路的小月亮→  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東邊的耳朵→  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6633"/>
                </a:solidFill>
                <a:latin typeface="Garamond"/>
              </a:rPr>
              <a:t>口訣法</a:t>
            </a:r>
            <a:r>
              <a:rPr b="0" lang="zh-TW" sz="2400" spc="-1" strike="noStrike">
                <a:solidFill>
                  <a:srgbClr val="ff0066"/>
                </a:solidFill>
                <a:latin typeface="Garamond"/>
              </a:rPr>
              <a:t>根據字型特點和學生年齡特徵，編寫口訣，讓學生朗讀，加強識字效果。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喝和渴：喝水張開大口嘴，渴了請飲三點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馳和弛：鬆弛的弓難射箭，奔馳的馬過草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和天：一人挑起真偉大，二人撐起一片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拼字識字</a:t>
            </a:r>
            <a:r>
              <a:rPr b="0" lang="zh-TW" sz="2800" spc="-1" strike="noStrike">
                <a:solidFill>
                  <a:srgbClr val="ff0066"/>
                </a:solidFill>
                <a:latin typeface="Garamond"/>
              </a:rPr>
              <a:t>利用獨體字，組裝成複雜的合體字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女 ＋ 少 → 妙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女 ＋ 子 → 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艸＋早→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言＋兌→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土＋增→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扌＋安→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加加減減</a:t>
            </a:r>
            <a:r>
              <a:rPr b="0" lang="zh-TW" sz="2800" spc="-1" strike="noStrike">
                <a:solidFill>
                  <a:srgbClr val="ff0066"/>
                </a:solidFill>
                <a:latin typeface="Garamond"/>
              </a:rPr>
              <a:t>利用熟字，筆畫加減，引出生字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空 － 穴 → 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誌— 言→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群—羊→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人—大→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文字疊羅漢</a:t>
            </a:r>
            <a:r>
              <a:rPr b="0" lang="zh-TW" sz="2800" spc="-1" strike="noStrike">
                <a:solidFill>
                  <a:srgbClr val="ff0066"/>
                </a:solidFill>
                <a:latin typeface="Garamond"/>
              </a:rPr>
              <a:t>組合相同的獨體字，形成新字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品—物類的總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卉—草的總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垚—把土堆高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森—許多樹木的地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毳—同脆，鳥獸的細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蟲—昆蟲的總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鑫—很多黃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外來語</a:t>
            </a:r>
            <a:r>
              <a:rPr b="0" lang="zh-TW" sz="2400" spc="-1" strike="noStrike">
                <a:solidFill>
                  <a:srgbClr val="ff0066"/>
                </a:solidFill>
                <a:latin typeface="Garamond"/>
              </a:rPr>
              <a:t>音譯方式直接轉為詞，學生很容易記憶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杯葛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oyco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保齡球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ow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拷貝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基因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沙拉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巧克力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休克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沙發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sof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771280" y="159984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字型類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烏→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大→太→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互、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書→晝→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一字多義 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分散識字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吃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靠山吃山，靠海吃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船身吃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吃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吃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一詞多義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分上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七上八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天下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乾坤大挪移</a:t>
            </a:r>
            <a:r>
              <a:rPr b="0" lang="zh-TW" sz="2400" spc="-1" strike="noStrike">
                <a:solidFill>
                  <a:srgbClr val="ff0066"/>
                </a:solidFill>
                <a:latin typeface="Garamond"/>
              </a:rPr>
              <a:t>把部件換個位置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意思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鄰→隣，裡→裏，群→羣，峰→峯，飆→飈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夠→够，礱→礲，略→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意思改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杳→杲，呆→杏，褓→褒，邑→吧，忙→忘，悲→悱，紋→紊，昱→音，陪→部，邸→阺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教學小偏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於較為複雜的左右邊字，可以將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左右兩邊拆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分別教，當這兩種字合在一起時，再讓學生瞭解代表什麼意思。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例：較→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交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書寫時可將作業本上先描上一些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虛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讓他照著寫，虛線逐漸變淡然後再留一些空格讓他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練習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有助區辨字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告訴孩子基本的幾種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字形 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部件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老師也應就每一種部件多舉幾個例子來說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寫幾個不同的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對有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讓孩子從中選擇正確的字形，答對時給予獎勵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外在的獎品或是口頭的稱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成就感可提高學習意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正確的字寫在字卡上，讓孩子先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秒，再請孩子拿剪刀將字的分部，或上下或左右剪開，最後再讓孩子按照先前的印象將字重新組合起來，黏貼在另一張全新的白紙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老師可試著藉由想像和解釋每一個字從字形上可以直接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瞭解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字義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或故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這樣可以幫助孩子做記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電腦輔助教學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軟體，例如造字、變形、放大、縮小，使孩子能經由手部操作集中注意力學習每個字的部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先將容易顛倒的字選出，然後作成小紙卡，將容易顛倒的部份剪下，以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拼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方式加強辨認能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要求學生熟悉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字的筆劃順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熟練筆畫口訣：「由左而右，先上後下，先橫後豎，由外而內，先撇後捺，先中間再旁邊。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教他認識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字的部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因為部首有位置的特性，熟悉部首，可以幫助區分字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容易出錯或顛倒的部份以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不同顏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筆描出，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突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各區域的位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採用卡片教學或教師上課時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放大字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將每個字主要部分拆解，重新組合，並讓學生重複步驟練習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十三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若在書面上的字形難以區分時，則可以藉由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錄音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方式，將字的意義解釋和部件組合口語錄音記錄下來，提供學生經由聽覺來學習，或是回家複習時使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六書介紹字彙，分析其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組成之意義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如「歪」就是不正的意思，可幫助記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形義相近、用法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計畫、計劃：他計劃去美國讀書，大家都認同這個計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學生容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易混淆的字型整理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出來，如「部」與「陪」，並讓學生造詞、造句，加深學生印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形狀的概念是由視覺建立的，可用一個空白的平版，請孩子用一個正確的形狀嵌入之，以加強其對形狀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該字以句子方式呈現在黑板上或紙卡上，該字可以不同顏色、放大或畫線的方式來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加強視覺效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八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該單字拆成好幾個部份，製成卡片，要學生練習用這些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卡片組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成有意義的字或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十九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找出容易出現顛倒的字，讓學生仔細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比較差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幫助視覺區辨記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讓孩子在電腦上，經由相關電腦軟體，自己動手去將一個字的每個部件寫出並組合，經由手部的  操作，也有助於學習記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廿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盡量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使用口訣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讓學生更清楚字的結構。口訣盡量採用固定的由上而下或由下而上（如王先生白小姐，坐在石頭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或由左而右，由右而左（如『破』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頭碰到皮膚就破皮了）的形容方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3b812f"/>
                </a:solidFill>
                <a:latin typeface="文鼎粗隸"/>
                <a:ea typeface="文鼎粗隸"/>
              </a:rPr>
              <a:t>識字與寫字的關係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</a:t>
            </a:r>
            <a:r>
              <a:rPr b="1" lang="zh-TW" sz="4300" spc="-1" strike="noStrike" u="sng">
                <a:solidFill>
                  <a:srgbClr val="800080"/>
                </a:solidFill>
                <a:uFillTx/>
                <a:latin typeface="文鼎古印體"/>
                <a:ea typeface="文鼎古印體"/>
              </a:rPr>
              <a:t>識 字 要 領</a:t>
            </a:r>
            <a:r>
              <a:rPr b="1" lang="zh-TW" sz="4300" spc="-1" strike="noStrike">
                <a:solidFill>
                  <a:srgbClr val="800080"/>
                </a:solidFill>
                <a:latin typeface="文鼎古印體"/>
                <a:ea typeface="文鼎古印體"/>
              </a:rPr>
              <a:t>      </a:t>
            </a:r>
            <a:r>
              <a:rPr b="1" lang="zh-TW" sz="4300" spc="-1" strike="noStrike" u="sng">
                <a:solidFill>
                  <a:srgbClr val="990000"/>
                </a:solidFill>
                <a:uFillTx/>
                <a:latin typeface="文鼎古印體"/>
                <a:ea typeface="文鼎古印體"/>
              </a:rPr>
              <a:t>寫字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800080"/>
                </a:solidFill>
                <a:latin typeface="標楷體"/>
                <a:ea typeface="標楷體"/>
              </a:rPr>
              <a:t> </a:t>
            </a:r>
            <a:r>
              <a:rPr b="1" lang="zh-TW" sz="3900" spc="-1" strike="noStrike">
                <a:solidFill>
                  <a:srgbClr val="800080"/>
                </a:solidFill>
                <a:latin typeface="標楷體"/>
                <a:ea typeface="標楷體"/>
              </a:rPr>
              <a:t>明瞭基本筆畫名稱     </a:t>
            </a:r>
            <a:r>
              <a:rPr b="1" lang="zh-TW" sz="3900" spc="-1" strike="noStrike">
                <a:solidFill>
                  <a:srgbClr val="990000"/>
                </a:solidFill>
                <a:latin typeface="標楷體"/>
                <a:ea typeface="標楷體"/>
              </a:rPr>
              <a:t>正   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800080"/>
                </a:solidFill>
                <a:latin typeface="標楷體"/>
                <a:ea typeface="標楷體"/>
              </a:rPr>
              <a:t> </a:t>
            </a:r>
            <a:r>
              <a:rPr b="1" lang="zh-TW" sz="3900" spc="-1" strike="noStrike">
                <a:solidFill>
                  <a:srgbClr val="800080"/>
                </a:solidFill>
                <a:latin typeface="標楷體"/>
                <a:ea typeface="標楷體"/>
              </a:rPr>
              <a:t>熟悉筆順書寫原則     </a:t>
            </a:r>
            <a:r>
              <a:rPr b="1" lang="zh-TW" sz="3900" spc="-1" strike="noStrike">
                <a:solidFill>
                  <a:srgbClr val="990000"/>
                </a:solidFill>
                <a:latin typeface="標楷體"/>
                <a:ea typeface="標楷體"/>
              </a:rPr>
              <a:t>迅   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800080"/>
                </a:solidFill>
                <a:latin typeface="標楷體"/>
                <a:ea typeface="標楷體"/>
              </a:rPr>
              <a:t>掌握筆形變化與結構    </a:t>
            </a:r>
            <a:r>
              <a:rPr b="1" lang="zh-TW" sz="3900" spc="-1" strike="noStrike">
                <a:solidFill>
                  <a:srgbClr val="990000"/>
                </a:solidFill>
                <a:latin typeface="標楷體"/>
                <a:ea typeface="標楷體"/>
              </a:rPr>
              <a:t>美   觀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43800" y="6858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3b812f"/>
                </a:solidFill>
                <a:latin typeface="文鼎粗隸"/>
                <a:ea typeface="文鼎粗隸"/>
              </a:rPr>
              <a:t>識字要素與方法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057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〈寫得美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〈讀得準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〈用得巧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133720"/>
            <a:ext cx="1524240" cy="838080"/>
          </a:xfrm>
          <a:prstGeom prst="rect">
            <a:avLst/>
          </a:prstGeom>
          <a:solidFill>
            <a:srgbClr val="800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文鼎粗隸"/>
              </a:rPr>
              <a:t>獨體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114800"/>
            <a:ext cx="1524240" cy="838080"/>
          </a:xfrm>
          <a:prstGeom prst="rect">
            <a:avLst/>
          </a:prstGeom>
          <a:solidFill>
            <a:srgbClr val="800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文鼎粗隸"/>
              </a:rPr>
              <a:t>合體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1600200"/>
            <a:ext cx="974520" cy="974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2209680"/>
            <a:ext cx="969840" cy="24019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200400"/>
            <a:ext cx="1043280" cy="13986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67280" y="4647960"/>
            <a:ext cx="897120" cy="1458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67280" y="2666880"/>
            <a:ext cx="893880" cy="14320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523880"/>
            <a:ext cx="1067040" cy="762120"/>
          </a:xfrm>
          <a:custGeom>
            <a:avLst/>
            <a:gdLst>
              <a:gd name="textAreaLeft" fmla="*/ 681840 w 1067040"/>
              <a:gd name="textAreaRight" fmla="*/ 1067400 w 1067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527"/>
                </a:lnTo>
                <a:cubicBezTo>
                  <a:pt x="10800" y="7527"/>
                  <a:pt x="5400" y="7527"/>
                  <a:pt x="0" y="7527"/>
                </a:cubicBezTo>
                <a:cubicBezTo>
                  <a:pt x="5400" y="7527"/>
                  <a:pt x="10800" y="7527"/>
                  <a:pt x="10800" y="752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200400"/>
            <a:ext cx="9144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114800"/>
            <a:ext cx="1067040" cy="1447920"/>
          </a:xfrm>
          <a:custGeom>
            <a:avLst/>
            <a:gdLst>
              <a:gd name="textAreaLeft" fmla="*/ 681840 w 1067040"/>
              <a:gd name="textAreaRight" fmla="*/ 106740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5400"/>
                </a:lnTo>
                <a:cubicBezTo>
                  <a:pt x="10800" y="5400"/>
                  <a:pt x="5400" y="5400"/>
                  <a:pt x="0" y="5400"/>
                </a:cubicBezTo>
                <a:cubicBezTo>
                  <a:pt x="5400" y="5400"/>
                  <a:pt x="10800" y="5400"/>
                  <a:pt x="10800" y="54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129528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文鼎古印體"/>
              </a:rPr>
              <a:t>觀察文字外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文鼎古印體"/>
              </a:rPr>
              <a:t>分析部件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81952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文鼎古印體"/>
              </a:rPr>
              <a:t>掌握偏旁與文字的關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886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文鼎古印體"/>
              </a:rPr>
              <a:t>運用圖像直觀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文鼎古印體"/>
              </a:rPr>
              <a:t>掌握部首的意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文鼎古印體"/>
              </a:rPr>
              <a:t>查閱字辭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38080" y="5335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90720" y="5943600"/>
            <a:ext cx="1676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文字內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5943600"/>
            <a:ext cx="236232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 學 方 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676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文字類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315200" y="609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3049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b812f"/>
                </a:solidFill>
                <a:latin typeface="文鼎粗隸"/>
                <a:ea typeface="文鼎粗隸"/>
              </a:rPr>
              <a:t>識字的四項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1600" y="1143000"/>
            <a:ext cx="106668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143000"/>
            <a:ext cx="106668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1143000"/>
            <a:ext cx="106668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143000"/>
            <a:ext cx="106704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3526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492280"/>
            <a:ext cx="749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幼兒已發展出會認、會講的本事，因此小學開始要發展的識字能力英在此基礎上，提昇至「寫」與「用」的層面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識字能力的發展：由「認識」而「辨識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620120" y="609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4:23:21Z</dcterms:created>
  <dc:creator>趙家誌</dc:creator>
  <dc:description/>
  <dc:language>en-US</dc:language>
  <cp:lastModifiedBy>Colling</cp:lastModifiedBy>
  <dcterms:modified xsi:type="dcterms:W3CDTF">2008-07-06T12:16:04Z</dcterms:modified>
  <cp:revision>39</cp:revision>
  <dc:subject/>
  <dc:title>投影片 1</dc:title>
</cp:coreProperties>
</file>