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97E-FAD8-46E1-9561-39F95A2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B1B-7B6B-4117-AE1C-901D7794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479-917A-4610-9271-4E7925C1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891-ABD2-474F-8F4B-355C20A3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071-CC3F-4F28-812B-DB02DF4E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F07A-2937-456F-8940-A877C5A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F836-5EEC-47B6-BDF4-75C7E9E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CEE2-25E4-4729-BC57-63FC5AA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C2E5-3DB0-4681-A3A4-2D7CAB5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FF49-8D98-48BA-92A5-58A88D19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23C-4BFE-43A6-8603-07D35E9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4B6-A2A2-4AD5-A1D9-55E88A6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4FF-047F-482B-A458-7193D96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9FE8-3E58-4817-8DB4-D1DCB2D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3677-45B2-4801-ABE4-9A73BC76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669-207F-400E-8A24-2A6F4528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173E-5BD7-4DA5-8E93-05B7260A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6F2-452C-42B7-943E-AB4BD5D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9A4-3E2A-46AE-A563-4D495C9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F57-E3C8-4651-AA92-CE5C350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B61-9FA4-4C70-B8AC-E20CC22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A50-11B1-4308-8438-0A409FD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821-FABE-48D5-AF97-C7EAAA4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A1E-90F6-4B42-83C7-33DA7EB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9CC-4871-4D6D-A875-93582953ADD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F29-E676-461C-9430-8305B093887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076720" cy="36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快樂童謠教學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趙家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95280" y="-360"/>
            <a:ext cx="6570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視譜音名故事圖像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Do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懶惰的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Re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小草蕊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Mi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花貓咪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Fa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最有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Sol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手抱媽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La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愛哭的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Ti---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壞蛋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1218960"/>
            <a:ext cx="8012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高音譜記號：小鳥媽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低音譜記號：蝸牛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唱名熟練法：利用高大宜手勢或直笛，做有趣的音樂教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304560"/>
            <a:ext cx="618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二、世界各國兒童遊戲舞</a:t>
            </a: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523520"/>
            <a:ext cx="7867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莫札特魔笛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夜后與捕鳥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播放魔笛音樂，聽到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6712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則轉一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聖桑動物狂歡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(14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任選喜歡的片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獅子大王出巡、公雞母雞、驢子、烏龜、大象、天鵝、袋鼠……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815472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西班牙「鬥牛舞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年ㄧ度西班牙鬥牛展開了，小朋友最喜歡的鬥牛舞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拍拍、踏踏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95640" y="620640"/>
            <a:ext cx="664344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4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印尼蟑螂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阿布拉布新賓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阿布拉布新賓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阿布拉布新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阿布拉布新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柯多摸柔阿布拉布新賓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5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兒童「猜拳舞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「輸了就要跟我走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好朋友我們行個禮，握握手呀，來猜拳，石碰帕呀看誰贏，輸了就要跟我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640" y="304560"/>
            <a:ext cx="618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三、唐詩唱遊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0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優美動人的唐詩，是中華文化的精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華文教學加入唐詩生動詩句，配上歌曲唱遊動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讓兒童學習到詩句之美，還能藉由詩句朗唱，熟悉學習華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0" y="620640"/>
            <a:ext cx="50292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春曉          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春眠不覺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處處聞啼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夜來風雨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花落知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68360" y="1268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登鸛雀樓      王之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白日依山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黃河入海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欲窮千里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更上一層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920" y="1295280"/>
            <a:ext cx="7345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遊子吟       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慈母手中線，遊子身上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臨行密密縫，意恐遲遲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誰言寸草心，報得三春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童謠教學基本概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、正確發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母音發音練習，童聲、美聲發音練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ㄚ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a)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ㄝ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e)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ㄧ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i)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ㄛ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o)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ㄨ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節奏教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拍子、基本節奏、強弱拍子、配樂器練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音準練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音階、音準，升降半音練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1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四、唱遊音樂遊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914040"/>
            <a:ext cx="8078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「遊戲」在兒童的成長過程中佔有重要的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在輕鬆的氣氛中，兒童能輕易融入遊戲情境，培養其專注力和自發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兒童能在音樂遊戲中感受音樂的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幫助學生豐富表達能力，並藉由唱遊熟悉華語，快樂學華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2348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鏡子遊戲－小朋友面對鏡子，依據老師的要求，做出各種表情、動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凌波舞－兩人抓著一根棍子，讓學生隨著音樂，仰身穿過，加強平衡與柔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長大了－把肢體拉到最大，誇張肢體表演藝術活動，可以兩人一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縮小了－將全身縮到最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唱遊－起床後一天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685440"/>
            <a:ext cx="64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五、唱唱跳跳動手做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唱遊結合簡易美勞，可以增加學生空間感及手眼協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簡單的故事和想像，可以增加唱遊樂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560" y="1557000"/>
            <a:ext cx="694836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－小小螢火蟲（折扇創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－小蜜蜂（頭套設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－三輪車（圈條設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Ｄ－風兒吹過來（風車設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425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輪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輪車， 跑得快， 上面坐個老太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要五毛， 給一塊， 你說奇怪不奇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0920" y="18288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螢火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小小螢火蟲，飛到西，飛到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這邊亮，那邊亮，好像許多小燈籠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828800"/>
            <a:ext cx="8367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風兒吹過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風兒吹過來 ，風兒吹過來 ， 在這裡呀！ 在那裡呀！ 風兒吹過來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閩南童謠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放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放雞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ītbàngg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二放鴨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rībàngā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三分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sanbūnku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四相貼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sisīorti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五搭胸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ghōdàh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六拍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lākpàcìu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七紡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cīt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panse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八摸鼻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bēhbhōngpī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九咬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gàugahī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十拾起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zapkìorkì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十一座金交椅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zapīt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ze ginp gau i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一的炒米芳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的炒米芳，二的炒韭菜，三的沖沖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四的炒米粉，五的五將軍，六的好子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七的蚵仔煮麵線，八的甲伊分一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九的九嬸婆，十的撞大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打你千，打你萬，打你一千過五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天黑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天黑黑，欲落雨，阿公仔拿鋤頭，要掘芋，掘著一尾旋鰡鼓，阿公仔欲煮鹹，阿媽欲煮淡，兩個相打撞破鼎，撞破鼎，咿呀嘿都真正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唱唸歌詞：依照節奏朗誦歌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歌曲教學：跟唱、分組唱、齊唱、重唱、獨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動作編配：共同依照歌詞意義設計舞蹈動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欣賞教學：聆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D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演唱、同學演唱，學習欣賞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白鷺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白鷺鷥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eh ling si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車畚箕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īa bùn gi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車到港仔乾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īa gàu kē a gǐn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跋一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ua zit dòr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拾到兩仙錢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kìo dior nng sian cǐn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 錢    買  大餅  送  大 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zit sian bhe bìan sàng duaǐ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錢留起來好過年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Zit sian lau kilāi ho gùen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西北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西北雨，直直落，鯽仔魚，欲娶某，鮕代兄，打鑼鼓，媒人婆仔，土虱   嫂，日頭暗，尋無路，趕緊來，火金姑，做好心，來照路，西北雨，直直落，西北雨，直直落，白鷺鷺，來趕路，翻山嶺，過溪河，找無巢， 跌一倒，日頭暗，欲怎好，土地公，土地婆，做好心，來帶路，西北雨，直直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西北雨，直直落，鯽仔魚，欲娶某，鮕代兄，打鑼鼓，媒人婆仔，土虱嫂，日頭暗，尋無路，趕緊來，火金姑，做好心，來照路，西北雨，直直落，西北雨，直直落，白鷺鷺，來趕路，翻山嶺，過溪河，找無巢，跌一倒，日頭暗，欲怎好，土地公，土地婆，做好心，來帶路，西北雨，直直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點仔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點仔膠，黏著腳，叫阿爸，買豬腳，豬腳圈，滾爛爛，餓鬼子仔流嘴涎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搖籃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嬰仔嬰嬰睏，一眠大一寸，嬰仔嬰嬰惜，一眠大一尺，搖兒日落山，抱子金金看，子是阮心肝，驚你受風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羞羞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羞羞羞，打官籃仔拾魚鰡，一尾食，一尾糊目睭，唱：羞羞羞羞羞，打官籃仔拾魚鰡。隴總拾若濟？唉約！隴總拾二尾，一尾煮來食，一尾糊目睭，羞羞羞羞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雨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雨夜花，雨夜花，受風雨吹落地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無人看地你的惋切，花謝落土不在回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花落土，花落土，有誰可看顧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無情風雨，誤我前途，花蕊落土要如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草螟弄雞公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雞公想欲伊都啄草螟，認為小隻伊都好創治，草螟偏偏伊都毋驚伊，戲弄乎伊伊都氣半死，啊伊都那噯唷啊伊都氣半死，草螟仔弄雞公，雞公披搏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0000"/>
                </a:solidFill>
                <a:latin typeface="Arial"/>
                <a:ea typeface="標楷體"/>
              </a:rPr>
              <a:t>客家童謠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月光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光光，秀才郎，騎白馬，過蓮塘，蓮塘背，種韭菜，親家門前一口塘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放介鯉魚八尺長，長介拿來炒韭菜，短介拿來討哺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伯公伯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99752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伯  公   伯  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ak`gung´bak`po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冇  ㄘ   雞   冇  ㄘ   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oˇciiˇgie´ moˇciiˇngo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ㄘ   隻  鴨仔  像    匹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iiˇzak`ap`eˇciong pit po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豬  肉    料   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zu´ngiuk`liau ci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楊    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iongˇtoˇ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愛  吃   你 就  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i siit ngˇzu siit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唔  吃   捱   也冇  奈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ˇsiit ngaiˇiamoˇnaiho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   你   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iang`nˇsi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酒    綁  田   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ziu`bong`tienˇlo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酒  撒 冇  寬   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ziu`sa moˇkuan to` 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轉  去  寬，做  得 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zon`hi kuan zo det`mo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羊咩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羊咩咩，十八歲，坐火車，轉妹家，兩斗米，打齊粑，冇糖好搵，搵泥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兒童音樂教學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日本鈴木教學法：母語學習的概念，從基本的聽覺訓練開始，而後模仿、重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聽覺發展黃金時間練習專心聽音樂，培養音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模仿聽得很熟的音樂，練習演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良好的家庭學習環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月光華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光華華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ngiet gong´vaˇvaˇ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細妹煮茶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se moi zu`caˇ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阿哥兜凳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ˇgo´deuˇden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客喝茶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nginˇhak`siit caˇ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滿姑洗身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anˇgu´se`siin´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跌掉手巾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iet`tet`su`gin´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滿人撿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a`nginˇngiam´do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大哥撿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taigo´ngiam´do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愛還捱呀唔還捱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ivanˇngaiˇiamˇvanˇngaiˇ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大哥轉來會打，小哥轉來會罵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唔使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ˇsii`da`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唔使罵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mˇsii`ma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十七十八愛行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siipcit`siipbat`ngaiˇoiga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嫁到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gadonai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嫁到溝仔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gadogeu´e`boi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種韭菜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採茶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天公哪，落水喲，阿妹呀，戴著草帽來到溪水邊，溪水呀，清又清，魚兒在水中，泅來泅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看到啊，阿妹呀，靚又靚，心中暗想不敢聲，尋無啊，媒人娜，想要湊雙啊，難呀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Arial"/>
                <a:ea typeface="標楷體"/>
              </a:rPr>
              <a:t>華語童謠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小蜜蜂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嗡嗡嗡，嗡嗡嗡，大家一齊勤做工</a:t>
            </a:r>
            <a:br>
              <a:rPr sz="3200"/>
            </a:b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圈在嘴巴旁，雙手彎曲震動臂膀，雙腳跑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來匆匆，去匆匆，做工興味濃</a:t>
            </a:r>
            <a:br>
              <a:rPr sz="3200"/>
            </a:b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向左向右飛舞，雙腳踏墊步，轉一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天暖花好不做工，將來哪裡好過冬</a:t>
            </a:r>
            <a:br>
              <a:rPr sz="3200"/>
            </a:b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左右各開一次花，胸前交叉搖，伸右手、伸左手，胸前劃一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嗡嗡嗡，嗡嗡嗡，不做懶惰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圈在嘴巴旁，雙手彎曲震動臂膀，雙腳跑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小星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閃一閃亮晶晶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上舉收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滿天都是小星星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在頭上轉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掛在天空放光明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向左右各做二次踏併步，雙手左右搖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好像許多小眼睛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食指中指圈成圈，在眼睛前晃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閃一閃亮晶晶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上舉收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滿天都是小星星。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在頭上轉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青春舞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太陽下山明朝一樣爬上來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爬樓梯般向上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花兒謝了明年還是一樣的開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在左右開花，雙腳向左向右踏併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美麗小鳥一去無影蹤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小鳥飛，轉一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的青春小鳥一去不回來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拍掌後一手在上一手在下，頭前後擺，右踏一步左腳點於右腳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的青春小鳥一去不回來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換左邊與前段動作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別地哪喲喲啊，別地哪喲喲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左右手分別向左右擺動，雙腳向左向右踏併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的青春小鳥一去不回來。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拍掌後一手在上一手在下，頭前後擺，右踏一步左腳點於右腳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紅彩妹妹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紅彩妹妹嗯唉嗨喲！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搭前面的肩膀，右腳前點後點向前跑三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長得好那麼嗯唉嗨喲！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同前，換左邊</a:t>
            </a:r>
            <a:br>
              <a:rPr sz="24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櫻桃小口嗯唉嗨喲！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食指點在嘴邊，左右蹲各二拍，跑步轉一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點點那麼嗯唉嗨喲！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前四拍右手食指由左點到右，左手叉腰，點頭，後四拍跑步轉一圈</a:t>
            </a:r>
            <a:br>
              <a:rPr sz="24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月裡來桃花開，百花香那麼嗯唉嗨喲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八月中秋月正圓，想起了妹妹嗯唉嗨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鳳陽花鼓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左手鑼，右手鼓，手拿鑼鼓來唱歌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向左右交換步，雙手左右舉並轉動手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別的歌兒我也不會唱，只會唱個鳳陽歌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右腳橫跨左腳高跪步，右手劃一個大圓，左邊再做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鳳陽歌來依呵呀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畫個大圓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得兒鈴鐺飄一飄，得兒鈴鐺飄一飄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像左右各跑四步拍手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得兒飄，得兒飄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向左右跳並拍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得兒飄得飄飄一得兒飄飄飄一飄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向前跑四步，雙手拍二次，畫個大圓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王老先生有塊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王老先生有塊地，一丫ㄧ丫唷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扛鋤頭，右腳跟點、左腳跟點，跑三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他在田邊養小雞，一丫ㄧ丫唷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小雞舞動，右腳跟點、左腳跟點，跑三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這裡咕咕咕，那裡咕咕咕，這裡咕，那裡咕，到處叫著咕咕咕，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雞嘴狀，隨著咕音，頭向前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王老先生有塊地，一丫ㄧ丫唷</a:t>
            </a:r>
            <a:r>
              <a:rPr b="1" lang="zh-TW" sz="2400" spc="-1" strike="noStrike">
                <a:solidFill>
                  <a:srgbClr val="9933ff"/>
                </a:solidFill>
                <a:latin typeface="Arial"/>
                <a:ea typeface="標楷體"/>
              </a:rPr>
              <a:t>雙手如扛鋤頭，右腳跟點、左腳跟點，跑三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小小姑娘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小姑娘，清早起床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抱胸左右搖擺，向上伸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著花籃上市場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跑跳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穿過大街，走進小巷，賣花賣花聲聲唱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跑跳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穿過二人搭建的拱形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花兒雖美，花兒雖香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向右斜分上下，右腳單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三下，左邊再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沒人來買怎麼辦？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攤在胸前擺動六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滿滿花籃，空空小囊，如何回去見爹娘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右斜分上下，右腳單跳三下，左邊再一次，雙手攤在胸前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動六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當我們同在一起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我們同在一起，在一起，在一起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全體牽手向前後莎地希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我們同在一起，其快樂無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兩人勾右手臂向右跑跳步轉一圈，左邊亦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你對著我笑嘻嘻，我對著你笑哈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兩人面對面，右手指你、指我，而後雙手在嘴邊擺頭笑嘻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我們同在一起，其快樂無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兩人勾右手臂向右跑跳步轉一圈，左邊亦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德國奧福教學法：將語言融入節奏、肢體動作、舞蹈與即興創作，讓孩子由創作及演奏中，獲取音樂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律動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藉由律動和舞蹈的結合提升對音樂的感應，鼓勵兒童去感受種種自然動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歌唱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歌謠及說白是探索聲音的重要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樂器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樂器能夠易於彈奏，而且偏好原始的樂器種類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打擊、直笛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即興創作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捉泥鰍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池塘的水滿了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雨也停了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自上而下滾下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田邊的稀泥裡，到處是泥鰍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滾動而後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天天我等著你，等著你捉泥鰍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左右手分別遮在眼前各二拍，雙手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大哥哥好不好，咱們去捉泥鰍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抱胸左右搖擺四拍，雙手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牛的哥哥帶著他捉泥鰍，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屈伸二次，雙手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大哥哥好不好，咱們去捉泥鰍。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抱胸左右搖擺四拍，雙手在胸前伸直滑動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我是隻小小鳥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是隻小小鳥，飛就飛，叫就叫，自由逍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如小鳥飛，向左右各飛二次，踏墊步，轉一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不知有煩惱，我不知有憂愁，只是愛歡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胸前交錯揮二次，後二拍在頭兩邊轉圈，反覆再一次，雙手在嘴邊笑哈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小毛驢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有一隻小毛驢，我從來也不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伸直如騎馬般，交換步前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一天我心血來潮，騎著去趕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雙手左右擺動二拍一次，交換步前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手裡拿著小皮鞭，心裡正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一隻手如拿鞭子般甩動，交換步前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知怎麼嘩啦啦拉拉拉，摔了ㄧ身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左腳單腳跳起，右腳跟前點，雙手畫大圓，雙手自上而下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標楷體"/>
                <a:ea typeface="標楷體"/>
              </a:rPr>
              <a:t>下來，扭臀至蹲下為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魯冰花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天上的星星不說話，地上的娃娃想媽媽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天上的眼睛眨呀眨，媽媽的心呀魯冰花，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天上的眼睛眨呀眨，媽媽的心呀魯冰花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家鄉的茶園開滿花，媽媽的心肝在天涯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夜夜想起媽媽的話，閃閃的淚光魯冰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啊，夜夜想起媽媽的話，閃閃的淚光魯冰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小老鼠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小老鼠，上燈檯，偷吃油，下不來，喵喵喵，貓來了，嘰哩咕嚕滾下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頭、肩膀、膝、腳趾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頭兒、肩膀、膝、腳趾，膝、腳趾，膝、腳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頭兒、肩膀、膝、腳趾，眼兒鼻和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小白兔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小白兔愛跳舞，月夜光下學跳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時光一去不回，不要擔誤，快！快！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朋友們大家快來，不要擔誤，來！來！來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小雨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淅瀝、淅瀝、嘩啦、嘩啦，雨下來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我的媽媽拿著雨傘來給我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淅瀝、淅瀝、嘩啦、嘩啦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潑水歌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昨天我打從你門前過，你正提著水桶往外潑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潑在我的皮鞋上ㄚ，路上的行人對著我笑呵呵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你什麼話也沒有說，只是瞇著眼睛望著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嚕啦啦，嚕啦啦，嚕啦嚕啦咧，嚕啦嚕啦嚕啦，嚕啦嚕啦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嚕啦啦，嚕啦啦，嚕啦嚕啦咧，嚕啦嚕啦嚕啦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哈撒亞其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哈撒亞其，哈撒亞其，一朵小野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迎風搖曳嬌小美麗，使我想起你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輕輕摘下送給了你，你是否歡喜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哈撒亞其，哈撒亞其，一朵小野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匈牙利高大宜教學法：</a:t>
            </a:r>
            <a:br>
              <a:rPr sz="38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先學習唱歌、節奏，逐漸學習音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handsigns" descr="Kod嫮y Solfege Hand Signs"/>
          <p:cNvPicPr/>
          <p:nvPr/>
        </p:nvPicPr>
        <p:blipFill>
          <a:blip r:embed="rId1"/>
          <a:stretch/>
        </p:blipFill>
        <p:spPr>
          <a:xfrm>
            <a:off x="1085760" y="1846440"/>
            <a:ext cx="2781360" cy="4041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節奏：用簡單的符號紀錄，配合發出節奏的聲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♩     ♩    ♫       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ta ta ti ti 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♫  ♩  ♫  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♬        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inlin din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♩   ♬♬  ♫  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兩隻老虎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兩隻老虎， 兩隻老虎，跑得快，跑得快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隻沒有耳朵，一隻沒有尾巴，真奇怪，真奇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手在哪裡，手在哪裡，在這裡，在這裡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你今天好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今天很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再見吧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再見吧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兩隻老鼠，兩隻老鼠，會跳舞，會跳舞，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隻會跳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Tango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一隻會跳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lues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真奇怪，真奇怪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猜拳歌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好朋友我們行個禮，握握手來猜拳，石碰帕呀，看誰鸁，輸了就要跟我走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中國話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扁擔寬 板凳長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扁擔想綁在板凳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扁擔寬 板凳長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扁擔想綁在板凳上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倫敦瑪莉蓮 買了件旗袍送媽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莫斯科的夫司基 愛上牛肉麵疙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種顏色的皮膚 各種顏色的頭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嘴裡唸的說的開始流行中國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少年我們苦練英文發音和文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這幾年換他們捲著舌頭學平上去入的變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平平仄仄平平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好聰明的中國人 好優美的中國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扁擔寬 板凳長 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扁擔想綁在板凳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板凳不讓扁擔綁在板凳上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扁擔偏要綁在板凳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板凳偏偏不讓扁擔綁在那板凳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到底扁擔寬還是板凳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哥哥弟弟坡前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坡上臥著一隻鵝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坡下流著一條河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哥哥說 寬寬的河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弟弟說 白白的鵝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鵝要過河 河要渡鵝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不知是那鵝過河 還是河渡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世界都在學中國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孔夫子的話 越來越國際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全世界都在講中國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我們說的話 讓世界都認真聽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紐約蘇珊娜 開了間禪風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Lounge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柏林來的沃夫岡 拿胡琴配著電吉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種顏色的皮膚 各種顏色的頭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嘴裡唸的說的開始流行中國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少年我們苦練英文發音和文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這幾年換他們捲著舌頭學平上去入的變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仄仄平平仄仄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好聰明的中國人 好優美的中國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63280" y="907560"/>
            <a:ext cx="6923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個小孩叫小杜 上街打醋又買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買了布 打了醋 回頭看見鷹抓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放下布 擱下醋 上前去追鷹和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飛了鷹 跑了兔 灑了醋 濕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嘴說腿 腿說嘴 嘴說腿 愛跑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腿說嘴 愛賣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光動嘴 不動腿 光動腿 不動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如不長腿和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到底是那嘴說腿 還是腿說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世界都在學中國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孔夫子的話 越來越國際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全世界都在講中國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我們說的話 讓世界都認真聽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高山青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高山青，澗水藍，阿里山的姑娘，美如水呀，阿里山的少年，壯如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高山長青，澗水長藍，啊—啊—，姑娘和那少年，永不分呀，碧水常圍著青山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哪嚕灣多伊呀哪呀嘿，伊呀嘿，哪嚕灣，安多伊哪哪呀喔嗨央，喔伊哪嚕灣多，伊呀哪呀嘿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奧地利達克羅茲教學法：結合音樂節奏與肢體動作，培養整體音樂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律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：從有關運動的經驗開始，音樂與身體結合，接受、表現音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音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：內在聽力的訓練來加強心中想像音樂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即興創作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：以啟發為主，藉由自身的直覺，外界的誘導，發展創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65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動作編配與設計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拍手、踏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打拍子：依照每小節的拍子數，規則的拍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打節奏：跟著節奏拍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強弱節奏：跟著節奏拍手，在重音加上踏腳。拍手拍腿，用不同的陞想製造強弱節奏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雙人互拍：兩人單手、雙手互拍，加上自己拍，增加變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身體音響：拍在身上其他部位，如：手臂、肩膀、肚子、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猜拳：配合歌曲玩猜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走路：配合腳的移動，手臂自然擺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向前、向後、向左、向右走，轉一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向側邊滑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墊步、跑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莎地希跳：走三步，第四部跳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踏跳步：邊走邊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擺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單手擺動：向上、向下、向左、向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雙手擺動：畫圓、同方向、分開兩側擺動、前後擺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手勢：雲手、功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扭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上下前後左右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蹲下、起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扭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扭頭：邊疆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加道具：彩帶、扇子、響板、鈴鼓、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手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8360" y="2409840"/>
            <a:ext cx="3744720" cy="4448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532720" cy="38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低年級唱遊主要是聽唱教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課程中配合音樂，做不同程度的樂理教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需要銜接學習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565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唱遊教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640" y="228240"/>
            <a:ext cx="618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ㄧ、音符的故事</a:t>
            </a: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676160"/>
            <a:ext cx="8064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音樂的譜號有如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引導與運用熟悉的教材，把聲音的意向透過具體的視覺表徵轉入音樂的抽象符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可透過教師自編故事，將主角特色介紹出來， 這樣更激發兒童想像世界，增強教學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0:21:43Z</dcterms:created>
  <dc:creator>吉國健太</dc:creator>
  <dc:description/>
  <dc:language>en-US</dc:language>
  <cp:lastModifiedBy>chues</cp:lastModifiedBy>
  <dcterms:modified xsi:type="dcterms:W3CDTF">2007-07-14T05:01:35Z</dcterms:modified>
  <cp:revision>35</cp:revision>
  <dc:subject/>
  <dc:title>快樂童謠教學 </dc:title>
</cp:coreProperties>
</file>