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f6f74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5D78-C619-4A61-92DC-286F0EA3B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B057-BE6C-40E4-A8B7-3B26C95A2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8555-7175-48F6-A6B5-56DB643FF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D537-77A5-4B43-9CB8-3A1F55270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7E2C-3A54-4EAF-A979-284595E8BE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4E88-C8F4-4074-BB6B-B5DBF99260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F82F-75FD-4F79-B8B6-0AF4C104C8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448F-783D-4432-95D6-0970CC91E8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45D2-7C49-4774-8171-EF450F80D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1AB1-316B-4D58-A482-6BD7DD776F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9ADE-DE77-45B8-8071-652FCFA64F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6F9B-6B69-4DB5-8967-D1CA3DB93D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D192-55DF-4367-9AF5-4006C66B0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3262-259C-4DCC-BC44-135D32B2C5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7F71-6C70-4279-956B-70E0E6D7F1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4513-1F14-4157-AC03-4CD300C59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1D78-FDF4-413A-8E16-E194007423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74A3-31DC-4174-8B35-3B095DF5D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23A7-6364-4B69-B2A1-E4DF3747FC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3955-1BDA-49D6-9470-FCC1ACD7F4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9362-02D8-44BD-A565-CA2DE6FF4B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78E9-D0FE-4576-A5F5-85924B6600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03A7-96DE-41DD-BCFD-082563BA8C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F949-4C44-43ED-81EE-061C63B14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0EC2-1BA6-41A7-83ED-067E3369E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9-10: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0-11: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-12:  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2-13:   13 (first postseason year used APR benchmark to access postseason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3-14:  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4-15:   4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7FA7-633B-47A9-A7CB-52EB246D79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5903-685F-4A3E-892A-3E4D4FEDE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4CAB-CD9A-4E1D-A97A-0D7A0C4A8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A947-8400-48C8-9DA2-C9506215D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FE3F-4B4D-4870-8213-2B718B418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359B-F2FD-410D-8D5A-7DE41D4C3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2940-372D-4424-BFCE-9F1D3DC79E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DED3-D21F-400F-962D-D596162F10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AB98-DAD0-4C84-8742-A817120158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409E-5328-452E-A7C1-0651150EF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8A1B-C02F-4B0C-9994-A6ECA3612D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0483-341A-41C7-91DE-7856936CE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02B2-BFBE-44C1-988C-60E353535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D732-A3FF-4052-B350-537B07A6E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5DDE-BE41-4F56-B18A-C45EA36F1F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4FF0-EE46-4BB0-B8DE-FCAAEA861B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101C-538E-4F41-BF17-2E0D652CF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90B0-B6D6-40FA-A56A-FDD53E34D0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1E6A-3E6C-4BCE-9A37-158F08B01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1E22-0EAB-4F50-8814-3DB4F52C9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7372-0A75-4051-85E0-AEE11060F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898B-F596-4B50-AAA0-94DFC14AC8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5583-424F-422B-AFE3-1A23A6B1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0A94-0EB2-4909-B07C-2A78E14E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6D03-C382-4A2B-8E0B-040EB0C9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A5AA-7B5A-4933-8C1D-7D950A41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AF2B-76C7-4C1A-83E7-C3D7BD7C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CD0B-2F63-4C1A-8C8F-F498E4F1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A29E-C8E6-469B-994E-9F2E2722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97CB-2F1F-4443-B519-E398BD38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6919-1C5E-402E-A001-611A6D87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9F75-19A3-4F12-8501-57483A45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C648-333B-46E3-8B5D-60CC148D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4DB2-451C-4BFF-97E6-6F924EDB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337E-74A7-4606-B81D-B549F8BD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FB5B-3791-4C56-A38F-CEED135E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0C1A-C85B-493B-A3E6-870C066D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161B-C25D-4866-ADED-EB4AF908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2FF1-1112-45E7-BE4A-A7445BE0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E04E35-BF7A-4B21-9985-E10F3098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9B9CB-A77B-4B7E-9353-82DAC831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3FBB7-39C8-45F9-94DD-60A41D82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79CBC9-EA62-43F5-8439-221154ED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0FE01-8D43-4401-88E1-41B30688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ACC7-FC21-4D63-910D-DA676041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8A139-0BA4-4F66-9BB7-37FE4D10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FD3B2-844D-4B26-850F-3DCCD3E8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143F4-49F8-4767-AE6B-3CEC7150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2E3DB-40E4-4DF4-916D-45A2E850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2051B-45E9-4F61-BF7C-B51FAFD3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424D8-FC69-4A2F-A459-7405F776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AFCD1-7DDF-4FEE-9988-6C4E0FF7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31ACD-B953-4CC3-94D6-B357E9A9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55011-7CD1-417C-8373-D99D34DA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D6C96-5134-4077-920D-7FDF1A38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7F72-3493-4C71-9486-1C3BFCB9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55211-0399-425E-9AF0-6CBDBD9B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A3024-E576-499A-9F84-9265B726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1E7E7-6E57-405B-A69D-192260C3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52DE8-8723-4A5F-A1DC-B66777E5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8AE6C-325A-42EA-8601-AAD57BC7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7CAC8-ECD2-45C3-BE23-D26A6F73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AAA12-8EB6-4B93-BA54-99489C87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C4587-1B01-407F-9D01-1466ABC9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A3CB7-812C-440C-BFFC-52956984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E0A-9482-43B5-A498-74619592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1876-3C85-4968-A2A3-E84572A6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A54-A040-4A70-85D9-95B044A1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3A33-B616-47D5-89B5-AD3A6602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95C0-D11E-43B0-9C29-B376683D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cfbd"/>
            </a:gs>
            <a:gs pos="100000">
              <a:srgbClr val="8e85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897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a7b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f6f74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52D3-E62E-41B5-833E-1A6CA0DF98A1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cfbd"/>
            </a:gs>
            <a:gs pos="100000">
              <a:srgbClr val="8e85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897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a7b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f6f74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6f7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D3B6-CD20-4BA5-A0A4-FD5CE69ED661}" type="slidenum">
              <a:rPr b="0" lang="en-US" sz="1200" spc="-1" strike="noStrike">
                <a:solidFill>
                  <a:srgbClr val="6f6f7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cfbd"/>
            </a:gs>
            <a:gs pos="100000">
              <a:srgbClr val="8e85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897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a7b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f6f74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F0FC-291D-4026-B56E-9B513EFEC63C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cfbd"/>
            </a:gs>
            <a:gs pos="100000">
              <a:srgbClr val="8e85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897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a7b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2323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f6f74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E763-7460-407F-9BA0-8BDD30D119B4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mailto:arohlman@ncaa.org" TargetMode="External"/><Relationship Id="rId2" Type="http://schemas.openxmlformats.org/officeDocument/2006/relationships/hyperlink" Target="mailto:kyurk@ncaa.org" TargetMode="External"/><Relationship Id="rId3" Type="http://schemas.openxmlformats.org/officeDocument/2006/relationships/hyperlink" Target="mailto:alouthain@ncaa.org" TargetMode="Externa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4267080" cy="601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Division I </a:t>
            </a:r>
            <a:br>
              <a:rPr sz="4000"/>
            </a:b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cademic Performance Program/ Overview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171840" y="4647960"/>
            <a:ext cx="213372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42"/>
                </a:solidFill>
                <a:latin typeface="Century Gothic"/>
              </a:rPr>
              <a:t>Eric Brey</a:t>
            </a:r>
            <a:endParaRPr b="0" lang="en-US" sz="2800" spc="-1" strike="noStrike">
              <a:solidFill>
                <a:srgbClr val="46464a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42"/>
                </a:solidFill>
                <a:latin typeface="Century Gothic"/>
              </a:rPr>
              <a:t>Katy Yurk</a:t>
            </a:r>
            <a:endParaRPr b="0" lang="en-US" sz="28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Content Pages v2"/>
          <p:cNvPicPr/>
          <p:nvPr/>
        </p:nvPicPr>
        <p:blipFill>
          <a:blip r:embed="rId1"/>
          <a:stretch/>
        </p:blipFill>
        <p:spPr>
          <a:xfrm>
            <a:off x="457200" y="2001960"/>
            <a:ext cx="8229600" cy="4551120"/>
          </a:xfrm>
          <a:prstGeom prst="rect">
            <a:avLst/>
          </a:prstGeom>
          <a:ln w="0">
            <a:noFill/>
          </a:ln>
        </p:spPr>
      </p:pic>
      <p:pic>
        <p:nvPicPr>
          <p:cNvPr id="360" name="Chart 2" descr=""/>
          <p:cNvPicPr/>
          <p:nvPr/>
        </p:nvPicPr>
        <p:blipFill>
          <a:blip r:embed="rId2"/>
          <a:stretch/>
        </p:blipFill>
        <p:spPr>
          <a:xfrm>
            <a:off x="736560" y="1981080"/>
            <a:ext cx="7899480" cy="48261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1"/>
          <p:cNvSpPr/>
          <p:nvPr/>
        </p:nvSpPr>
        <p:spPr>
          <a:xfrm>
            <a:off x="4343400" y="4948200"/>
            <a:ext cx="274320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Total New Grads from 1995 – 2007:  </a:t>
            </a:r>
            <a:r>
              <a:rPr b="1" lang="en-US" sz="1200" spc="-1" strike="noStrike">
                <a:solidFill>
                  <a:srgbClr val="ff0000"/>
                </a:solidFill>
                <a:latin typeface="Century Gothic"/>
                <a:ea typeface="Arial"/>
              </a:rPr>
              <a:t>13,805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umber of Real Graduates Sinc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1995 vs. Number who Would Have Graduated with No Increase in GSR</a:t>
            </a:r>
            <a:endParaRPr b="0" lang="en-US" sz="2800" spc="-1" strike="noStrike">
              <a:solidFill>
                <a:srgbClr val="6f6f74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nnual GSRs of All Student-Athletes at Division I Institutions Overall and by Gender</a:t>
            </a:r>
            <a:endParaRPr b="0" lang="en-US" sz="3200" spc="-1" strike="noStrike">
              <a:solidFill>
                <a:srgbClr val="6f6f74"/>
              </a:solidFill>
              <a:latin typeface="Century Gothic"/>
            </a:endParaRPr>
          </a:p>
        </p:txBody>
      </p:sp>
      <p:grpSp>
        <p:nvGrpSpPr>
          <p:cNvPr id="364" name="Group 1"/>
          <p:cNvGrpSpPr/>
          <p:nvPr/>
        </p:nvGrpSpPr>
        <p:grpSpPr>
          <a:xfrm>
            <a:off x="457200" y="2209680"/>
            <a:ext cx="8305920" cy="4343400"/>
            <a:chOff x="457200" y="2209680"/>
            <a:chExt cx="8305920" cy="4343400"/>
          </a:xfrm>
        </p:grpSpPr>
        <p:pic>
          <p:nvPicPr>
            <p:cNvPr id="365" name="Picture 6" descr="Content Pages v2"/>
            <p:cNvPicPr/>
            <p:nvPr/>
          </p:nvPicPr>
          <p:blipFill>
            <a:blip r:embed="rId1"/>
            <a:stretch/>
          </p:blipFill>
          <p:spPr>
            <a:xfrm>
              <a:off x="457200" y="2209680"/>
              <a:ext cx="8232120" cy="4343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66" name="Object 4"/>
            <p:cNvGraphicFramePr/>
            <p:nvPr/>
          </p:nvGraphicFramePr>
          <p:xfrm>
            <a:off x="670680" y="2287800"/>
            <a:ext cx="8092440" cy="424224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367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0680" y="2287800"/>
                      <a:ext cx="8092440" cy="424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f6f74"/>
                </a:solidFill>
                <a:latin typeface="Century Gothic"/>
              </a:rPr>
              <a:t>APC</a:t>
            </a:r>
            <a:endParaRPr b="0" lang="en-US" sz="38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762120" y="14479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Annual compilation of academic performance variables (e.g., credit hours, grade-point average)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Academic data used for NCAA research purposes. 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10944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Data informs academic policies. 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10944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ubmitted online using the APP Data Collection Program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109440">
              <a:lnSpc>
                <a:spcPct val="12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lnSpc>
                <a:spcPct val="12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ollected in fall term with APR data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R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5235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84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57200">
              <a:spcBef>
                <a:spcPts val="374"/>
              </a:spcBef>
              <a:buClr>
                <a:srgbClr val="6f6f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Real-time rate, calculated term-by-term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57200">
              <a:spcBef>
                <a:spcPts val="374"/>
              </a:spcBef>
              <a:buClr>
                <a:srgbClr val="6f6f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57200">
              <a:spcBef>
                <a:spcPts val="374"/>
              </a:spcBef>
              <a:buClr>
                <a:srgbClr val="6f6f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Includes all student-athletes on a team in a given year (as opposed to entering class)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5720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1379520" indent="-465120">
              <a:lnSpc>
                <a:spcPct val="90000"/>
              </a:lnSpc>
              <a:spcBef>
                <a:spcPts val="374"/>
              </a:spcBef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Includes student-athletes receiving athletically related financial aid; or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1379520" indent="-465120">
              <a:lnSpc>
                <a:spcPct val="90000"/>
              </a:lnSpc>
              <a:spcBef>
                <a:spcPts val="374"/>
              </a:spcBef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1379520" indent="-465120">
              <a:lnSpc>
                <a:spcPct val="90000"/>
              </a:lnSpc>
              <a:spcBef>
                <a:spcPts val="374"/>
              </a:spcBef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For nonscholarship programs/teams, a subset of recruited student-athlete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1379520" indent="-46512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ont…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2504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R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8052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49280">
              <a:buClr>
                <a:srgbClr val="6f6f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Points awarded for eligibility/graduation and retention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buClr>
                <a:srgbClr val="6f6f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buClr>
                <a:srgbClr val="6f6f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Totaled over most recent four years (cohort)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buClr>
                <a:srgbClr val="6f6f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buClr>
                <a:srgbClr val="6f6f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Used in analysis for eligibility for postseason competition, APP penalties and public recognition of top academically performing team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 algn="just">
              <a:lnSpc>
                <a:spcPct val="90000"/>
              </a:lnSpc>
              <a:spcBef>
                <a:spcPts val="374"/>
              </a:spcBef>
              <a:buClr>
                <a:srgbClr val="81955b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 algn="just">
              <a:spcBef>
                <a:spcPts val="374"/>
              </a:spcBef>
              <a:buClr>
                <a:srgbClr val="81955b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Due Date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3772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5760" indent="-455760">
              <a:lnSpc>
                <a:spcPct val="80000"/>
              </a:lnSpc>
              <a:spcBef>
                <a:spcPts val="601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GSR: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55760" indent="-455760">
              <a:lnSpc>
                <a:spcPct val="80000"/>
              </a:lnSpc>
              <a:spcBef>
                <a:spcPts val="300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lvl="1" marL="896040" indent="-440280">
              <a:lnSpc>
                <a:spcPct val="80000"/>
              </a:lnSpc>
              <a:spcBef>
                <a:spcPts val="601"/>
              </a:spcBef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June 1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896040" indent="-440280">
              <a:lnSpc>
                <a:spcPct val="80000"/>
              </a:lnSpc>
              <a:spcBef>
                <a:spcPts val="601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55760" indent="-455760">
              <a:lnSpc>
                <a:spcPct val="80000"/>
              </a:lnSpc>
              <a:spcBef>
                <a:spcPts val="601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APR and APC: 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55760" indent="-455760">
              <a:lnSpc>
                <a:spcPct val="80000"/>
              </a:lnSpc>
              <a:spcBef>
                <a:spcPts val="300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lvl="1" marL="896040" indent="-440280">
              <a:lnSpc>
                <a:spcPct val="80000"/>
              </a:lnSpc>
              <a:spcBef>
                <a:spcPts val="601"/>
              </a:spcBef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ix weeks (</a:t>
            </a:r>
            <a:r>
              <a:rPr b="1" lang="en-US" sz="2400" spc="-1" strike="noStrike">
                <a:solidFill>
                  <a:srgbClr val="46464a"/>
                </a:solidFill>
                <a:latin typeface="Century Gothic"/>
              </a:rPr>
              <a:t>42 calendar days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) following the member institution’s first day of classes for the fall term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896040" indent="-440280">
              <a:lnSpc>
                <a:spcPct val="80000"/>
              </a:lnSpc>
              <a:spcBef>
                <a:spcPts val="451"/>
              </a:spcBef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  <a:p>
            <a:pPr lvl="1" marL="896040" indent="-440280">
              <a:lnSpc>
                <a:spcPct val="80000"/>
              </a:lnSpc>
              <a:spcBef>
                <a:spcPts val="601"/>
              </a:spcBef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Failure to submit results in an institution being declared ineligible for postseason competition, including NCAA championships and bowl game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896040" indent="-440280">
              <a:lnSpc>
                <a:spcPct val="80000"/>
              </a:lnSpc>
              <a:spcBef>
                <a:spcPts val="499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914040"/>
            <a:ext cx="70246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R Timeline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pic>
        <p:nvPicPr>
          <p:cNvPr id="377" name="Content Placeholder 3" descr=""/>
          <p:cNvPicPr/>
          <p:nvPr/>
        </p:nvPicPr>
        <p:blipFill>
          <a:blip r:embed="rId1"/>
          <a:stretch/>
        </p:blipFill>
        <p:spPr>
          <a:xfrm>
            <a:off x="731880" y="2054160"/>
            <a:ext cx="780264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5438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R Calculation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61760" y="18284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Two available points each academic term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57200" indent="-45720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spcBef>
                <a:spcPts val="374"/>
              </a:spcBef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a"/>
                </a:solidFill>
                <a:latin typeface="Century Gothic"/>
              </a:rPr>
              <a:t>Eligibility "E" point = student-athlete meets academic eligibility standards </a:t>
            </a:r>
            <a:r>
              <a:rPr b="1" lang="en-US" sz="2200" spc="-1" strike="noStrike">
                <a:solidFill>
                  <a:srgbClr val="0070c0"/>
                </a:solidFill>
                <a:latin typeface="Century Gothic"/>
              </a:rPr>
              <a:t>as of the end of the academic term</a:t>
            </a:r>
            <a:r>
              <a:rPr b="0" lang="en-US" sz="2200" spc="-1" strike="noStrike">
                <a:solidFill>
                  <a:srgbClr val="0070c0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spcBef>
                <a:spcPts val="374"/>
              </a:spcBef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spcBef>
                <a:spcPts val="374"/>
              </a:spcBef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a"/>
                </a:solidFill>
                <a:latin typeface="Century Gothic"/>
              </a:rPr>
              <a:t>Retention "R" point = student-athlete is enrolled full-time as of the census date or the fifth week of classes </a:t>
            </a:r>
            <a:r>
              <a:rPr b="1" lang="en-US" sz="2200" spc="-1" strike="noStrike">
                <a:solidFill>
                  <a:srgbClr val="0070c0"/>
                </a:solidFill>
                <a:latin typeface="Century Gothic"/>
              </a:rPr>
              <a:t>of the next term</a:t>
            </a:r>
            <a:r>
              <a:rPr b="0" lang="en-US" sz="2200" spc="-1" strike="noStrike">
                <a:solidFill>
                  <a:srgbClr val="46464a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spcBef>
                <a:spcPts val="374"/>
              </a:spcBef>
              <a:buClr>
                <a:srgbClr val="81955b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	</a:t>
            </a:r>
            <a:r>
              <a:rPr b="0" lang="en-US" sz="2400" spc="-1" strike="noStrike" u="sng">
                <a:solidFill>
                  <a:srgbClr val="46464a"/>
                </a:solidFill>
                <a:uFillTx/>
                <a:latin typeface="Century Gothic"/>
              </a:rPr>
              <a:t>Number of points earned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46464a"/>
                </a:solidFill>
                <a:uFillTx/>
                <a:latin typeface="Century Gothic"/>
              </a:rPr>
              <a:t>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Number of points possible   x  1,000  =  APR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 algn="just">
              <a:spcBef>
                <a:spcPts val="374"/>
              </a:spcBef>
              <a:buClr>
                <a:srgbClr val="81955b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Delayed-Graduation Point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62120" y="207288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Point awarded in the term the former student-athlete graduates (1/0)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Restores lost APR "E" or "R" point from last term student-athlete was in the cohort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spcBef>
                <a:spcPts val="575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Delayed-graduation points awarded for any academic year cohort that comprise the multiyear APR cohort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cont…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Delayed-Graduation Point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440" y="20574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a"/>
                </a:solidFill>
                <a:latin typeface="Century Gothic"/>
              </a:rPr>
              <a:t>Criteria/Directive: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6480">
              <a:lnSpc>
                <a:spcPct val="60000"/>
              </a:lnSpc>
              <a:buClr>
                <a:srgbClr val="beae98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6464a"/>
              </a:solidFill>
              <a:latin typeface="Century Gothic"/>
            </a:endParaRPr>
          </a:p>
          <a:p>
            <a:pPr lvl="1" marL="457200" indent="-457200">
              <a:lnSpc>
                <a:spcPct val="90000"/>
              </a:lnSpc>
              <a:spcBef>
                <a:spcPts val="326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a"/>
                </a:solidFill>
                <a:latin typeface="Century Gothic"/>
              </a:rPr>
              <a:t>Student-athlete graduates from your institution in any year making up the four-year APR cohort.</a:t>
            </a: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 marL="457200" indent="-457200">
              <a:lnSpc>
                <a:spcPct val="90000"/>
              </a:lnSpc>
              <a:spcBef>
                <a:spcPts val="326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4a"/>
              </a:solidFill>
              <a:latin typeface="Century Gothic"/>
            </a:endParaRPr>
          </a:p>
          <a:p>
            <a:pPr lvl="1" marL="457200" indent="-457200">
              <a:lnSpc>
                <a:spcPct val="90000"/>
              </a:lnSpc>
              <a:spcBef>
                <a:spcPts val="326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a"/>
                </a:solidFill>
                <a:latin typeface="Century Gothic"/>
              </a:rPr>
              <a:t>Student-athlete was not included in the team's APR cohort in the term in which he or she graduated from your institution.</a:t>
            </a: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 marL="457200" indent="-457200">
              <a:lnSpc>
                <a:spcPct val="90000"/>
              </a:lnSpc>
              <a:spcBef>
                <a:spcPts val="326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4a"/>
              </a:solidFill>
              <a:latin typeface="Century Gothic"/>
            </a:endParaRPr>
          </a:p>
          <a:p>
            <a:pPr lvl="1" marL="457200" indent="-457200">
              <a:lnSpc>
                <a:spcPct val="90000"/>
              </a:lnSpc>
              <a:spcBef>
                <a:spcPts val="326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a"/>
                </a:solidFill>
                <a:latin typeface="Century Gothic"/>
              </a:rPr>
              <a:t>Student-athlete lost the "E" or "R" point in his or her last term in the APR cohort; or would have lost a point if the student-athlete departed prior to the implementation of the APR in 2003-04.    </a:t>
            </a: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3296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Learning Objective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990720" y="2209680"/>
            <a:ext cx="72388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Overview of the NCAA Division I Academic Performance Program (APP)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Explain basic APP policies and procedures. 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Apply directives to basic fact scenarios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Analyze APP data. 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Example APR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520" y="137160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   </a:t>
            </a: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Multiyear Rate: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500040" y="2133720"/>
          <a:ext cx="8153280" cy="4154400"/>
        </p:xfrm>
        <a:graphic>
          <a:graphicData uri="http://schemas.openxmlformats.org/drawingml/2006/table">
            <a:tbl>
              <a:tblPr/>
              <a:tblGrid>
                <a:gridCol w="2484360"/>
                <a:gridCol w="1096920"/>
                <a:gridCol w="1067040"/>
                <a:gridCol w="1066680"/>
                <a:gridCol w="1066680"/>
                <a:gridCol w="13716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0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ulti-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</a:tr>
              <a:tr h="7286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am’s single-year A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  <a:tr h="883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umber of delayed graduat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</a:tr>
              <a:tr h="75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igibility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/2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/24 (9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/24 (1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/18 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3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2/88 (93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  <a:tr h="87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ten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/22 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/24 (9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/24 (1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/18 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8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3/88 (9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R Adjustment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440" y="22093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Discount lost APR point(s) for a term or terms from the denominator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spcBef>
                <a:spcPts val="575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May request adjustment to lost "E" point, lost "R" point or both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spcBef>
                <a:spcPts val="575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spcBef>
                <a:spcPts val="575"/>
              </a:spcBef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Requests are based on mitigation affecting individual student-athletes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R Automatic Adjustment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6504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4928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Transfer to another </a:t>
            </a:r>
            <a:r>
              <a:rPr b="0" lang="en-US" sz="2600" spc="-1" strike="noStrike" u="sng">
                <a:solidFill>
                  <a:srgbClr val="46464a"/>
                </a:solidFill>
                <a:uFillTx/>
                <a:latin typeface="Century Gothic"/>
              </a:rPr>
              <a:t>four</a:t>
            </a: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-year institution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4a"/>
              </a:solidFill>
              <a:latin typeface="Century Gothic"/>
            </a:endParaRPr>
          </a:p>
          <a:p>
            <a:pPr lvl="2" marL="1378080" indent="-457200">
              <a:lnSpc>
                <a:spcPct val="110000"/>
              </a:lnSpc>
              <a:buClr>
                <a:srgbClr val="6f6f74"/>
              </a:buClr>
              <a:buSzPct val="8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2.600 grade-point average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Professional athletics departure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4a"/>
              </a:solidFill>
              <a:latin typeface="Century Gothic"/>
            </a:endParaRPr>
          </a:p>
          <a:p>
            <a:pPr lvl="4" marL="1333440" indent="-457200">
              <a:lnSpc>
                <a:spcPct val="110000"/>
              </a:lnSpc>
              <a:buClr>
                <a:srgbClr val="6f6f74"/>
              </a:buClr>
              <a:buSzPct val="8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Earned eligibility point during last term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Medical-absence waiver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Missed-term exception.</a:t>
            </a:r>
            <a:br>
              <a:rPr sz="2600"/>
            </a:b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     </a:t>
            </a: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Documentation is maintained on campus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spcBef>
                <a:spcPts val="649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djustment Review Proces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316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Guiding Principles/</a:t>
            </a:r>
            <a:r>
              <a:rPr b="1" lang="en-US" sz="2600" spc="-1" strike="noStrike">
                <a:solidFill>
                  <a:srgbClr val="46464a"/>
                </a:solidFill>
                <a:latin typeface="Century Gothic"/>
              </a:rPr>
              <a:t>Directive</a:t>
            </a: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: 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579600" indent="-470160">
              <a:spcBef>
                <a:spcPts val="326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ircumstances surrounding individual student-athlete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579600" indent="-470160">
              <a:lnSpc>
                <a:spcPct val="80000"/>
              </a:lnSpc>
              <a:spcBef>
                <a:spcPts val="326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a"/>
              </a:solidFill>
              <a:latin typeface="Century Gothic"/>
            </a:endParaRPr>
          </a:p>
          <a:p>
            <a:pPr lvl="1" marL="579600" indent="-470160">
              <a:lnSpc>
                <a:spcPct val="80000"/>
              </a:lnSpc>
              <a:spcBef>
                <a:spcPts val="326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ircumstances beyond the control of the student-athlete and/or team/institution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579600" indent="-4701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a"/>
              </a:solidFill>
              <a:latin typeface="Century Gothic"/>
            </a:endParaRPr>
          </a:p>
          <a:p>
            <a:pPr lvl="1" marL="579600" indent="-470160">
              <a:lnSpc>
                <a:spcPct val="80000"/>
              </a:lnSpc>
              <a:spcBef>
                <a:spcPts val="326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ontemporaneous documentation to support  mitigation?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579600" indent="-4701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a"/>
              </a:solidFill>
              <a:latin typeface="Century Gothic"/>
            </a:endParaRPr>
          </a:p>
          <a:p>
            <a:pPr lvl="1" marL="579600" indent="-4701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Decisions/Appeals: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579600" indent="-470160">
              <a:lnSpc>
                <a:spcPct val="140000"/>
              </a:lnSpc>
              <a:spcBef>
                <a:spcPts val="374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Initial decision by staff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579600" indent="-470160">
              <a:lnSpc>
                <a:spcPct val="80000"/>
              </a:lnSpc>
              <a:spcBef>
                <a:spcPts val="374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lvl="1" marL="579600" indent="-470160">
              <a:lnSpc>
                <a:spcPct val="80000"/>
              </a:lnSpc>
              <a:spcBef>
                <a:spcPts val="374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Appeals to the NCAA Division I Committee on Academics Subcommittee on Data Collection and Reporting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6f74"/>
                </a:solidFill>
                <a:latin typeface="Century Gothic"/>
              </a:rPr>
              <a:t>Example Adjustment Calculation</a:t>
            </a:r>
            <a:endParaRPr b="0" lang="en-US" sz="36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Men’s Golf Team: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762120" y="1600200"/>
          <a:ext cx="7619760" cy="4805280"/>
        </p:xfrm>
        <a:graphic>
          <a:graphicData uri="http://schemas.openxmlformats.org/drawingml/2006/table">
            <a:tbl>
              <a:tblPr/>
              <a:tblGrid>
                <a:gridCol w="457200"/>
                <a:gridCol w="1295280"/>
                <a:gridCol w="2514600"/>
                <a:gridCol w="2513160"/>
                <a:gridCol w="8395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eam Memb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all 20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arned E?/Earned 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pring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arned E?/Earned 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int To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ack 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iger 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alter H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/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en H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No / R – 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ary P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m 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/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obby J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No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/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nold P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ene 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Yes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 – No / R – 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1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86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Example Adjustment Calculation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3712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747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a"/>
              </a:solidFill>
              <a:latin typeface="Century Gothic"/>
            </a:endParaRPr>
          </a:p>
          <a:p>
            <a:pPr lvl="1" marL="3747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a"/>
              </a:solidFill>
              <a:latin typeface="Century Gothic"/>
            </a:endParaRPr>
          </a:p>
          <a:p>
            <a:pPr lvl="1" marL="3747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6464a"/>
              </a:solidFill>
              <a:latin typeface="Century Gothic"/>
            </a:endParaRPr>
          </a:p>
          <a:p>
            <a:pPr lvl="1" marL="3747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3747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Adjustment request for lost R point: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374760">
              <a:lnSpc>
                <a:spcPct val="110000"/>
              </a:lnSpc>
              <a:spcBef>
                <a:spcPts val="374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Was the mitigation outside the control of the student-athlete and/or team/institution?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374760">
              <a:spcBef>
                <a:spcPts val="374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374760">
              <a:spcBef>
                <a:spcPts val="326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Is there contemporaneous documentation to support the mitigation?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374760"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ont…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762120" y="1905120"/>
          <a:ext cx="7696080" cy="1006200"/>
        </p:xfrm>
        <a:graphic>
          <a:graphicData uri="http://schemas.openxmlformats.org/drawingml/2006/table">
            <a:tbl>
              <a:tblPr/>
              <a:tblGrid>
                <a:gridCol w="1523880"/>
                <a:gridCol w="2590920"/>
                <a:gridCol w="2514600"/>
                <a:gridCol w="10666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eam Memb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all 20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arned E?/Earned 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pring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arned E?/Earned 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int To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alter H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- Yes/R-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-Yes/R-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f6f74"/>
                </a:solidFill>
                <a:latin typeface="Century Gothic"/>
              </a:rPr>
              <a:t>Example Adjustment Calculation</a:t>
            </a:r>
            <a:endParaRPr b="0" lang="en-US" sz="39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8284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747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a"/>
              </a:solidFill>
              <a:latin typeface="Century Gothic"/>
            </a:endParaRPr>
          </a:p>
          <a:p>
            <a:pPr lvl="1" marL="3747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Adjusted APR calculation: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3747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6464a"/>
              </a:solidFill>
              <a:latin typeface="Century Gothic"/>
            </a:endParaRPr>
          </a:p>
          <a:p>
            <a:pPr lvl="1" marL="3747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6464a"/>
              </a:solidFill>
              <a:latin typeface="Century Gothic"/>
            </a:endParaRPr>
          </a:p>
          <a:p>
            <a:pPr lvl="1" marL="3747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6464a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a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ingle Year APR      </a:t>
            </a:r>
            <a:r>
              <a:rPr b="0" lang="en-US" sz="2400" spc="-1" strike="noStrike" u="sng">
                <a:solidFill>
                  <a:srgbClr val="46464a"/>
                </a:solidFill>
                <a:uFillTx/>
                <a:latin typeface="Century Gothic"/>
              </a:rPr>
              <a:t>31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  =  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.886  X 1000  =  886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35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   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     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762120" y="2971800"/>
          <a:ext cx="7696080" cy="1279440"/>
        </p:xfrm>
        <a:graphic>
          <a:graphicData uri="http://schemas.openxmlformats.org/drawingml/2006/table">
            <a:tbl>
              <a:tblPr/>
              <a:tblGrid>
                <a:gridCol w="1523880"/>
                <a:gridCol w="2324160"/>
                <a:gridCol w="2171520"/>
                <a:gridCol w="16765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eam Memb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all 20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arned E?/Earned 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pring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arned E?/Earned 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int To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alter H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- Yes/R-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-Yes/R-Adjus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0" y="137124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ccess to  Postseason Competition</a:t>
            </a:r>
            <a:br>
              <a:rPr sz="4000"/>
            </a:b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nd </a:t>
            </a:r>
            <a:br>
              <a:rPr sz="4000"/>
            </a:b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P Penalties 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What's New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76212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573120">
              <a:lnSpc>
                <a:spcPct val="110000"/>
              </a:lnSpc>
              <a:buClr>
                <a:srgbClr val="56633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marL="682560" indent="-57312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Transition Period has ended:  930 APR penalty benchmark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682560" indent="-57312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682560" indent="-57312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Limited Resource filters no longer available for APP penalties or loss of postseason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682560" indent="-57312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682560" indent="-573120">
              <a:lnSpc>
                <a:spcPct val="110000"/>
              </a:lnSpc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Track Cohort:  combined as one team rather than separate indoor and outdoor team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682560" indent="-573120">
              <a:buClr>
                <a:srgbClr val="81955b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marL="682560" indent="-573120" algn="just">
              <a:lnSpc>
                <a:spcPct val="90000"/>
              </a:lnSpc>
              <a:buClr>
                <a:srgbClr val="81955b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marL="682560" indent="-573120">
              <a:lnSpc>
                <a:spcPct val="90000"/>
              </a:lnSpc>
              <a:buClr>
                <a:srgbClr val="beae98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ccess to Postseason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09480" y="144756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The NCAA Division I Board of Directors established a </a:t>
            </a:r>
            <a:r>
              <a:rPr b="1" lang="en-US" sz="2400" spc="-1" strike="noStrike">
                <a:solidFill>
                  <a:srgbClr val="46464a"/>
                </a:solidFill>
                <a:latin typeface="Century Gothic"/>
              </a:rPr>
              <a:t>930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 multiyear APR benchmark for access to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2015-16 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postseason competition: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108000">
              <a:buClr>
                <a:srgbClr val="56633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marL="10800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Postseason includes all events conducted after last regular season contest or end of conference tournament (e.g., bowl games, NIT, WNIT, etc.)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10800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marL="10800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onferences determine ability to compete in conference tournament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10800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marL="10800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Applies to individual competitors on teams not meeting standard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10800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marL="10800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Waiver process available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108000">
              <a:lnSpc>
                <a:spcPct val="90000"/>
              </a:lnSpc>
              <a:buClr>
                <a:srgbClr val="81955b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marL="108000" algn="just">
              <a:lnSpc>
                <a:spcPct val="80000"/>
              </a:lnSpc>
              <a:buClr>
                <a:srgbClr val="81955b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marL="108000">
              <a:lnSpc>
                <a:spcPct val="80000"/>
              </a:lnSpc>
              <a:buClr>
                <a:srgbClr val="beae98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1640" y="28951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Overview of APP and </a:t>
            </a:r>
            <a:br>
              <a:rPr sz="4000"/>
            </a:b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Basic Policies and Procedures</a:t>
            </a:r>
            <a:br>
              <a:rPr sz="4000"/>
            </a:b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Postseason Benchmark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61760" y="1371240"/>
            <a:ext cx="78483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850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6464a"/>
              </a:solidFill>
              <a:latin typeface="Century Gothic"/>
            </a:endParaRPr>
          </a:p>
          <a:p>
            <a:pPr marL="182520" indent="-1825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To access postseason competition in 2015-16 and beyond: 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182520" indent="-1825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57200"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Need a multiyear APR of at least 930 OR, after subject to first postseason restriction, have a two-year average APR of 950 or higher in the two most recent years. 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57200"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57200"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Mission filter available based on resources (e.g., bottom 15 percent as defined by Committee on Academics) one time only.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57200"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57200"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57200">
              <a:spcBef>
                <a:spcPts val="550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marL="182520" indent="-182520">
              <a:spcBef>
                <a:spcPts val="601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6f74"/>
                </a:solidFill>
                <a:latin typeface="Century Gothic"/>
              </a:rPr>
              <a:t>Teams That Have Lost Access to Postseason Competition by Year</a:t>
            </a:r>
            <a:endParaRPr b="0" lang="en-US" sz="3600" spc="-1" strike="noStrike">
              <a:solidFill>
                <a:srgbClr val="6f6f74"/>
              </a:solidFill>
              <a:latin typeface="Century Gothic"/>
            </a:endParaRPr>
          </a:p>
        </p:txBody>
      </p:sp>
      <p:graphicFrame>
        <p:nvGraphicFramePr>
          <p:cNvPr id="410" name="Chart 1"/>
          <p:cNvGraphicFramePr/>
          <p:nvPr/>
        </p:nvGraphicFramePr>
        <p:xfrm>
          <a:off x="1554120" y="1981080"/>
          <a:ext cx="6181920" cy="429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1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1981080"/>
                    <a:ext cx="6181920" cy="42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P Penaltie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90360" y="220968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273240">
              <a:lnSpc>
                <a:spcPct val="12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Institutions must have a multiyear APR of 930 to avoid penalties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273240">
              <a:lnSpc>
                <a:spcPct val="12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273240">
              <a:lnSpc>
                <a:spcPct val="12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APP penalties are </a:t>
            </a:r>
            <a:r>
              <a:rPr b="0" lang="en-US" sz="2600" spc="-1" strike="noStrike" u="sng">
                <a:solidFill>
                  <a:srgbClr val="46464a"/>
                </a:solidFill>
                <a:uFillTx/>
                <a:latin typeface="Century Gothic"/>
              </a:rPr>
              <a:t>separate</a:t>
            </a: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 from eligibility for postseason competition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P Penalties Benchmark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762120" y="2742840"/>
            <a:ext cx="76197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66560" indent="-46656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Four-year APR of 930 or higher to avoid APP penaltie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Team subject to level two– or three- penalty can use improvement filter.  Improvement defined as two-year average APR of 950 in the two most recent years.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0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Level One Penaltie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85440" y="1676520"/>
            <a:ext cx="76201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  <a:ea typeface="Calibri"/>
              </a:rPr>
              <a:t>Reduce four hours and one day of countable athletically related activity (CARA) per week in-season. 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66560"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  <a:ea typeface="Calibri"/>
              </a:rPr>
              <a:t>Results in 16 hours per week rather than 20 hours; and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66560"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66560"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  <a:ea typeface="Calibri"/>
              </a:rPr>
              <a:t>Five days per week rather than six day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  <a:ea typeface="Calibri"/>
              </a:rPr>
              <a:t>Time replaced by academic activitie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4" marL="1114560" indent="-857520" algn="just">
              <a:lnSpc>
                <a:spcPct val="100000"/>
              </a:lnSpc>
              <a:spcBef>
                <a:spcPts val="400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17640" y="6091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Level Two Penaltie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85440" y="144756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a"/>
                </a:solidFill>
                <a:latin typeface="Century Gothic"/>
                <a:ea typeface="Calibri"/>
              </a:rPr>
              <a:t>Level Two Penalties Include: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4a"/>
                </a:solidFill>
                <a:latin typeface="Century Gothic"/>
                <a:ea typeface="Calibri"/>
              </a:rPr>
              <a:t>Level-One penalties (in-season); and</a:t>
            </a:r>
            <a:endParaRPr b="0" lang="en-US" sz="23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4a"/>
                </a:solidFill>
                <a:latin typeface="Century Gothic"/>
                <a:ea typeface="Calibri"/>
              </a:rPr>
              <a:t>Reduce four hours of CARA per week out-of-season. </a:t>
            </a:r>
            <a:endParaRPr b="0" lang="en-US" sz="23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4a"/>
                </a:solidFill>
                <a:latin typeface="Century Gothic"/>
                <a:ea typeface="Calibri"/>
              </a:rPr>
              <a:t>Results in four hours per week rather than eight hours; and </a:t>
            </a:r>
            <a:endParaRPr b="0" lang="en-US" sz="23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a"/>
              </a:solidFill>
              <a:latin typeface="Century Gothic"/>
            </a:endParaRPr>
          </a:p>
          <a:p>
            <a:pPr lvl="1" marL="1380960" indent="-466560"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4a"/>
                </a:solidFill>
                <a:latin typeface="Century Gothic"/>
                <a:ea typeface="Calibri"/>
              </a:rPr>
              <a:t>Time replaced by academic activities.</a:t>
            </a:r>
            <a:endParaRPr b="0" lang="en-US" sz="23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4a"/>
                </a:solidFill>
                <a:latin typeface="Century Gothic"/>
                <a:ea typeface="Calibri"/>
              </a:rPr>
              <a:t>Cancel nonchampionship season/spring football.</a:t>
            </a:r>
            <a:endParaRPr b="0" lang="en-US" sz="23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4a"/>
                </a:solidFill>
                <a:latin typeface="Century Gothic"/>
                <a:ea typeface="Calibri"/>
              </a:rPr>
              <a:t>For sports without nonchampionship season, 10 percent reduction in contests </a:t>
            </a:r>
            <a:r>
              <a:rPr b="0" lang="en-US" sz="2300" spc="-1" strike="noStrike" u="sng">
                <a:solidFill>
                  <a:srgbClr val="46464a"/>
                </a:solidFill>
                <a:uFillTx/>
                <a:latin typeface="Century Gothic"/>
                <a:ea typeface="Calibri"/>
              </a:rPr>
              <a:t>and</a:t>
            </a:r>
            <a:r>
              <a:rPr b="0" lang="en-US" sz="2300" spc="-1" strike="noStrike">
                <a:solidFill>
                  <a:srgbClr val="46464a"/>
                </a:solidFill>
                <a:latin typeface="Century Gothic"/>
                <a:ea typeface="Calibri"/>
              </a:rPr>
              <a:t> length of season. </a:t>
            </a:r>
            <a:endParaRPr b="0" lang="en-US" sz="23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buClr>
                <a:srgbClr val="81955b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 lvl="4" marL="1114560" indent="-857520" algn="just">
              <a:lnSpc>
                <a:spcPct val="90000"/>
              </a:lnSpc>
              <a:spcBef>
                <a:spcPts val="499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Level Three Penaltie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09480" y="15238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6464a"/>
                </a:solidFill>
                <a:latin typeface="Century Gothic"/>
                <a:ea typeface="Calibri"/>
              </a:rPr>
              <a:t>Level Three Penalties Include:</a:t>
            </a: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a"/>
                </a:solidFill>
                <a:latin typeface="Century Gothic"/>
                <a:ea typeface="Calibri"/>
              </a:rPr>
              <a:t>Level-One and Level-Two penalties; and</a:t>
            </a: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6464a"/>
                </a:solidFill>
                <a:latin typeface="Century Gothic"/>
                <a:ea typeface="Calibri"/>
              </a:rPr>
              <a:t>Menu Options May Include:</a:t>
            </a: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a"/>
                </a:solidFill>
                <a:latin typeface="Century Gothic"/>
                <a:ea typeface="Calibri"/>
              </a:rPr>
              <a:t>Financial aid penalties (any amount, any type).</a:t>
            </a: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a"/>
                </a:solidFill>
                <a:latin typeface="Century Gothic"/>
                <a:ea typeface="Calibri"/>
              </a:rPr>
              <a:t>Practice penalties (reduction of four hours/week and up).</a:t>
            </a: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a"/>
                </a:solidFill>
                <a:latin typeface="Century Gothic"/>
                <a:ea typeface="Calibri"/>
              </a:rPr>
              <a:t>Contest reductions (10 percent up to full season).</a:t>
            </a: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a"/>
                </a:solidFill>
                <a:latin typeface="Century Gothic"/>
                <a:ea typeface="Calibri"/>
              </a:rPr>
              <a:t>Restricted and corresponding membership.</a:t>
            </a: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a"/>
                </a:solidFill>
                <a:latin typeface="Century Gothic"/>
                <a:ea typeface="Calibri"/>
              </a:rPr>
              <a:t>Coach-specific penalties, including game restrictions,    recruiting restrictions.</a:t>
            </a: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a"/>
                </a:solidFill>
                <a:latin typeface="Century Gothic"/>
                <a:ea typeface="Calibri"/>
              </a:rPr>
              <a:t>Restricted access to practice for incoming student-athletes    that fall below predetermined academic standards. </a:t>
            </a: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a"/>
                </a:solidFill>
                <a:latin typeface="Century Gothic"/>
                <a:ea typeface="Calibri"/>
              </a:rPr>
              <a:t>Multiyear postseason competition ban.</a:t>
            </a: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 lvl="4" marL="1114560" indent="-857520" algn="just">
              <a:lnSpc>
                <a:spcPct val="80000"/>
              </a:lnSpc>
              <a:spcBef>
                <a:spcPts val="499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724280" y="2742840"/>
            <a:ext cx="3657600" cy="270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P Penalty and Postseason Waiver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P Waiver Directive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76212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6560" indent="-46656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First occasion postseason ineligibility requires extraordinary mitigation.  The Committee on Academics says this does NOT include: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6560" indent="-466560">
              <a:buClr>
                <a:srgbClr val="beae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7840"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Head coaching change;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7840">
              <a:buClr>
                <a:srgbClr val="beae98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7840"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ignificant leadership change at the institution;  or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7840">
              <a:buClr>
                <a:srgbClr val="beae98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7840"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Institutional reclassification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7840" algn="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7840" algn="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ont…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7840">
              <a:lnSpc>
                <a:spcPct val="120000"/>
              </a:lnSpc>
              <a:spcBef>
                <a:spcPts val="575"/>
              </a:spcBef>
              <a:spcAft>
                <a:spcPts val="601"/>
              </a:spcAft>
              <a:buClr>
                <a:srgbClr val="beae98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7840">
              <a:lnSpc>
                <a:spcPct val="120000"/>
              </a:lnSpc>
              <a:spcBef>
                <a:spcPts val="575"/>
              </a:spcBef>
              <a:spcAft>
                <a:spcPts val="601"/>
              </a:spcAft>
              <a:buClr>
                <a:srgbClr val="beae98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7840">
              <a:lnSpc>
                <a:spcPct val="90000"/>
              </a:lnSpc>
              <a:spcBef>
                <a:spcPts val="326"/>
              </a:spcBef>
              <a:buClr>
                <a:srgbClr val="6f6f74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P Waiver Directive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762120" y="17524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6560" indent="-466560">
              <a:lnSpc>
                <a:spcPct val="9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econd occasion postseason ineligibility and </a:t>
            </a:r>
            <a:r>
              <a:rPr b="1" lang="en-US" sz="2400" spc="-1" strike="noStrike">
                <a:solidFill>
                  <a:srgbClr val="46464a"/>
                </a:solidFill>
                <a:latin typeface="Century Gothic"/>
              </a:rPr>
              <a:t>ANY</a:t>
            </a: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 APP Penalty waiver considerations: 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6560" indent="-466560">
              <a:lnSpc>
                <a:spcPct val="90000"/>
              </a:lnSpc>
              <a:buClr>
                <a:srgbClr val="beae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919080" indent="-519120">
              <a:lnSpc>
                <a:spcPct val="90000"/>
              </a:lnSpc>
              <a:buClr>
                <a:srgbClr val="6f6f74"/>
              </a:buClr>
              <a:buSzPct val="76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The team's academic performance (improvement)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57200" indent="-457200">
              <a:lnSpc>
                <a:spcPct val="90000"/>
              </a:lnSpc>
              <a:buClr>
                <a:srgbClr val="6f6f74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919080" indent="-519120">
              <a:lnSpc>
                <a:spcPct val="90000"/>
              </a:lnSpc>
              <a:buClr>
                <a:srgbClr val="6f6f74"/>
              </a:buClr>
              <a:buSzPct val="76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Mitigation tied to team’s point los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57200" indent="-457200">
              <a:lnSpc>
                <a:spcPct val="90000"/>
              </a:lnSpc>
              <a:buClr>
                <a:srgbClr val="6f6f74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919080" indent="-519120">
              <a:lnSpc>
                <a:spcPct val="90000"/>
              </a:lnSpc>
              <a:buClr>
                <a:srgbClr val="6f6f74"/>
              </a:buClr>
              <a:buSzPct val="76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NCAA Division I Academic Progress Rate (APR) Improvement Plan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57200" indent="-457200" algn="just">
              <a:lnSpc>
                <a:spcPct val="90000"/>
              </a:lnSpc>
              <a:buClr>
                <a:srgbClr val="81955b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919080" indent="-519120">
              <a:lnSpc>
                <a:spcPct val="90000"/>
              </a:lnSpc>
              <a:buClr>
                <a:srgbClr val="6f6f74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An expectation the team can improve to 930 within a reasonable period of time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57200" indent="-457200">
              <a:lnSpc>
                <a:spcPct val="90000"/>
              </a:lnSpc>
              <a:buClr>
                <a:srgbClr val="6f6f7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cademic Reform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990720" y="21337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tudent-athlete accountability through increased academic-eligibility standards (2003)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Enhanced academic rates of measure, real-time rate and better graduation rate (2004)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Accountability through APP benchmark for postseason competition and penalties (2006; revised 2011)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6f74"/>
                </a:solidFill>
                <a:latin typeface="Century Gothic"/>
              </a:rPr>
              <a:t>APP Waivers/Appeals Process </a:t>
            </a:r>
            <a:endParaRPr b="0" lang="en-US" sz="36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762120" y="1523880"/>
            <a:ext cx="7696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Level-One APP Penalty and Postseason Competition: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Staff makes decision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Institution may appeal to the Subcommittee on Penalties and Appeals. 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If APP penalties, subcommittee reviews using documentation.  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If postseason, institution presents appeal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lvl="1" marL="466560" indent="-4665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  <a:ea typeface="Calibri"/>
              </a:rPr>
              <a:t>cont…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56633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buClr>
                <a:srgbClr val="81955b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lnSpc>
                <a:spcPct val="90000"/>
              </a:lnSpc>
              <a:buClr>
                <a:srgbClr val="beae98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6f74"/>
                </a:solidFill>
                <a:latin typeface="Century Gothic"/>
              </a:rPr>
              <a:t>APP Waivers/Appeals Process </a:t>
            </a:r>
            <a:endParaRPr b="0" lang="en-US" sz="36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06668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Level-Two APP Penalty and Postseason Competition: 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Staff makes decision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Institution may appeal to Subcommittee on Penalties and Appeals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Institution presents appeal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cont…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56633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56633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56633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56633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6f74"/>
                </a:solidFill>
                <a:latin typeface="Century Gothic"/>
              </a:rPr>
              <a:t>APP Waivers/Appeals Process </a:t>
            </a:r>
            <a:endParaRPr b="0" lang="en-US" sz="36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62120" y="17524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Level-Three APP Penalty and Postseason Competition: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All institutions must submit a waiver setting forth recommended penalties or request for relief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Staff makes initial recommendation (approval or partial approval, with or without conditions). 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If staff recommendation unacceptable, waiver forwarded to Committee on Academics for in-person hearing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56633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56633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buClr>
                <a:srgbClr val="56633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spcBef>
                <a:spcPts val="550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48320" y="1752480"/>
            <a:ext cx="3657600" cy="335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R Improvement Plan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6f74"/>
                </a:solidFill>
                <a:latin typeface="Century Gothic"/>
              </a:rPr>
              <a:t>APR Improvement Plans</a:t>
            </a:r>
            <a:endParaRPr b="0" lang="en-US" sz="36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85800" y="17524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APR Improvement Plans are meant to stimulate immediate improvements in team academic performance: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lvl="2" marL="457200" indent="-457200">
              <a:lnSpc>
                <a:spcPct val="11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Monitor and analyze each team's academic, retention and graduation performance;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457200" indent="-457200">
              <a:lnSpc>
                <a:spcPct val="11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lvl="2" marL="457200" indent="-457200">
              <a:lnSpc>
                <a:spcPct val="11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Identify critical issues impacting team’s academic performance;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2" marL="457200" indent="-457200">
              <a:lnSpc>
                <a:spcPct val="11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lvl="2" marL="457200" indent="-457200">
              <a:lnSpc>
                <a:spcPct val="11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Develop initiatives to address the team's critical issues.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spcBef>
                <a:spcPts val="575"/>
              </a:spcBef>
              <a:buClr>
                <a:srgbClr val="81955b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 marL="915840" indent="-514080" algn="just">
              <a:lnSpc>
                <a:spcPct val="90000"/>
              </a:lnSpc>
              <a:spcBef>
                <a:spcPts val="326"/>
              </a:spcBef>
              <a:buClr>
                <a:srgbClr val="81955b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 lvl="1" marL="915840" indent="-514080">
              <a:lnSpc>
                <a:spcPct val="90000"/>
              </a:lnSpc>
              <a:spcBef>
                <a:spcPts val="326"/>
              </a:spcBef>
              <a:buClr>
                <a:srgbClr val="6f6f74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f6f74"/>
                </a:solidFill>
                <a:latin typeface="Century Gothic"/>
              </a:rPr>
              <a:t>APR Improvement Plan Requirements</a:t>
            </a:r>
            <a:endParaRPr b="0" lang="en-US" sz="36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762120" y="16765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81955b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  <a:ea typeface="Calibri"/>
              </a:rPr>
              <a:t>Required for all teams under 930 multiyear APR.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  <a:ea typeface="Calibri"/>
              </a:rPr>
              <a:t>Must include element that assesses and evaluates team's academic admissions profiles and academic outcome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  <a:ea typeface="Calibri"/>
              </a:rPr>
              <a:t>Data analysis of team’s APR performance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  <a:ea typeface="Calibri"/>
              </a:rPr>
              <a:t>Broad-based campus participation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  <a:ea typeface="Calibri"/>
              </a:rPr>
              <a:t>Reviewed and approved by institution’s chancellor or president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  <a:ea typeface="Calibri"/>
              </a:rPr>
              <a:t>Submitted via online database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 algn="just">
              <a:buClr>
                <a:srgbClr val="81955b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343080" indent="-343080">
              <a:buClr>
                <a:srgbClr val="81955b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5840" indent="-514080" algn="just">
              <a:buClr>
                <a:srgbClr val="81955b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915840" indent="-514080">
              <a:buClr>
                <a:srgbClr val="6f6f74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P Resources</a:t>
            </a:r>
            <a:r>
              <a:rPr b="0" lang="en-US" sz="4000" spc="-1" strike="noStrike">
                <a:solidFill>
                  <a:srgbClr val="6f6f74"/>
                </a:solidFill>
                <a:latin typeface="Century Gothic"/>
              </a:rPr>
              <a:t>	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066320" y="228564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Data – Anne Rohlman </a:t>
            </a:r>
            <a:r>
              <a:rPr b="0" lang="en-US" sz="2400" spc="-1" strike="noStrike" u="sng">
                <a:solidFill>
                  <a:srgbClr val="67aabf"/>
                </a:solidFill>
                <a:uFillTx/>
                <a:latin typeface="Century Gothic"/>
                <a:hlinkClick r:id="rId1"/>
              </a:rPr>
              <a:t>arohlman@ncaa.org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Level One and Two penalties and loss of access to postseason competition and APR Improvement Plans - Katy Yurk </a:t>
            </a:r>
            <a:r>
              <a:rPr b="0" lang="en-US" sz="2400" spc="-1" strike="noStrike" u="sng">
                <a:solidFill>
                  <a:srgbClr val="67aabf"/>
                </a:solidFill>
                <a:uFillTx/>
                <a:latin typeface="Century Gothic"/>
                <a:hlinkClick r:id="rId2"/>
              </a:rPr>
              <a:t>kyurk@ncaa.org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6f6f74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Level Three penalties and loss of access to postseason competition – Andy Louthain </a:t>
            </a:r>
            <a:r>
              <a:rPr b="0" lang="en-US" sz="2400" spc="-1" strike="noStrike" u="sng">
                <a:solidFill>
                  <a:srgbClr val="67aabf"/>
                </a:solidFill>
                <a:uFillTx/>
                <a:latin typeface="Century Gothic"/>
                <a:hlinkClick r:id="rId3"/>
              </a:rPr>
              <a:t>alouthain@ncaa.org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15665"/>
                </a:solidFill>
                <a:latin typeface="Century Gothic"/>
              </a:rPr>
              <a:t>APP Table Hours</a:t>
            </a:r>
            <a:br>
              <a:rPr sz="4400"/>
            </a:br>
            <a:r>
              <a:rPr b="1" lang="en-US" sz="4400" spc="-1" strike="noStrike">
                <a:solidFill>
                  <a:srgbClr val="415665"/>
                </a:solidFill>
                <a:latin typeface="Century Gothic"/>
              </a:rPr>
              <a:t>Data/Waivers/Plans</a:t>
            </a:r>
            <a:endParaRPr b="0" lang="en-US" sz="44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09120" y="2666880"/>
            <a:ext cx="815364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15665"/>
                </a:solidFill>
                <a:latin typeface="Century Gothic"/>
              </a:rPr>
              <a:t>  </a:t>
            </a:r>
            <a:r>
              <a:rPr b="1" lang="en-US" sz="2400" spc="-1" strike="noStrike">
                <a:solidFill>
                  <a:srgbClr val="415665"/>
                </a:solidFill>
                <a:latin typeface="Century Gothic"/>
              </a:rPr>
              <a:t>Indianapolis Site: 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15665"/>
                </a:solidFill>
                <a:latin typeface="Century Gothic"/>
              </a:rPr>
              <a:t>Tuesday:  </a:t>
            </a:r>
            <a:r>
              <a:rPr b="0" lang="en-US" sz="2000" spc="-1" strike="noStrike">
                <a:solidFill>
                  <a:srgbClr val="415665"/>
                </a:solidFill>
                <a:latin typeface="Century Gothic"/>
              </a:rPr>
              <a:t>10:30 a.m. to 1 p.m. in Rooms 302 and 303 </a:t>
            </a:r>
            <a:r>
              <a:rPr b="0" lang="en-US" sz="1800" spc="-1" strike="noStrike">
                <a:solidFill>
                  <a:srgbClr val="415665"/>
                </a:solidFill>
                <a:latin typeface="Century Gothic"/>
              </a:rPr>
              <a:t>(3rd floor)</a:t>
            </a: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15665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415665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415665"/>
                </a:solidFill>
                <a:latin typeface="Century Gothic"/>
              </a:rPr>
              <a:t>4:45 to 5:45 p.m. in Rooms 302 and 303 </a:t>
            </a:r>
            <a:r>
              <a:rPr b="0" lang="en-US" sz="1800" spc="-1" strike="noStrike">
                <a:solidFill>
                  <a:srgbClr val="415665"/>
                </a:solidFill>
                <a:latin typeface="Century Gothic"/>
              </a:rPr>
              <a:t>(3rd floor)</a:t>
            </a: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15665"/>
                </a:solidFill>
                <a:latin typeface="Century Gothic"/>
              </a:rPr>
              <a:t>Wednesday:  </a:t>
            </a:r>
            <a:r>
              <a:rPr b="0" lang="en-US" sz="2000" spc="-1" strike="noStrike">
                <a:solidFill>
                  <a:srgbClr val="415665"/>
                </a:solidFill>
                <a:latin typeface="Century Gothic"/>
              </a:rPr>
              <a:t>11:30 a.m. to 1 p.m. in Rooms 305 and 306 </a:t>
            </a:r>
            <a:r>
              <a:rPr b="0" lang="en-US" sz="1800" spc="-1" strike="noStrike">
                <a:solidFill>
                  <a:srgbClr val="415665"/>
                </a:solidFill>
                <a:latin typeface="Century Gothic"/>
              </a:rPr>
              <a:t>(3rd</a:t>
            </a:r>
            <a:r>
              <a:rPr b="0" lang="en-US" sz="1800" spc="-1" strike="noStrike" baseline="30000">
                <a:solidFill>
                  <a:srgbClr val="415665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415665"/>
                </a:solidFill>
                <a:latin typeface="Century Gothic"/>
              </a:rPr>
              <a:t>floor)</a:t>
            </a: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15665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15665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415665"/>
                </a:solidFill>
                <a:latin typeface="Century Gothic"/>
              </a:rPr>
              <a:t>   </a:t>
            </a:r>
            <a:r>
              <a:rPr b="0" lang="en-US" sz="2000" spc="-1" strike="noStrike">
                <a:solidFill>
                  <a:srgbClr val="415665"/>
                </a:solidFill>
                <a:latin typeface="Century Gothic"/>
              </a:rPr>
              <a:t>4:45 to 6:45 p.m. in Rooms 305 and 306</a:t>
            </a:r>
            <a:r>
              <a:rPr b="0" lang="en-US" sz="1600" spc="-1" strike="noStrike">
                <a:solidFill>
                  <a:srgbClr val="415665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415665"/>
                </a:solidFill>
                <a:latin typeface="Century Gothic"/>
              </a:rPr>
              <a:t>(3rd floor)</a:t>
            </a: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5665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415665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415665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15665"/>
                </a:solidFill>
                <a:latin typeface="Century Gothic"/>
              </a:rPr>
              <a:t>APP Table Hours</a:t>
            </a:r>
            <a:br>
              <a:rPr sz="4400"/>
            </a:br>
            <a:r>
              <a:rPr b="1" lang="en-US" sz="4400" spc="-1" strike="noStrike">
                <a:solidFill>
                  <a:srgbClr val="415665"/>
                </a:solidFill>
                <a:latin typeface="Century Gothic"/>
              </a:rPr>
              <a:t>Data/Waivers/Plans</a:t>
            </a:r>
            <a:endParaRPr b="0" lang="en-US" sz="44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838080" y="2742840"/>
            <a:ext cx="73915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5665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415665"/>
                </a:solidFill>
                <a:latin typeface="Century Gothic"/>
              </a:rPr>
              <a:t>Denver Site: 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15665"/>
                </a:solidFill>
                <a:latin typeface="Century Gothic"/>
              </a:rPr>
              <a:t>Tuesday:   </a:t>
            </a:r>
            <a:r>
              <a:rPr b="1" lang="en-US" sz="1900" spc="-1" strike="noStrike">
                <a:solidFill>
                  <a:srgbClr val="415665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415665"/>
                </a:solidFill>
                <a:latin typeface="Century Gothic"/>
              </a:rPr>
              <a:t>10:30 a.m. to 1 p.m. in Capitol 3 Room</a:t>
            </a: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15665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415665"/>
                </a:solidFill>
                <a:latin typeface="Century Gothic"/>
              </a:rPr>
              <a:t>4:45 to 5:45 p.m. in Capitol 3 Room</a:t>
            </a: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15665"/>
                </a:solidFill>
                <a:latin typeface="Century Gothic"/>
              </a:rPr>
              <a:t>Wednesday: </a:t>
            </a:r>
            <a:r>
              <a:rPr b="1" lang="en-US" sz="1400" spc="-1" strike="noStrike">
                <a:solidFill>
                  <a:srgbClr val="415665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415665"/>
                </a:solidFill>
                <a:latin typeface="Century Gothic"/>
              </a:rPr>
              <a:t>11:30 a.m. to 1 p.m. in Capitol 3 Room</a:t>
            </a: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15665"/>
                </a:solidFill>
                <a:latin typeface="Century Gothic"/>
              </a:rPr>
              <a:t>	</a:t>
            </a: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15665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415665"/>
                </a:solidFill>
                <a:latin typeface="Century Gothic"/>
              </a:rPr>
              <a:t>4:45 to 6:45 p.m. in Capitol 3 Room</a:t>
            </a:r>
            <a:endParaRPr b="0" lang="en-US" sz="22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15665"/>
                </a:solidFill>
                <a:latin typeface="Century Gothic"/>
              </a:rPr>
              <a:t>	</a:t>
            </a:r>
            <a:r>
              <a:rPr b="1" lang="en-US" sz="1500" spc="-1" strike="noStrike">
                <a:solidFill>
                  <a:srgbClr val="415665"/>
                </a:solidFill>
                <a:latin typeface="Century Gothic"/>
              </a:rPr>
              <a:t>	</a:t>
            </a:r>
            <a:r>
              <a:rPr b="1" lang="en-US" sz="1500" spc="-1" strike="noStrike">
                <a:solidFill>
                  <a:srgbClr val="415665"/>
                </a:solidFill>
                <a:latin typeface="Century Gothic"/>
              </a:rPr>
              <a:t>	</a:t>
            </a:r>
            <a:endParaRPr b="0" lang="en-US" sz="1500" spc="-1" strike="noStrike">
              <a:solidFill>
                <a:srgbClr val="46464a"/>
              </a:solidFill>
              <a:latin typeface="Century Gothic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723920" y="304776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f6f74"/>
                </a:solidFill>
                <a:latin typeface="Century Gothic"/>
              </a:rPr>
              <a:t>Thank you for attending</a:t>
            </a:r>
            <a:endParaRPr b="0" lang="en-US" sz="3600" spc="-1" strike="noStrike">
              <a:solidFill>
                <a:srgbClr val="6f6f74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f6f74"/>
                </a:solidFill>
                <a:latin typeface="Century Gothic"/>
              </a:rPr>
              <a:t>APP</a:t>
            </a:r>
            <a:endParaRPr b="0" lang="en-US" sz="38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14400" y="17524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lnSpc>
                <a:spcPct val="8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Ensure the Division I membership is dedicated to providing student-athletes: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lnSpc>
                <a:spcPct val="80000"/>
              </a:lnSpc>
              <a:buClr>
                <a:srgbClr val="beae98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lnSpc>
                <a:spcPct val="80000"/>
              </a:lnSpc>
              <a:spcBef>
                <a:spcPts val="374"/>
              </a:spcBef>
              <a:buClr>
                <a:srgbClr val="6f6f7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Exemplary educational and intercollegiate athletics experiences in an environment that recognizes and supports the academic mission of member institutions while enhancing ability to earn a four-year degree.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lvl="1" marL="914400" indent="-449280">
              <a:lnSpc>
                <a:spcPct val="80000"/>
              </a:lnSpc>
              <a:spcBef>
                <a:spcPts val="374"/>
              </a:spcBef>
              <a:buClr>
                <a:srgbClr val="6f6f74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lnSpc>
                <a:spcPct val="8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a"/>
                </a:solidFill>
                <a:latin typeface="Century Gothic"/>
              </a:rPr>
              <a:t>Serve as an academic point of access to postseason competition.  </a:t>
            </a:r>
            <a:endParaRPr b="0" lang="en-US" sz="26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 algn="r">
              <a:lnSpc>
                <a:spcPct val="80000"/>
              </a:lnSpc>
              <a:buClr>
                <a:srgbClr val="beae98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a"/>
                </a:solidFill>
                <a:latin typeface="Century Gothic"/>
              </a:rPr>
              <a:t>Bylaws 14.01.4 and 14.8</a:t>
            </a:r>
            <a:r>
              <a:rPr b="1" lang="en-US" sz="1700" spc="-1" strike="noStrike">
                <a:solidFill>
                  <a:srgbClr val="46464a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lnSpc>
                <a:spcPct val="80000"/>
              </a:lnSpc>
              <a:buClr>
                <a:srgbClr val="beae98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Committee on Academic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38080" y="1980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Duties: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lnSpc>
                <a:spcPct val="9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Administrative body and oversight of academics including APP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lnSpc>
                <a:spcPct val="90000"/>
              </a:lnSpc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lnSpc>
                <a:spcPct val="90000"/>
              </a:lnSpc>
              <a:buClr>
                <a:srgbClr val="6f6f7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Oversee data collection proces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lnSpc>
                <a:spcPct val="90000"/>
              </a:lnSpc>
              <a:buClr>
                <a:srgbClr val="6f6f7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lnSpc>
                <a:spcPct val="90000"/>
              </a:lnSpc>
              <a:buClr>
                <a:srgbClr val="6f6f7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Identify APP "cut" line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lnSpc>
                <a:spcPct val="90000"/>
              </a:lnSpc>
              <a:buClr>
                <a:srgbClr val="6f6f7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lnSpc>
                <a:spcPct val="90000"/>
              </a:lnSpc>
              <a:buClr>
                <a:srgbClr val="6f6f7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Provide interpretations of APP legislation and policies. 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a"/>
                </a:solidFill>
                <a:latin typeface="Century Gothic"/>
              </a:rPr>
              <a:t>Bylaw 14.8</a:t>
            </a: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lnSpc>
                <a:spcPct val="90000"/>
              </a:lnSpc>
              <a:buClr>
                <a:srgbClr val="6f6f7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Committee on Academics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37720" y="2057400"/>
            <a:ext cx="7435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a"/>
                </a:solidFill>
                <a:latin typeface="Century Gothic"/>
              </a:rPr>
              <a:t>Duties (continued):</a:t>
            </a:r>
            <a:endParaRPr b="0" lang="en-US" sz="21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lnSpc>
                <a:spcPct val="80000"/>
              </a:lnSpc>
              <a:buClr>
                <a:srgbClr val="beae98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a"/>
                </a:solidFill>
                <a:latin typeface="Century Gothic"/>
              </a:rPr>
              <a:t>Communicate annual APP rates [Academic Progress Rate (APR) and Graduation Success Rate (GSR)].</a:t>
            </a:r>
            <a:endParaRPr b="0" lang="en-US" sz="21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a"/>
                </a:solidFill>
                <a:latin typeface="Century Gothic"/>
              </a:rPr>
              <a:t>Identify teams that demonstrate academic excellence. </a:t>
            </a:r>
            <a:endParaRPr b="0" lang="en-US" sz="21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a"/>
                </a:solidFill>
                <a:latin typeface="Century Gothic"/>
              </a:rPr>
              <a:t>Serve as the appellate body for APP policies and penalties. </a:t>
            </a:r>
            <a:endParaRPr b="0" lang="en-US" sz="21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 algn="r">
              <a:lnSpc>
                <a:spcPct val="80000"/>
              </a:lnSpc>
              <a:spcBef>
                <a:spcPts val="374"/>
              </a:spcBef>
              <a:buClr>
                <a:srgbClr val="81955b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a"/>
                </a:solidFill>
                <a:latin typeface="Century Gothic"/>
              </a:rPr>
              <a:t>Bylaw 14.8</a:t>
            </a: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  <a:p>
            <a:pPr>
              <a:lnSpc>
                <a:spcPct val="80000"/>
              </a:lnSpc>
              <a:buClr>
                <a:srgbClr val="beae98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3612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APP Data Collection 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990360" y="2514600"/>
            <a:ext cx="735948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GSR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Academic Performance Census (APC)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NCAA Division I Academic Progress Rate (APR)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465120" indent="-465120">
              <a:buClr>
                <a:srgbClr val="81955b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619760" cy="6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6f74"/>
                </a:solidFill>
                <a:latin typeface="Century Gothic"/>
              </a:rPr>
              <a:t>GSR</a:t>
            </a:r>
            <a:endParaRPr b="0" lang="en-US" sz="4000" spc="-1" strike="noStrike">
              <a:solidFill>
                <a:srgbClr val="6f6f74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762120" y="15235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More specific than Federal Graduation Rate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Includes transfers into an institution and  midyear enrollees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Removes student-athletes who withdraw and would have been academically eligible to compete the next term had they returned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lvl="1" marL="465120" indent="-465120">
              <a:buClr>
                <a:srgbClr val="6f6f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a"/>
                </a:solidFill>
                <a:latin typeface="Century Gothic"/>
              </a:rPr>
              <a:t>Calculated for every sport.</a:t>
            </a: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  <a:p>
            <a:pPr marL="109440">
              <a:buClr>
                <a:srgbClr val="beae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22:10:50Z</dcterms:created>
  <dc:creator>Yurk, Kathryn</dc:creator>
  <dc:description/>
  <dc:language>en-US</dc:language>
  <cp:lastModifiedBy>Stephens, DeAnna</cp:lastModifiedBy>
  <cp:lastPrinted>2015-04-17T19:44:13Z</cp:lastPrinted>
  <dcterms:modified xsi:type="dcterms:W3CDTF">2015-04-17T20:00:54Z</dcterms:modified>
  <cp:revision>171</cp:revision>
  <dc:subject/>
  <dc:title>Academic Performance Program Overview – A Fundamental Introduction 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cademic/Fiscal Year">
    <vt:lpwstr>n/a</vt:lpwstr>
  </property>
  <property fmtid="{D5CDD505-2E9C-101B-9397-08002B2CF9AE}" pid="3" name="Championship">
    <vt:lpwstr/>
  </property>
  <property fmtid="{D5CDD505-2E9C-101B-9397-08002B2CF9AE}" pid="4" name="Committee">
    <vt:lpwstr/>
  </property>
  <property fmtid="{D5CDD505-2E9C-101B-9397-08002B2CF9AE}" pid="5" name="Division">
    <vt:lpwstr/>
  </property>
  <property fmtid="{D5CDD505-2E9C-101B-9397-08002B2CF9AE}" pid="6" name="Document Type0">
    <vt:lpwstr/>
  </property>
</Properties>
</file>