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98C0-2101-46BB-BECF-8442BE783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544B-403F-417E-839F-BDA3E2889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6AEF-FC57-4539-92A6-9FE7B7EE9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EE6C-CB9E-4ACA-9139-93E91D8C3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4BB9-432B-4B9B-83B7-6F1D888F87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41F1-BF64-4A24-8C9E-C9D2BBB54A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6353-B9D7-4417-B429-4490F0E26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C279-2787-4E29-9954-0E1B42E25F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B15-B592-483C-B02B-AB48A3AC2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81C3-CED8-4A2D-A212-DB1C0373A0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A360-7CB5-4742-9959-37596FC977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9548-D227-44FE-B386-D581AC867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E1B6-4B97-4A62-9CF6-E2F78DD49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6FFB-A01F-40C3-8C80-51901DC5C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E161-85EE-4BE7-9AB1-7AF8F65134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68B1-AFEF-4225-B002-329489E69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862D-19F2-4BFA-B03E-65CFF75798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0F9F-0F8D-4571-8BE5-C34CF8792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B042-840E-4624-BF61-11207A8A7F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78D-1559-4BFC-8F96-9BB9DAC090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0C64-3147-47F7-8F12-5C3E0E8FA6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CBA8-24D7-4E86-B8CD-343DA81112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FE1A-C192-4810-AD34-09FDB89D05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7077-A0D9-4E0A-9D39-4606FD28B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AE38-8653-482C-8719-7E7482F6C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9-10: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-11: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12: 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-13:   13 (first postseason year used APR benchmark to access postseaso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3-14: 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4-15:  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132D-EE72-4E74-BF73-15D2A54B3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5B79-B08B-4152-AACF-3AB9964BF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77F7-6D1E-4288-8BCC-5F286460E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DF4-D164-494A-A22B-A72AEAEBC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38C3-B780-4E5B-A9F0-142E193F7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B253-9E02-4F15-BEDF-D5C389656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6C81-C1F9-4B88-966C-87E72C5B82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9FA3-B049-4176-A8CB-41492B3E0B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1965-04D9-440E-8C1D-41E8923A3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6AEF-DA0E-4C79-AD9E-1AFE5D7A1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58C7-742B-4852-9B1D-A9C9344C32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ED60-954F-4576-9BDC-4576C48B5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EC4C-4ED1-4D06-9CC5-6D6DEC7A7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2D6A-E4EE-4E16-8E3C-FC5709E2D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3B11-62AD-4A50-9793-C1E0B14715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121D-14B9-4746-B8E5-FC660EE4F4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3F02-5AD1-40C4-8A44-9DAD7D09F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B10C-BC28-48BF-A4FF-06E0328735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F863-C31B-4D48-9545-AE139A54C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D79D-072F-44DC-BB0D-9D17A70F6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D6F8-E3F2-4857-881A-1AF60263D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FCE9-F6A8-4654-9B05-2AFD3595F6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3A6-2E15-4480-BE4D-97C24FCF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680-F420-4554-89F2-0916BD18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EDD-F166-4A5E-BF73-7D4091AC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281-5F2C-4DD1-80B1-194C9393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914B-7F73-4E47-91A4-A83C47B7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8F1C-E9D1-4494-8FDE-C0ED6098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6BD7-DEC4-4C82-A752-B3B176C1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66CD-08F8-429E-9F90-1BDC5939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492-8C6B-40AE-B864-043A6955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87D1-8DD1-422E-95C4-D69A9D74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1219-29B5-4D3E-820D-D4F3BB0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CB2-A0AC-436E-A75E-3DC0FF7E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1BE4-F882-4C47-A5A2-EEA6E1A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C5B3-6EFE-4C03-817F-6BC914E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D342-6C78-46A7-A4BD-0937F3BF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F10F-813F-4364-A114-B4B9454F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E3DC-112E-4CE4-BF03-3FA3C37D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88C29-EAEF-4279-9968-AE6070D0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E040B-910B-4C35-A919-985B7E7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099A4-89B0-4341-A496-79E765A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3BF30-9209-47A5-99C8-B07EFF67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136FC-62E1-46F7-A846-0B2B37B4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F5F-C766-48AE-931C-EE83BADE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80F86-ACAE-46D5-8135-90655E9D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2B42E-4BFF-425B-ABFF-C47C2E0E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28427-103F-4E6A-8750-4D2DF8F0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DD7A2-5F72-4DEA-8113-53E6C51A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B6616-EA69-4CCA-8EE9-06D869A0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CE3C3-675A-42A1-B9B7-AAED0C3C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E49A2-D2A1-40C6-BF7A-09AF8F0B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95F32-6F20-4B20-A826-A9D3DDB2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3D0A-CC54-40F8-82F9-B917FC00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0FE4-9FEE-4FE5-8D78-61C1DCC4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8D5-059B-43FB-A70E-4873C50C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C963-72BD-41A8-970F-97768F61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8ABD2-3B02-4D5B-B550-C4FA2F7D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FCCB5-60EA-4BB9-AB1C-D5B12139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1E75-098B-48EE-B6C0-6D5A8E44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90CB-B6AC-4E76-AF43-26AAEC50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C2A9-7052-4CEB-A97D-97F197F1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83A4-A51A-40DF-B9C5-B8103897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2FBB4-5759-4C6E-8828-090FF56B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FDBCA-4C95-4394-A5F8-8EC1B033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D48-2165-4029-B336-0A059EEA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15B-1C8A-4EF3-A5E4-AD5F0167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AA9-9D9E-4105-81EE-810DE089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448-AF68-4AB9-8A69-4601EE2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BD4-86FF-467B-95F0-E73D5321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cfbd"/>
            </a:gs>
            <a:gs pos="100000">
              <a:srgbClr val="8e85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897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7b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654D-C81E-46D6-B910-9EB5ECC61D7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cfbd"/>
            </a:gs>
            <a:gs pos="100000">
              <a:srgbClr val="8e85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897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a7b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6f7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D496-9B6F-4037-AC0E-B98C18C97759}" type="slidenum">
              <a:rPr b="0" lang="en-US" sz="1200" spc="-1" strike="noStrike">
                <a:solidFill>
                  <a:srgbClr val="6f6f7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cfbd"/>
            </a:gs>
            <a:gs pos="100000">
              <a:srgbClr val="8e85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897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7b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576E-89BC-41AF-8374-426B150194A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cfbd"/>
            </a:gs>
            <a:gs pos="100000">
              <a:srgbClr val="8e85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897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7b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F833-EC3D-4707-9EE0-77B034E9F73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arohlman@ncaa.org" TargetMode="External"/><Relationship Id="rId2" Type="http://schemas.openxmlformats.org/officeDocument/2006/relationships/hyperlink" Target="mailto:kyurk@ncaa.org" TargetMode="External"/><Relationship Id="rId3" Type="http://schemas.openxmlformats.org/officeDocument/2006/relationships/hyperlink" Target="mailto:alouthain@ncaa.org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Division I </a:t>
            </a:r>
            <a:br>
              <a:rPr sz="4000"/>
            </a:b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cademic Performance Program/ Overview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171840" y="4647960"/>
            <a:ext cx="213372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42"/>
                </a:solidFill>
                <a:latin typeface="Century Gothic"/>
              </a:rPr>
              <a:t>Eric Brey</a:t>
            </a:r>
            <a:endParaRPr b="0" lang="en-US" sz="2800" spc="-1" strike="noStrike">
              <a:solidFill>
                <a:srgbClr val="46464a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42"/>
                </a:solidFill>
                <a:latin typeface="Century Gothic"/>
              </a:rPr>
              <a:t>Katy Yurk</a:t>
            </a:r>
            <a:endParaRPr b="0" lang="en-US" sz="28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Content Pages v2"/>
          <p:cNvPicPr/>
          <p:nvPr/>
        </p:nvPicPr>
        <p:blipFill>
          <a:blip r:embed="rId1"/>
          <a:stretch/>
        </p:blipFill>
        <p:spPr>
          <a:xfrm>
            <a:off x="457200" y="2001960"/>
            <a:ext cx="8229600" cy="4551120"/>
          </a:xfrm>
          <a:prstGeom prst="rect">
            <a:avLst/>
          </a:prstGeom>
          <a:ln w="0">
            <a:noFill/>
          </a:ln>
        </p:spPr>
      </p:pic>
      <p:pic>
        <p:nvPicPr>
          <p:cNvPr id="360" name="Chart 2" descr=""/>
          <p:cNvPicPr/>
          <p:nvPr/>
        </p:nvPicPr>
        <p:blipFill>
          <a:blip r:embed="rId2"/>
          <a:stretch/>
        </p:blipFill>
        <p:spPr>
          <a:xfrm>
            <a:off x="736560" y="1981080"/>
            <a:ext cx="7899480" cy="48261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4343400" y="4948200"/>
            <a:ext cx="27432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Total New Grads from 1995 – 2007:  </a:t>
            </a:r>
            <a:r>
              <a:rPr b="1" lang="en-US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13,805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umber of Real Graduates Sinc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995 vs. Number who Would Have Graduated with No Increase in GSR</a:t>
            </a:r>
            <a:endParaRPr b="0" lang="en-US" sz="28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nual GSRs of All Student-Athletes at Division I Institutions Overall and by Gender</a:t>
            </a:r>
            <a:endParaRPr b="0" lang="en-US" sz="3200" spc="-1" strike="noStrike">
              <a:solidFill>
                <a:srgbClr val="6f6f74"/>
              </a:solidFill>
              <a:latin typeface="Century Gothic"/>
            </a:endParaRPr>
          </a:p>
        </p:txBody>
      </p:sp>
      <p:grpSp>
        <p:nvGrpSpPr>
          <p:cNvPr id="364" name="Group 1"/>
          <p:cNvGrpSpPr/>
          <p:nvPr/>
        </p:nvGrpSpPr>
        <p:grpSpPr>
          <a:xfrm>
            <a:off x="457200" y="2209680"/>
            <a:ext cx="8305920" cy="4343400"/>
            <a:chOff x="457200" y="2209680"/>
            <a:chExt cx="8305920" cy="4343400"/>
          </a:xfrm>
        </p:grpSpPr>
        <p:pic>
          <p:nvPicPr>
            <p:cNvPr id="365" name="Picture 6" descr="Content Pages v2"/>
            <p:cNvPicPr/>
            <p:nvPr/>
          </p:nvPicPr>
          <p:blipFill>
            <a:blip r:embed="rId1"/>
            <a:stretch/>
          </p:blipFill>
          <p:spPr>
            <a:xfrm>
              <a:off x="457200" y="2209680"/>
              <a:ext cx="8232120" cy="4343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66" name="Object 4"/>
            <p:cNvGraphicFramePr/>
            <p:nvPr/>
          </p:nvGraphicFramePr>
          <p:xfrm>
            <a:off x="670680" y="2287800"/>
            <a:ext cx="8092440" cy="42422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367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0680" y="2287800"/>
                      <a:ext cx="8092440" cy="424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f6f74"/>
                </a:solidFill>
                <a:latin typeface="Century Gothic"/>
              </a:rPr>
              <a:t>APC</a:t>
            </a:r>
            <a:endParaRPr b="0" lang="en-US" sz="38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2120" y="14479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nnual compilation of academic performance variables (e.g., credit hours, grade-point average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cademic data used for NCAA research purposes. 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944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Data informs academic policies. 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944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ubmitted online using the APP Data Collection Program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944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llected in fall term with APR data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8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374"/>
              </a:spcBef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Real-time rate, calculated term-by-term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374"/>
              </a:spcBef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374"/>
              </a:spcBef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cludes all student-athletes on a team in a given year (as opposed to entering class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1379520" indent="-465120">
              <a:lnSpc>
                <a:spcPct val="90000"/>
              </a:lnSpc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cludes student-athletes receiving athletically related financial aid; or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1379520" indent="-465120">
              <a:lnSpc>
                <a:spcPct val="90000"/>
              </a:lnSpc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1379520" indent="-465120">
              <a:lnSpc>
                <a:spcPct val="90000"/>
              </a:lnSpc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r nonscholarship programs/teams, a subset of recruited student-athlet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1379520" indent="-46512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52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Points awarded for eligibility/graduation and retenti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otaled over most recent four years (cohort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Used in analysis for eligibility for postseason competition, APP penalties and public recognition of top academically performing team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 algn="just">
              <a:lnSpc>
                <a:spcPct val="90000"/>
              </a:lnSpc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 algn="just"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Due Dat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377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GSR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5760" indent="-455760">
              <a:lnSpc>
                <a:spcPct val="80000"/>
              </a:lnSpc>
              <a:spcBef>
                <a:spcPts val="300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June 1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5760" indent="-45576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PR and APC: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5760" indent="-455760">
              <a:lnSpc>
                <a:spcPct val="80000"/>
              </a:lnSpc>
              <a:spcBef>
                <a:spcPts val="300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 weeks (</a:t>
            </a:r>
            <a:r>
              <a:rPr b="1" lang="en-US" sz="2400" spc="-1" strike="noStrike">
                <a:solidFill>
                  <a:srgbClr val="46464a"/>
                </a:solidFill>
                <a:latin typeface="Century Gothic"/>
              </a:rPr>
              <a:t>42 calendar days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) following the member institution’s first day of classes for the fall term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451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ailure to submit results in an institution being declared ineligible for postseason competition, including NCAA championships and bowl gam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7024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Timeline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731880" y="2054160"/>
            <a:ext cx="78026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5438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Calculation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6176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wo available points each academic term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Eligibility "E" point = student-athlete meets academic eligibility standards </a:t>
            </a:r>
            <a:r>
              <a:rPr b="1" lang="en-US" sz="2200" spc="-1" strike="noStrike">
                <a:solidFill>
                  <a:srgbClr val="0070c0"/>
                </a:solidFill>
                <a:latin typeface="Century Gothic"/>
              </a:rPr>
              <a:t>as of the end of the academic term</a:t>
            </a:r>
            <a:r>
              <a:rPr b="0" lang="en-US" sz="2200" spc="-1" strike="noStrike">
                <a:solidFill>
                  <a:srgbClr val="0070c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Retention "R" point = student-athlete is enrolled full-time as of the census date or the fifth week of classes </a:t>
            </a:r>
            <a:r>
              <a:rPr b="1" lang="en-US" sz="2200" spc="-1" strike="noStrike">
                <a:solidFill>
                  <a:srgbClr val="0070c0"/>
                </a:solidFill>
                <a:latin typeface="Century Gothic"/>
              </a:rPr>
              <a:t>of the next term</a:t>
            </a: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	</a:t>
            </a:r>
            <a:r>
              <a:rPr b="0" lang="en-US" sz="2400" spc="-1" strike="noStrike" u="sng">
                <a:solidFill>
                  <a:srgbClr val="46464a"/>
                </a:solidFill>
                <a:uFillTx/>
                <a:latin typeface="Century Gothic"/>
              </a:rPr>
              <a:t>Number of points earned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46464a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Number of points possible   x  1,000  =  APR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 algn="just"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Delayed-Graduation Point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2120" y="207288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Point awarded in the term the former student-athlete graduates (1/0)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Restores lost APR "E" or "R" point from last term student-athlete was in the cohort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spcBef>
                <a:spcPts val="575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Delayed-graduation points awarded for any academic year cohort that comprise the multiyear APR cohort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Delayed-Graduation Point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440" y="20574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a"/>
                </a:solidFill>
                <a:latin typeface="Century Gothic"/>
              </a:rPr>
              <a:t>Criteria/Directive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480">
              <a:lnSpc>
                <a:spcPct val="6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Student-athlete graduates from your institution in any year making up the four-year APR cohort.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Student-athlete was not included in the team's APR cohort in the term in which he or she graduated from your institution.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Student-athlete lost the "E" or "R" point in his or her last term in the APR cohort; or would have lost a point if the student-athlete departed prior to the implementation of the APR in 2003-04.    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296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Learning Objectiv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90720" y="22096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Overview of the NCAA Division I Academic Performance Program (APP)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Explain basic APP policies and procedures.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pply directives to basic fact scenario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nalyze APP data.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Example APR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520" y="13716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Multiyear Rate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00040" y="2133720"/>
          <a:ext cx="8153280" cy="4154400"/>
        </p:xfrm>
        <a:graphic>
          <a:graphicData uri="http://schemas.openxmlformats.org/drawingml/2006/table">
            <a:tbl>
              <a:tblPr/>
              <a:tblGrid>
                <a:gridCol w="2484360"/>
                <a:gridCol w="1096920"/>
                <a:gridCol w="1067040"/>
                <a:gridCol w="1066680"/>
                <a:gridCol w="1066680"/>
                <a:gridCol w="1371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ulti-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72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am’s single-year A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883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umber of delayed graduat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75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igibilit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/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/24 (9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/24 (1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/18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3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2/88 (9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87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ten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/22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/24 (9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/24 (1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/18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8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3/88 (9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Adjustment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22093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Discount lost APR point(s) for a term or terms from the denominator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spcBef>
                <a:spcPts val="575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May request adjustment to lost "E" point, lost "R" point or both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spcBef>
                <a:spcPts val="575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spcBef>
                <a:spcPts val="575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Requests are based on mitigation affecting individual student-athlete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Automatic Adjustment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6504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Transfer to another </a:t>
            </a:r>
            <a:r>
              <a:rPr b="0" lang="en-US" sz="2600" spc="-1" strike="noStrike" u="sng">
                <a:solidFill>
                  <a:srgbClr val="46464a"/>
                </a:solidFill>
                <a:uFillTx/>
                <a:latin typeface="Century Gothic"/>
              </a:rPr>
              <a:t>four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-year institution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2" marL="1378080" indent="-457200">
              <a:lnSpc>
                <a:spcPct val="110000"/>
              </a:lnSpc>
              <a:buClr>
                <a:srgbClr val="6f6f74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2.600 grade-point average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Professional athletics departure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4" marL="1333440" indent="-457200">
              <a:lnSpc>
                <a:spcPct val="110000"/>
              </a:lnSpc>
              <a:buClr>
                <a:srgbClr val="6f6f74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Earned eligibility point during last term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Medical-absence waiver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Missed-term exception.</a:t>
            </a:r>
            <a:br>
              <a:rPr sz="2600"/>
            </a:b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Documentation is maintained on campu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4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djustment Review Proces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316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Guiding Principles/</a:t>
            </a:r>
            <a:r>
              <a:rPr b="1" lang="en-US" sz="2600" spc="-1" strike="noStrike">
                <a:solidFill>
                  <a:srgbClr val="46464a"/>
                </a:solidFill>
                <a:latin typeface="Century Gothic"/>
              </a:rPr>
              <a:t>Directive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: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ircumstances surrounding individual student-athlet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ircumstances beyond the control of the student-athlete and/or team/instituti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temporaneous documentation to support  mitigation?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Decisions/Appeals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14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itial decision by staff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ppeals to the NCAA Division I Committee on Academics Subcommittee on Data Collection and Reporting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Example Adjustment Calculation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en’s Golf Team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62120" y="1600200"/>
          <a:ext cx="7619760" cy="4805280"/>
        </p:xfrm>
        <a:graphic>
          <a:graphicData uri="http://schemas.openxmlformats.org/drawingml/2006/table">
            <a:tbl>
              <a:tblPr/>
              <a:tblGrid>
                <a:gridCol w="457200"/>
                <a:gridCol w="1295280"/>
                <a:gridCol w="2514600"/>
                <a:gridCol w="2513160"/>
                <a:gridCol w="8395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m Me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all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pring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int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ack 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ger 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lter 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n 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No / R – 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ary 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m 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bby J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No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nold 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ne 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No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Example Adjustment Calculation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3712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djustment request for lost R point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lnSpc>
                <a:spcPct val="11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Was the mitigation outside the control of the student-athlete and/or team/institution?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s there contemporaneous documentation to support the mitigation?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762120" y="1905120"/>
          <a:ext cx="7696080" cy="1006200"/>
        </p:xfrm>
        <a:graphic>
          <a:graphicData uri="http://schemas.openxmlformats.org/drawingml/2006/table">
            <a:tbl>
              <a:tblPr/>
              <a:tblGrid>
                <a:gridCol w="1523880"/>
                <a:gridCol w="2590920"/>
                <a:gridCol w="251460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m Me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all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pring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int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lter 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- Yes/R-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-Yes/R-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f6f74"/>
                </a:solidFill>
                <a:latin typeface="Century Gothic"/>
              </a:rPr>
              <a:t>Example Adjustment Calculation</a:t>
            </a:r>
            <a:endParaRPr b="0" lang="en-US" sz="39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828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djusted APR calculation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6464a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a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ngle Year APR      </a:t>
            </a:r>
            <a:r>
              <a:rPr b="0" lang="en-US" sz="2400" spc="-1" strike="noStrike" u="sng">
                <a:solidFill>
                  <a:srgbClr val="46464a"/>
                </a:solidFill>
                <a:uFillTx/>
                <a:latin typeface="Century Gothic"/>
              </a:rPr>
              <a:t>31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 = 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.886  X 1000  =  886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35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   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2971800"/>
          <a:ext cx="7696080" cy="1279440"/>
        </p:xfrm>
        <a:graphic>
          <a:graphicData uri="http://schemas.openxmlformats.org/drawingml/2006/table">
            <a:tbl>
              <a:tblPr/>
              <a:tblGrid>
                <a:gridCol w="1523880"/>
                <a:gridCol w="2324160"/>
                <a:gridCol w="2171520"/>
                <a:gridCol w="16765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m Me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all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pring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int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lter 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- Yes/R-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-Yes/R-Adjus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0" y="137124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ccess to  Postseason Competition</a:t>
            </a:r>
            <a:br>
              <a:rPr sz="4000"/>
            </a:b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nd </a:t>
            </a:r>
            <a:br>
              <a:rPr sz="4000"/>
            </a:b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Penalties 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What's New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6212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573120">
              <a:lnSpc>
                <a:spcPct val="110000"/>
              </a:lnSpc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ransition Period has ended:  930 APR penalty benchmark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Limited Resource filters no longer available for APP penalties or loss of postseas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rack Cohort:  combined as one team rather than separate indoor and outdoor team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 algn="just">
              <a:lnSpc>
                <a:spcPct val="9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9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ccess to Postseason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480" y="144756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e NCAA Division I Board of Directors established a </a:t>
            </a:r>
            <a:r>
              <a:rPr b="1" lang="en-US" sz="2400" spc="-1" strike="noStrike">
                <a:solidFill>
                  <a:srgbClr val="46464a"/>
                </a:solidFill>
                <a:latin typeface="Century Gothic"/>
              </a:rPr>
              <a:t>930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multiyear APR benchmark for access to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015-16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postseason competition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Postseason includes all events conducted after last regular season contest or end of conference tournament (e.g., bowl games, NIT, WNIT, etc.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ferences determine ability to compete in conference tournament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pplies to individual competitors on teams not meeting standard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Waiver process availabl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lnSpc>
                <a:spcPct val="9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108000" algn="just">
              <a:lnSpc>
                <a:spcPct val="8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16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Overview of APP and </a:t>
            </a:r>
            <a:br>
              <a:rPr sz="4000"/>
            </a:b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Basic Policies and Procedures</a:t>
            </a:r>
            <a:br>
              <a:rPr sz="4000"/>
            </a:b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Postseason Benchmark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1760" y="1371240"/>
            <a:ext cx="7848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850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6464a"/>
              </a:solidFill>
              <a:latin typeface="Century Gothic"/>
            </a:endParaRPr>
          </a:p>
          <a:p>
            <a:pPr marL="182520" indent="-1825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o access postseason competition in 2015-16 and beyond: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82520" indent="-1825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Need a multiyear APR of at least 930 OR, after subject to first postseason restriction, have a two-year average APR of 950 or higher in the two most recent years.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ission filter available based on resources (e.g., bottom 15 percent as defined by Committee on Academics) one time only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550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182520" indent="-182520">
              <a:spcBef>
                <a:spcPts val="601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Teams That Have Lost Access to Postseason Competition by Year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graphicFrame>
        <p:nvGraphicFramePr>
          <p:cNvPr id="410" name="Chart 1"/>
          <p:cNvGraphicFramePr/>
          <p:nvPr/>
        </p:nvGraphicFramePr>
        <p:xfrm>
          <a:off x="1554120" y="1981080"/>
          <a:ext cx="6181920" cy="429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1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981080"/>
                    <a:ext cx="618192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Penalti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360" y="220968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27324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nstitutions must have a multiyear APR of 930 to avoid penaltie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27324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27324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PP penalties are </a:t>
            </a:r>
            <a:r>
              <a:rPr b="0" lang="en-US" sz="2600" spc="-1" strike="noStrike" u="sng">
                <a:solidFill>
                  <a:srgbClr val="46464a"/>
                </a:solidFill>
                <a:uFillTx/>
                <a:latin typeface="Century Gothic"/>
              </a:rPr>
              <a:t>separate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from eligibility for postseason competition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Penalties Benchmark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274284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-year APR of 930 or higher to avoid APP penalti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eam subject to level two– or three- penalty can use improvement filter.  Improvement defined as two-year average APR of 950 in the two most recent years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Level One Penalti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440" y="1676520"/>
            <a:ext cx="76201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Reduce four hours and one day of countable athletically related activity (CARA) per week in-season.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6656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Results in 16 hours per week rather than 20 hours; and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6656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6656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Five days per week rather than six day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Time replaced by academic activiti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114560" indent="-857520" algn="just">
              <a:lnSpc>
                <a:spcPct val="100000"/>
              </a:lnSpc>
              <a:spcBef>
                <a:spcPts val="400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1764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Level Two Penalti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440" y="14475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Level Two Penalties Include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Level-One penalties (in-season); and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Reduce four hours of CARA per week out-of-season. 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Results in four hours per week rather than eight hours; and 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 lvl="1" marL="1380960" indent="-46656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Time replaced by academic activities.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Cancel nonchampionship season/spring football.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For sports without nonchampionship season, 10 percent reduction in contests </a:t>
            </a:r>
            <a:r>
              <a:rPr b="0" lang="en-US" sz="2300" spc="-1" strike="noStrike" u="sng">
                <a:solidFill>
                  <a:srgbClr val="46464a"/>
                </a:solidFill>
                <a:uFillTx/>
                <a:latin typeface="Century Gothic"/>
                <a:ea typeface="Calibri"/>
              </a:rPr>
              <a:t>and</a:t>
            </a: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 length of season. 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4" marL="1114560" indent="-857520" algn="just">
              <a:lnSpc>
                <a:spcPct val="9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Level Three Penalti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09480" y="15238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a"/>
                </a:solidFill>
                <a:latin typeface="Century Gothic"/>
                <a:ea typeface="Calibri"/>
              </a:rPr>
              <a:t>Level Three Penalties Include: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Level-One and Level-Two penalties; and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a"/>
                </a:solidFill>
                <a:latin typeface="Century Gothic"/>
                <a:ea typeface="Calibri"/>
              </a:rPr>
              <a:t>Menu Options May Include: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Financial aid penalties (any amount, any type)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Practice penalties (reduction of four hours/week and up)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Contest reductions (10 percent up to full season)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Restricted and corresponding membership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Coach-specific penalties, including game restrictions,    recruiting restrictions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Restricted access to practice for incoming student-athletes    that fall below predetermined academic standards. 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Multiyear postseason competition ban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4" marL="1114560" indent="-857520" algn="just">
              <a:lnSpc>
                <a:spcPct val="8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724280" y="2742840"/>
            <a:ext cx="3657600" cy="270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Penalty and Postseason Waiver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Waiver Directive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76212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rst occasion postseason ineligibility requires extraordinary mitigation.  The Committee on Academics says this does NOT include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6560" indent="-466560">
              <a:buClr>
                <a:srgbClr val="beae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Head coaching change;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beae98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gnificant leadership change at the institution;  or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beae98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stitutional reclassificati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lnSpc>
                <a:spcPct val="120000"/>
              </a:lnSpc>
              <a:spcBef>
                <a:spcPts val="575"/>
              </a:spcBef>
              <a:spcAft>
                <a:spcPts val="601"/>
              </a:spcAft>
              <a:buClr>
                <a:srgbClr val="beae98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lnSpc>
                <a:spcPct val="120000"/>
              </a:lnSpc>
              <a:spcBef>
                <a:spcPts val="575"/>
              </a:spcBef>
              <a:spcAft>
                <a:spcPts val="601"/>
              </a:spcAft>
              <a:buClr>
                <a:srgbClr val="beae98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Waiver Directive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76212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lnSpc>
                <a:spcPct val="9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ccasion postseason ineligibility and </a:t>
            </a:r>
            <a:r>
              <a:rPr b="1" lang="en-US" sz="2400" spc="-1" strike="noStrike">
                <a:solidFill>
                  <a:srgbClr val="46464a"/>
                </a:solidFill>
                <a:latin typeface="Century Gothic"/>
              </a:rPr>
              <a:t>ANY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APP Penalty waiver considerations: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6560" indent="-466560">
              <a:lnSpc>
                <a:spcPct val="90000"/>
              </a:lnSpc>
              <a:buClr>
                <a:srgbClr val="beae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9080" indent="-51912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e team's academic performance (improvement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9080" indent="-51912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itigation tied to team’s point los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9080" indent="-51912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NCAA Division I Academic Progress Rate (APR) Improvement Pla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 algn="just">
              <a:lnSpc>
                <a:spcPct val="90000"/>
              </a:lnSpc>
              <a:buClr>
                <a:srgbClr val="81955b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9080" indent="-519120">
              <a:lnSpc>
                <a:spcPct val="90000"/>
              </a:lnSpc>
              <a:buClr>
                <a:srgbClr val="6f6f74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n expectation the team can improve to 930 within a reasonable period of tim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cademic Reform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90720" y="21337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tudent-athlete accountability through increased academic-eligibility standards (2003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Enhanced academic rates of measure, real-time rate and better graduation rate (2004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ccountability through APP benchmark for postseason competition and penalties (2006; revised 2011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P Waivers/Appeals Process 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762120" y="15238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Level-One APP Penalty and Postseason Competition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Staff makes decision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nstitution may appeal to the Subcommittee on Penalties and Appeals.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f APP penalties, subcommittee reviews using documentation. 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f postseason, institution presents appeal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  <a:ea typeface="Calibri"/>
              </a:rPr>
              <a:t>cont…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P Waivers/Appeals Process 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0666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Level-Two APP Penalty and Postseason Competition: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Staff makes decision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nstitution may appeal to Subcommittee on Penalties and Appeal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nstitution presents appeal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P Waivers/Appeals Process 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Level-Three APP Penalty and Postseason Competition: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ll institutions must submit a waiver setting forth recommended penalties or request for relief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taff makes initial recommendation (approval or partial approval, with or without conditions).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f staff recommendation unacceptable, waiver forwarded to Committee on Academics for in-person hearing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48320" y="1752480"/>
            <a:ext cx="365760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Improvement Plan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R Improvement Plans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PR Improvement Plans are meant to stimulate immediate improvements in team academic performance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onitor and analyze each team's academic, retention and graduation performance;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dentify critical issues impacting team’s academic performance;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Develop initiatives to address the team's critical issues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915840" indent="-514080" algn="just">
              <a:lnSpc>
                <a:spcPct val="90000"/>
              </a:lnSpc>
              <a:spcBef>
                <a:spcPts val="326"/>
              </a:spcBef>
              <a:buClr>
                <a:srgbClr val="81955b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915840" indent="-51408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R Improvement Plan Requirements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62120" y="1676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Required for all teams under 930 multiyear APR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Must include element that assesses and evaluates team's academic admissions profiles and academic outcom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Data analysis of team’s APR performanc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Broad-based campus participati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Reviewed and approved by institution’s chancellor or president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Submitted via online databas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 algn="just"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5840" indent="-514080" algn="just">
              <a:buClr>
                <a:srgbClr val="81955b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5840" indent="-514080">
              <a:buClr>
                <a:srgbClr val="6f6f74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Resources</a:t>
            </a: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66320" y="22856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Data – Anne Rohlman </a:t>
            </a:r>
            <a:r>
              <a:rPr b="0" lang="en-US" sz="2400" spc="-1" strike="noStrike" u="sng">
                <a:solidFill>
                  <a:srgbClr val="67aabf"/>
                </a:solidFill>
                <a:uFillTx/>
                <a:latin typeface="Century Gothic"/>
                <a:hlinkClick r:id="rId1"/>
              </a:rPr>
              <a:t>arohlman@ncaa.org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Level One and Two penalties and loss of access to postseason competition and APR Improvement Plans - Katy Yurk </a:t>
            </a:r>
            <a:r>
              <a:rPr b="0" lang="en-US" sz="2400" spc="-1" strike="noStrike" u="sng">
                <a:solidFill>
                  <a:srgbClr val="67aabf"/>
                </a:solidFill>
                <a:uFillTx/>
                <a:latin typeface="Century Gothic"/>
                <a:hlinkClick r:id="rId2"/>
              </a:rPr>
              <a:t>kyurk@ncaa.org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Level Three penalties and loss of access to postseason competition – Andy Louthain </a:t>
            </a:r>
            <a:r>
              <a:rPr b="0" lang="en-US" sz="2400" spc="-1" strike="noStrike" u="sng">
                <a:solidFill>
                  <a:srgbClr val="67aabf"/>
                </a:solidFill>
                <a:uFillTx/>
                <a:latin typeface="Century Gothic"/>
                <a:hlinkClick r:id="rId3"/>
              </a:rPr>
              <a:t>alouthain@ncaa.org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15665"/>
                </a:solidFill>
                <a:latin typeface="Century Gothic"/>
              </a:rPr>
              <a:t>APP Table Hours</a:t>
            </a:r>
            <a:br>
              <a:rPr sz="4400"/>
            </a:br>
            <a:r>
              <a:rPr b="1" lang="en-US" sz="4400" spc="-1" strike="noStrike">
                <a:solidFill>
                  <a:srgbClr val="415665"/>
                </a:solidFill>
                <a:latin typeface="Century Gothic"/>
              </a:rPr>
              <a:t>Data/Waivers/Plans</a:t>
            </a:r>
            <a:endParaRPr b="0" lang="en-US" sz="44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09120" y="2666880"/>
            <a:ext cx="815364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15665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415665"/>
                </a:solidFill>
                <a:latin typeface="Century Gothic"/>
              </a:rPr>
              <a:t>Indianapolis Site: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5665"/>
                </a:solidFill>
                <a:latin typeface="Century Gothic"/>
              </a:rPr>
              <a:t>Tuesday:  </a:t>
            </a:r>
            <a:r>
              <a:rPr b="0" lang="en-US" sz="2000" spc="-1" strike="noStrike">
                <a:solidFill>
                  <a:srgbClr val="415665"/>
                </a:solidFill>
                <a:latin typeface="Century Gothic"/>
              </a:rPr>
              <a:t>10:30 a.m. to 1 p.m. in Rooms 302 and 303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(3rd floor)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415665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415665"/>
                </a:solidFill>
                <a:latin typeface="Century Gothic"/>
              </a:rPr>
              <a:t>4:45 to 5:45 p.m. in Rooms 302 and 303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(3rd floor)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5665"/>
                </a:solidFill>
                <a:latin typeface="Century Gothic"/>
              </a:rPr>
              <a:t>Wednesday:  </a:t>
            </a:r>
            <a:r>
              <a:rPr b="0" lang="en-US" sz="2000" spc="-1" strike="noStrike">
                <a:solidFill>
                  <a:srgbClr val="415665"/>
                </a:solidFill>
                <a:latin typeface="Century Gothic"/>
              </a:rPr>
              <a:t>11:30 a.m. to 1 p.m. in Rooms 305 and 306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(3rd</a:t>
            </a:r>
            <a:r>
              <a:rPr b="0" lang="en-US" sz="1800" spc="-1" strike="noStrike" baseline="30000">
                <a:solidFill>
                  <a:srgbClr val="415665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floor)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5665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415665"/>
                </a:solidFill>
                <a:latin typeface="Century Gothic"/>
              </a:rPr>
              <a:t>   </a:t>
            </a:r>
            <a:r>
              <a:rPr b="0" lang="en-US" sz="2000" spc="-1" strike="noStrike">
                <a:solidFill>
                  <a:srgbClr val="415665"/>
                </a:solidFill>
                <a:latin typeface="Century Gothic"/>
              </a:rPr>
              <a:t>4:45 to 6:45 p.m. in Rooms 305 and 306</a:t>
            </a:r>
            <a:r>
              <a:rPr b="0" lang="en-US" sz="1600" spc="-1" strike="noStrike">
                <a:solidFill>
                  <a:srgbClr val="415665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(3rd floor)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415665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15665"/>
                </a:solidFill>
                <a:latin typeface="Century Gothic"/>
              </a:rPr>
              <a:t>APP Table Hours</a:t>
            </a:r>
            <a:br>
              <a:rPr sz="4400"/>
            </a:br>
            <a:r>
              <a:rPr b="1" lang="en-US" sz="4400" spc="-1" strike="noStrike">
                <a:solidFill>
                  <a:srgbClr val="415665"/>
                </a:solidFill>
                <a:latin typeface="Century Gothic"/>
              </a:rPr>
              <a:t>Data/Waivers/Plans</a:t>
            </a:r>
            <a:endParaRPr b="0" lang="en-US" sz="44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2742840"/>
            <a:ext cx="73915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665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415665"/>
                </a:solidFill>
                <a:latin typeface="Century Gothic"/>
              </a:rPr>
              <a:t>Denver Site: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15665"/>
                </a:solidFill>
                <a:latin typeface="Century Gothic"/>
              </a:rPr>
              <a:t>Tuesday:   </a:t>
            </a:r>
            <a:r>
              <a:rPr b="1" lang="en-US" sz="19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10:30 a.m. to 1 p.m. in Capitol 3 Room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4:45 to 5:45 p.m. in Capitol 3 Room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15665"/>
                </a:solidFill>
                <a:latin typeface="Century Gothic"/>
              </a:rPr>
              <a:t>Wednesday: </a:t>
            </a:r>
            <a:r>
              <a:rPr b="1" lang="en-US" sz="14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11:30 a.m. to 1 p.m. in Capitol 3 Room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	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4:45 to 6:45 p.m. in Capitol 3 Room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15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1500" spc="-1" strike="noStrike">
                <a:solidFill>
                  <a:srgbClr val="415665"/>
                </a:solidFill>
                <a:latin typeface="Century Gothic"/>
              </a:rPr>
              <a:t>	</a:t>
            </a: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723920" y="304776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6f74"/>
                </a:solidFill>
                <a:latin typeface="Century Gothic"/>
              </a:rPr>
              <a:t>Thank you for attending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f6f74"/>
                </a:solidFill>
                <a:latin typeface="Century Gothic"/>
              </a:rPr>
              <a:t>APP</a:t>
            </a:r>
            <a:endParaRPr b="0" lang="en-US" sz="38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8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Ensure the Division I membership is dedicated to providing student-athletes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80000"/>
              </a:lnSpc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Exemplary educational and intercollegiate athletics experiences in an environment that recognizes and supports the academic mission of member institutions while enhancing ability to earn a four-year degree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8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lnSpc>
                <a:spcPct val="8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Serve as an academic point of access to postseason competition. 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 algn="r"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a"/>
                </a:solidFill>
                <a:latin typeface="Century Gothic"/>
              </a:rPr>
              <a:t>Bylaws 14.01.4 and 14.8</a:t>
            </a:r>
            <a:r>
              <a:rPr b="1" lang="en-US" sz="1700" spc="-1" strike="noStrike">
                <a:solidFill>
                  <a:srgbClr val="46464a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Committee on Academic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808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Duties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dministrative body and oversight of academics including APP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Oversee data collection proces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dentify APP "cut" lin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Provide interpretations of APP legislation and policies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a"/>
                </a:solidFill>
                <a:latin typeface="Century Gothic"/>
              </a:rPr>
              <a:t>Bylaw 14.8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Committee on Academic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37720" y="2057400"/>
            <a:ext cx="743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a"/>
                </a:solidFill>
                <a:latin typeface="Century Gothic"/>
              </a:rPr>
              <a:t>Duties (continued):</a:t>
            </a: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a"/>
                </a:solidFill>
                <a:latin typeface="Century Gothic"/>
              </a:rPr>
              <a:t>Communicate annual APP rates [Academic Progress Rate (APR) and Graduation Success Rate (GSR)].</a:t>
            </a: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a"/>
                </a:solidFill>
                <a:latin typeface="Century Gothic"/>
              </a:rPr>
              <a:t>Identify teams that demonstrate academic excellence. </a:t>
            </a: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a"/>
                </a:solidFill>
                <a:latin typeface="Century Gothic"/>
              </a:rPr>
              <a:t>Serve as the appellate body for APP policies and penalties. </a:t>
            </a: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 algn="r">
              <a:lnSpc>
                <a:spcPct val="80000"/>
              </a:lnSpc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a"/>
                </a:solidFill>
                <a:latin typeface="Century Gothic"/>
              </a:rPr>
              <a:t>Bylaw 14.8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3612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Data Collection 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90360" y="2514600"/>
            <a:ext cx="735948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GSR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cademic Performance Census (APC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NCAA Division I Academic Progress Rate (APR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1976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GSR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ore specific than Federal Graduation Rat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cludes transfers into an institution and  midyear enrolle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Removes student-athletes who withdraw and would have been academically eligible to compete the next term had they returned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alculated for every sport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9440">
              <a:buClr>
                <a:srgbClr val="beae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22:10:50Z</dcterms:created>
  <dc:creator>Yurk, Kathryn</dc:creator>
  <dc:description/>
  <dc:language>en-US</dc:language>
  <cp:lastModifiedBy>Stephens, DeAnna</cp:lastModifiedBy>
  <cp:lastPrinted>2015-04-17T19:44:13Z</cp:lastPrinted>
  <dcterms:modified xsi:type="dcterms:W3CDTF">2015-04-17T20:00:54Z</dcterms:modified>
  <cp:revision>171</cp:revision>
  <dc:subject/>
  <dc:title>Academic Performance Program Overview – A Fundamental Introduction 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ademic/Fiscal Year">
    <vt:lpwstr>n/a</vt:lpwstr>
  </property>
  <property fmtid="{D5CDD505-2E9C-101B-9397-08002B2CF9AE}" pid="3" name="Championship">
    <vt:lpwstr/>
  </property>
  <property fmtid="{D5CDD505-2E9C-101B-9397-08002B2CF9AE}" pid="4" name="Committee">
    <vt:lpwstr/>
  </property>
  <property fmtid="{D5CDD505-2E9C-101B-9397-08002B2CF9AE}" pid="5" name="Division">
    <vt:lpwstr/>
  </property>
  <property fmtid="{D5CDD505-2E9C-101B-9397-08002B2CF9AE}" pid="6" name="Document Type0">
    <vt:lpwstr/>
  </property>
</Properties>
</file>