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2E53-11AE-445F-99AF-8A8B63198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CF8CB83-38C3-4D9D-A1D7-4E3D2F38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6DBAAF0-C30E-4A1E-997A-CCE3D692A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5 - </a:t>
            </a:r>
            <a:fld id="{52A97A14-266F-4848-A9D2-B4B00D3F7613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tegrating with Microsoft Offic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and Save SharePoint Documents with Microsoft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Document Versions through Offic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SharePoint Data from Outlook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ersion Histor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3" descr="F:\LO Software\Lesson5\Lesson5-VersionHistory476.png"/>
          <p:cNvPicPr/>
          <p:nvPr/>
        </p:nvPicPr>
        <p:blipFill>
          <a:blip r:embed="rId1"/>
          <a:stretch/>
        </p:blipFill>
        <p:spPr>
          <a:xfrm>
            <a:off x="2833560" y="2298600"/>
            <a:ext cx="4534200" cy="26002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303"/>
          <p:cNvSpPr/>
          <p:nvPr/>
        </p:nvSpPr>
        <p:spPr>
          <a:xfrm flipH="1">
            <a:off x="2672640" y="2982960"/>
            <a:ext cx="322200" cy="1332000"/>
          </a:xfrm>
          <a:custGeom>
            <a:avLst/>
            <a:gdLst>
              <a:gd name="textAreaLeft" fmla="*/ 0 w 322200"/>
              <a:gd name="textAreaRight" fmla="*/ 116280 w 322200"/>
              <a:gd name="textAreaTop" fmla="*/ 66240 h 1332000"/>
              <a:gd name="textAreaBottom" fmla="*/ 1265760 h 13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2"/>
                  <a:pt x="10800" y="3443"/>
                </a:cubicBezTo>
                <a:lnTo>
                  <a:pt x="10800" y="2023"/>
                </a:lnTo>
                <a:cubicBezTo>
                  <a:pt x="10800" y="3745"/>
                  <a:pt x="16200" y="5466"/>
                  <a:pt x="21600" y="5466"/>
                </a:cubicBezTo>
                <a:cubicBezTo>
                  <a:pt x="16200" y="5466"/>
                  <a:pt x="10800" y="7188"/>
                  <a:pt x="10800" y="8909"/>
                </a:cubicBezTo>
                <a:lnTo>
                  <a:pt x="10800" y="18157"/>
                </a:lnTo>
                <a:cubicBezTo>
                  <a:pt x="10800" y="1987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4"/>
          <p:cNvSpPr/>
          <p:nvPr/>
        </p:nvSpPr>
        <p:spPr>
          <a:xfrm flipV="1">
            <a:off x="2508120" y="4597560"/>
            <a:ext cx="708120" cy="4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8"/>
          <p:cNvSpPr/>
          <p:nvPr/>
        </p:nvSpPr>
        <p:spPr>
          <a:xfrm>
            <a:off x="4013280" y="2000160"/>
            <a:ext cx="1365120" cy="5954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ser who modified the ver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1450800" y="3068640"/>
            <a:ext cx="1208160" cy="5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cument vers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9"/>
          <p:cNvSpPr/>
          <p:nvPr/>
        </p:nvSpPr>
        <p:spPr>
          <a:xfrm>
            <a:off x="1465200" y="4394160"/>
            <a:ext cx="12081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cument title and keywor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4"/>
          <p:cNvSpPr/>
          <p:nvPr/>
        </p:nvSpPr>
        <p:spPr>
          <a:xfrm flipV="1">
            <a:off x="2658960" y="3648240"/>
            <a:ext cx="33660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10"/>
          <p:cNvSpPr/>
          <p:nvPr/>
        </p:nvSpPr>
        <p:spPr>
          <a:xfrm>
            <a:off x="1450800" y="3710160"/>
            <a:ext cx="1208160" cy="57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major version indic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12"/>
          <p:cNvSpPr/>
          <p:nvPr/>
        </p:nvSpPr>
        <p:spPr>
          <a:xfrm>
            <a:off x="5464080" y="2000160"/>
            <a:ext cx="990720" cy="5954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ocument si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4"/>
          <p:cNvSpPr/>
          <p:nvPr/>
        </p:nvSpPr>
        <p:spPr>
          <a:xfrm>
            <a:off x="4695840" y="2589120"/>
            <a:ext cx="40464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4"/>
          <p:cNvSpPr/>
          <p:nvPr/>
        </p:nvSpPr>
        <p:spPr>
          <a:xfrm>
            <a:off x="5959440" y="2589120"/>
            <a:ext cx="13032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4"/>
          <p:cNvSpPr/>
          <p:nvPr/>
        </p:nvSpPr>
        <p:spPr>
          <a:xfrm>
            <a:off x="2575080" y="2298600"/>
            <a:ext cx="1190520" cy="42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5"/>
          <p:cNvSpPr/>
          <p:nvPr/>
        </p:nvSpPr>
        <p:spPr>
          <a:xfrm>
            <a:off x="1465200" y="2000160"/>
            <a:ext cx="1208160" cy="59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rsion management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8"/>
          <p:cNvSpPr/>
          <p:nvPr/>
        </p:nvSpPr>
        <p:spPr>
          <a:xfrm>
            <a:off x="6512040" y="1994040"/>
            <a:ext cx="990360" cy="5950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Version com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4"/>
          <p:cNvSpPr/>
          <p:nvPr/>
        </p:nvSpPr>
        <p:spPr>
          <a:xfrm flipH="1">
            <a:off x="6784920" y="2595600"/>
            <a:ext cx="222480" cy="38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hecked Out Documents in SharePoi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" name="Picture 2" descr="F:\LO Software\Lesson5\Lesson5CheckedOutDoc.png"/>
          <p:cNvPicPr/>
          <p:nvPr/>
        </p:nvPicPr>
        <p:blipFill>
          <a:blip r:embed="rId1"/>
          <a:stretch/>
        </p:blipFill>
        <p:spPr>
          <a:xfrm>
            <a:off x="2185920" y="1608120"/>
            <a:ext cx="5219640" cy="3952800"/>
          </a:xfrm>
          <a:prstGeom prst="rect">
            <a:avLst/>
          </a:prstGeom>
          <a:ln w="0">
            <a:noFill/>
          </a:ln>
        </p:spPr>
      </p:pic>
      <p:sp>
        <p:nvSpPr>
          <p:cNvPr id="69" name="Line 144"/>
          <p:cNvSpPr/>
          <p:nvPr/>
        </p:nvSpPr>
        <p:spPr>
          <a:xfrm>
            <a:off x="1986120" y="4381560"/>
            <a:ext cx="65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5"/>
          <p:cNvSpPr/>
          <p:nvPr/>
        </p:nvSpPr>
        <p:spPr>
          <a:xfrm>
            <a:off x="979560" y="3979800"/>
            <a:ext cx="1206360" cy="80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d out document with indicator i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nect to Outlook Butt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2" name="Picture 2" descr="F:\LO Software\Lesson5\Lesson5-ConnectToOutlookSmall.png"/>
          <p:cNvPicPr/>
          <p:nvPr/>
        </p:nvPicPr>
        <p:blipFill>
          <a:blip r:embed="rId1"/>
          <a:stretch/>
        </p:blipFill>
        <p:spPr>
          <a:xfrm>
            <a:off x="2666880" y="2523960"/>
            <a:ext cx="3648240" cy="2000520"/>
          </a:xfrm>
          <a:prstGeom prst="rect">
            <a:avLst/>
          </a:prstGeom>
          <a:ln w="0">
            <a:noFill/>
          </a:ln>
        </p:spPr>
      </p:pic>
      <p:sp>
        <p:nvSpPr>
          <p:cNvPr id="73" name="Line 144"/>
          <p:cNvSpPr/>
          <p:nvPr/>
        </p:nvSpPr>
        <p:spPr>
          <a:xfrm>
            <a:off x="4819680" y="2424240"/>
            <a:ext cx="0" cy="83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4129200" y="1886040"/>
            <a:ext cx="145728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nect to Outlook but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ntegration points do you feel your organization will use and 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re opportunities to use versioning or document check out/check in within your organ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8-02T15:08:14Z</dcterms:modified>
  <cp:revision>31</cp:revision>
  <dc:subject/>
  <dc:title>Lesson One: Advanced Form Design</dc:title>
</cp:coreProperties>
</file>