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FB74-4198-4289-8EBF-6B3534AC2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37C5323-6D30-4560-AFF3-2635B810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9380206-5A39-4C3E-912D-3D04DCA2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8704CE9-E19C-46CA-A922-6F37DFAA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8D961F9-1F9B-4E7E-B8A4-B40620ED2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277C62A0-A3D9-456E-A234-F0BEB7B50139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ing and Configuring Librar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Document Library for Your SharePoint Team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the Site Assets Library for Your SharePoint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d Configure a Wiki for Your SharePoint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ist and Library Settings Pag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F:\SVN\lo_91108\trunk\091108\images\Lesson2-ListAndLibrarySettings.png"/>
          <p:cNvPicPr/>
          <p:nvPr/>
        </p:nvPicPr>
        <p:blipFill>
          <a:blip r:embed="rId1"/>
          <a:stretch/>
        </p:blipFill>
        <p:spPr>
          <a:xfrm>
            <a:off x="1371600" y="1582560"/>
            <a:ext cx="6172200" cy="377856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11"/>
          <p:cNvSpPr/>
          <p:nvPr/>
        </p:nvSpPr>
        <p:spPr>
          <a:xfrm>
            <a:off x="1623960" y="2652840"/>
            <a:ext cx="1001880" cy="4204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ist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03"/>
          <p:cNvSpPr/>
          <p:nvPr/>
        </p:nvSpPr>
        <p:spPr>
          <a:xfrm flipH="1">
            <a:off x="2598120" y="3625920"/>
            <a:ext cx="81000" cy="946080"/>
          </a:xfrm>
          <a:custGeom>
            <a:avLst/>
            <a:gdLst>
              <a:gd name="textAreaLeft" fmla="*/ 0 w 81000"/>
              <a:gd name="textAreaRight" fmla="*/ 29160 w 81000"/>
              <a:gd name="textAreaTop" fmla="*/ 16560 h 946080"/>
              <a:gd name="textAreaBottom" fmla="*/ 929520 h 9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6"/>
                  <a:pt x="10800" y="1212"/>
                </a:cubicBezTo>
                <a:lnTo>
                  <a:pt x="10800" y="9588"/>
                </a:lnTo>
                <a:cubicBezTo>
                  <a:pt x="10800" y="10194"/>
                  <a:pt x="16200" y="10800"/>
                  <a:pt x="21600" y="10800"/>
                </a:cubicBezTo>
                <a:cubicBezTo>
                  <a:pt x="16200" y="10800"/>
                  <a:pt x="10800" y="11406"/>
                  <a:pt x="10800" y="12012"/>
                </a:cubicBezTo>
                <a:lnTo>
                  <a:pt x="10800" y="20388"/>
                </a:lnTo>
                <a:cubicBezTo>
                  <a:pt x="10800" y="2099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4"/>
          <p:cNvSpPr/>
          <p:nvPr/>
        </p:nvSpPr>
        <p:spPr>
          <a:xfrm>
            <a:off x="5105520" y="2936880"/>
            <a:ext cx="0" cy="27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4"/>
          <p:cNvSpPr/>
          <p:nvPr/>
        </p:nvSpPr>
        <p:spPr>
          <a:xfrm flipH="1">
            <a:off x="2971800" y="4708440"/>
            <a:ext cx="380880" cy="21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4"/>
          <p:cNvSpPr/>
          <p:nvPr/>
        </p:nvSpPr>
        <p:spPr>
          <a:xfrm>
            <a:off x="5106960" y="2936880"/>
            <a:ext cx="731880" cy="27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6"/>
          <p:cNvSpPr/>
          <p:nvPr/>
        </p:nvSpPr>
        <p:spPr>
          <a:xfrm>
            <a:off x="4527720" y="2481120"/>
            <a:ext cx="1196640" cy="4208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figuration 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17"/>
          <p:cNvSpPr/>
          <p:nvPr/>
        </p:nvSpPr>
        <p:spPr>
          <a:xfrm>
            <a:off x="1523880" y="3892680"/>
            <a:ext cx="1001880" cy="4204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ttings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8"/>
          <p:cNvSpPr/>
          <p:nvPr/>
        </p:nvSpPr>
        <p:spPr>
          <a:xfrm>
            <a:off x="3352680" y="4495680"/>
            <a:ext cx="1175040" cy="3715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lumns Configu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9"/>
          <p:cNvSpPr/>
          <p:nvPr/>
        </p:nvSpPr>
        <p:spPr>
          <a:xfrm>
            <a:off x="6248520" y="4422600"/>
            <a:ext cx="1174680" cy="7527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roll Down for More Configuration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4"/>
          <p:cNvSpPr/>
          <p:nvPr/>
        </p:nvSpPr>
        <p:spPr>
          <a:xfrm flipV="1">
            <a:off x="6835680" y="3782520"/>
            <a:ext cx="587520" cy="63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ent Approval Alert in Outlook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" name="Picture 2" descr="F:\SVN\lo_91108\trunk\091108\images\Lesson2-ContentApprovalAlertinOutlook.png"/>
          <p:cNvPicPr/>
          <p:nvPr/>
        </p:nvPicPr>
        <p:blipFill>
          <a:blip r:embed="rId1"/>
          <a:stretch/>
        </p:blipFill>
        <p:spPr>
          <a:xfrm>
            <a:off x="2874960" y="2179800"/>
            <a:ext cx="4973760" cy="2817720"/>
          </a:xfrm>
          <a:prstGeom prst="rect">
            <a:avLst/>
          </a:prstGeom>
          <a:ln w="0">
            <a:noFill/>
          </a:ln>
        </p:spPr>
      </p:pic>
      <p:sp>
        <p:nvSpPr>
          <p:cNvPr id="65" name="Line 144"/>
          <p:cNvSpPr/>
          <p:nvPr/>
        </p:nvSpPr>
        <p:spPr>
          <a:xfrm flipV="1">
            <a:off x="2708280" y="4470120"/>
            <a:ext cx="30168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4"/>
          <p:cNvSpPr/>
          <p:nvPr/>
        </p:nvSpPr>
        <p:spPr>
          <a:xfrm>
            <a:off x="2728800" y="3263760"/>
            <a:ext cx="260640" cy="190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24"/>
          <p:cNvSpPr/>
          <p:nvPr/>
        </p:nvSpPr>
        <p:spPr>
          <a:xfrm>
            <a:off x="1333440" y="2911320"/>
            <a:ext cx="1395360" cy="7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k to Home Page of sending List or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25"/>
          <p:cNvSpPr/>
          <p:nvPr/>
        </p:nvSpPr>
        <p:spPr>
          <a:xfrm>
            <a:off x="1333440" y="3946680"/>
            <a:ext cx="1395360" cy="45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Approval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26"/>
          <p:cNvSpPr/>
          <p:nvPr/>
        </p:nvSpPr>
        <p:spPr>
          <a:xfrm>
            <a:off x="1312920" y="4627440"/>
            <a:ext cx="1395360" cy="45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d Out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4"/>
          <p:cNvSpPr/>
          <p:nvPr/>
        </p:nvSpPr>
        <p:spPr>
          <a:xfrm>
            <a:off x="2728800" y="4172040"/>
            <a:ext cx="281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4"/>
          <p:cNvSpPr/>
          <p:nvPr/>
        </p:nvSpPr>
        <p:spPr>
          <a:xfrm flipH="1" flipV="1">
            <a:off x="3614760" y="3946320"/>
            <a:ext cx="93600" cy="10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4"/>
          <p:cNvSpPr/>
          <p:nvPr/>
        </p:nvSpPr>
        <p:spPr>
          <a:xfrm flipH="1" flipV="1">
            <a:off x="5105160" y="3946680"/>
            <a:ext cx="122040" cy="99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4"/>
          <p:cNvSpPr/>
          <p:nvPr/>
        </p:nvSpPr>
        <p:spPr>
          <a:xfrm flipH="1" flipV="1">
            <a:off x="6629040" y="3946680"/>
            <a:ext cx="119160" cy="99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31"/>
          <p:cNvSpPr/>
          <p:nvPr/>
        </p:nvSpPr>
        <p:spPr>
          <a:xfrm>
            <a:off x="3009960" y="4879800"/>
            <a:ext cx="1395360" cy="84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k to Modify Your Alert Set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32"/>
          <p:cNvSpPr/>
          <p:nvPr/>
        </p:nvSpPr>
        <p:spPr>
          <a:xfrm>
            <a:off x="4530600" y="4879800"/>
            <a:ext cx="1393920" cy="84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k to View the Content Requiring Approv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3"/>
          <p:cNvSpPr/>
          <p:nvPr/>
        </p:nvSpPr>
        <p:spPr>
          <a:xfrm>
            <a:off x="6049800" y="4867200"/>
            <a:ext cx="1395720" cy="84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k to List or Library that Generated the Al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ight your organization use a SharePoint Assets libra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libraries does your organization use, and which other types of libraries do you think it would benefit from us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4-25T14:15:40Z</dcterms:modified>
  <cp:revision>32</cp:revision>
  <dc:subject/>
  <dc:title>Lesson One: Advanced Form Design</dc:title>
</cp:coreProperties>
</file>