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B6A6-698D-4D26-B2B3-77998E168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0402AA4-A2C6-47A1-B511-0690A64AF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44578C2-8230-43A6-9A90-D1EA45C10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57C37C82-1F07-4B22-A65E-73B3B77E3AC9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orking with Documents, Content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d Librar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load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for Documents and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ffice Web Apps Document Creation Menu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8" descr="F:\LO Software\Lesson2 Graphics\Lesson2-OffWebAppCreateMenu.png"/>
          <p:cNvPicPr/>
          <p:nvPr/>
        </p:nvPicPr>
        <p:blipFill>
          <a:blip r:embed="rId1"/>
          <a:stretch/>
        </p:blipFill>
        <p:spPr>
          <a:xfrm>
            <a:off x="4232160" y="2071800"/>
            <a:ext cx="1973520" cy="2679480"/>
          </a:xfrm>
          <a:prstGeom prst="rect">
            <a:avLst/>
          </a:prstGeom>
          <a:ln w="0">
            <a:noFill/>
          </a:ln>
        </p:spPr>
      </p:pic>
      <p:sp>
        <p:nvSpPr>
          <p:cNvPr id="53" name="Line 144"/>
          <p:cNvSpPr/>
          <p:nvPr/>
        </p:nvSpPr>
        <p:spPr>
          <a:xfrm>
            <a:off x="3743280" y="4641840"/>
            <a:ext cx="627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03"/>
          <p:cNvSpPr/>
          <p:nvPr/>
        </p:nvSpPr>
        <p:spPr>
          <a:xfrm flipH="1">
            <a:off x="4056840" y="2467080"/>
            <a:ext cx="174600" cy="134280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1342800"/>
              <a:gd name="textAreaBottom" fmla="*/ 1306800 h 134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26"/>
                  <a:pt x="10800" y="1852"/>
                </a:cubicBezTo>
                <a:lnTo>
                  <a:pt x="10800" y="8948"/>
                </a:lnTo>
                <a:cubicBezTo>
                  <a:pt x="10800" y="9874"/>
                  <a:pt x="16200" y="10800"/>
                  <a:pt x="21600" y="10800"/>
                </a:cubicBezTo>
                <a:cubicBezTo>
                  <a:pt x="16200" y="10800"/>
                  <a:pt x="10800" y="11726"/>
                  <a:pt x="10800" y="12652"/>
                </a:cubicBezTo>
                <a:lnTo>
                  <a:pt x="10800" y="19748"/>
                </a:lnTo>
                <a:cubicBezTo>
                  <a:pt x="10800" y="2067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3"/>
          <p:cNvSpPr/>
          <p:nvPr/>
        </p:nvSpPr>
        <p:spPr>
          <a:xfrm>
            <a:off x="2349360" y="4349880"/>
            <a:ext cx="1708200" cy="58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n Windows Explorer to browse for a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4"/>
          <p:cNvSpPr/>
          <p:nvPr/>
        </p:nvSpPr>
        <p:spPr>
          <a:xfrm>
            <a:off x="3743280" y="3868560"/>
            <a:ext cx="627120" cy="27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15"/>
          <p:cNvSpPr/>
          <p:nvPr/>
        </p:nvSpPr>
        <p:spPr>
          <a:xfrm>
            <a:off x="2349360" y="3689280"/>
            <a:ext cx="17082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e a folder in the document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6"/>
          <p:cNvSpPr/>
          <p:nvPr/>
        </p:nvSpPr>
        <p:spPr>
          <a:xfrm>
            <a:off x="2349360" y="2687760"/>
            <a:ext cx="170820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e a new file using Office Web Ap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ffice Web Apps Preview Windo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Picture 9" descr="F:\LO Software\Lesson2 Graphics\Lesson2-OffWebAppPrev.png"/>
          <p:cNvPicPr/>
          <p:nvPr/>
        </p:nvPicPr>
        <p:blipFill>
          <a:blip r:embed="rId1"/>
          <a:stretch/>
        </p:blipFill>
        <p:spPr>
          <a:xfrm>
            <a:off x="3457440" y="2133720"/>
            <a:ext cx="2845080" cy="3024000"/>
          </a:xfrm>
          <a:prstGeom prst="rect">
            <a:avLst/>
          </a:prstGeom>
          <a:ln w="0">
            <a:noFill/>
          </a:ln>
        </p:spPr>
      </p:pic>
      <p:sp>
        <p:nvSpPr>
          <p:cNvPr id="61" name="Line 144"/>
          <p:cNvSpPr/>
          <p:nvPr/>
        </p:nvSpPr>
        <p:spPr>
          <a:xfrm>
            <a:off x="2898720" y="4941720"/>
            <a:ext cx="627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03"/>
          <p:cNvSpPr/>
          <p:nvPr/>
        </p:nvSpPr>
        <p:spPr>
          <a:xfrm flipH="1">
            <a:off x="3142440" y="2468520"/>
            <a:ext cx="314280" cy="1581120"/>
          </a:xfrm>
          <a:custGeom>
            <a:avLst/>
            <a:gdLst>
              <a:gd name="textAreaLeft" fmla="*/ 0 w 314280"/>
              <a:gd name="textAreaRight" fmla="*/ 113400 w 314280"/>
              <a:gd name="textAreaTop" fmla="*/ 64440 h 1581120"/>
              <a:gd name="textAreaBottom" fmla="*/ 151668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2"/>
                  <a:pt x="10800" y="2823"/>
                </a:cubicBezTo>
                <a:lnTo>
                  <a:pt x="10800" y="7977"/>
                </a:lnTo>
                <a:cubicBezTo>
                  <a:pt x="10800" y="9389"/>
                  <a:pt x="16200" y="10800"/>
                  <a:pt x="21600" y="10800"/>
                </a:cubicBezTo>
                <a:cubicBezTo>
                  <a:pt x="16200" y="10800"/>
                  <a:pt x="10800" y="12212"/>
                  <a:pt x="10800" y="13623"/>
                </a:cubicBezTo>
                <a:lnTo>
                  <a:pt x="10800" y="18777"/>
                </a:lnTo>
                <a:cubicBezTo>
                  <a:pt x="10800" y="2018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20"/>
          <p:cNvSpPr/>
          <p:nvPr/>
        </p:nvSpPr>
        <p:spPr>
          <a:xfrm>
            <a:off x="1436760" y="3043080"/>
            <a:ext cx="17064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view of docu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21"/>
          <p:cNvSpPr/>
          <p:nvPr/>
        </p:nvSpPr>
        <p:spPr>
          <a:xfrm>
            <a:off x="1442880" y="4726080"/>
            <a:ext cx="17067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4"/>
          <p:cNvSpPr/>
          <p:nvPr/>
        </p:nvSpPr>
        <p:spPr>
          <a:xfrm flipH="1">
            <a:off x="4757760" y="4859280"/>
            <a:ext cx="722160" cy="8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23"/>
          <p:cNvSpPr/>
          <p:nvPr/>
        </p:nvSpPr>
        <p:spPr>
          <a:xfrm>
            <a:off x="5103720" y="4643280"/>
            <a:ext cx="1724040" cy="4320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dditional Menu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Search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Picture 4" descr="F:\LO Software\Lesson2 Graphics\SharePointSearch576.png"/>
          <p:cNvPicPr/>
          <p:nvPr/>
        </p:nvPicPr>
        <p:blipFill>
          <a:blip r:embed="rId1"/>
          <a:stretch/>
        </p:blipFill>
        <p:spPr>
          <a:xfrm>
            <a:off x="1967040" y="2662200"/>
            <a:ext cx="5486400" cy="1352520"/>
          </a:xfrm>
          <a:prstGeom prst="rect">
            <a:avLst/>
          </a:prstGeom>
          <a:ln w="0">
            <a:noFill/>
          </a:ln>
        </p:spPr>
      </p:pic>
      <p:sp>
        <p:nvSpPr>
          <p:cNvPr id="69" name="Line 144"/>
          <p:cNvSpPr/>
          <p:nvPr/>
        </p:nvSpPr>
        <p:spPr>
          <a:xfrm flipV="1">
            <a:off x="3763800" y="393192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4"/>
          <p:cNvSpPr/>
          <p:nvPr/>
        </p:nvSpPr>
        <p:spPr>
          <a:xfrm>
            <a:off x="2911320" y="4197240"/>
            <a:ext cx="17067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brary Search bo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4"/>
          <p:cNvSpPr/>
          <p:nvPr/>
        </p:nvSpPr>
        <p:spPr>
          <a:xfrm flipH="1" flipV="1">
            <a:off x="6411600" y="3271320"/>
            <a:ext cx="20520" cy="42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16"/>
          <p:cNvSpPr/>
          <p:nvPr/>
        </p:nvSpPr>
        <p:spPr>
          <a:xfrm>
            <a:off x="5570640" y="3500280"/>
            <a:ext cx="1724040" cy="4320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harePoint Site Search bo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currently work with documents in your organization (how are they stored and how do people collaborate with them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could SharePoint improve the way you work with and share documents in your 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4-16T16:39:42Z</dcterms:modified>
  <cp:revision>23</cp:revision>
  <dc:subject/>
  <dc:title>Lesson One: Advanced Form Design</dc:title>
</cp:coreProperties>
</file>