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124700" cy="9410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24400" cy="941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87720" cy="471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4035600" y="0"/>
            <a:ext cx="3087360" cy="471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09240" y="704520"/>
            <a:ext cx="4705560" cy="352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937360"/>
            <a:ext cx="3087720" cy="471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4035600" y="8937360"/>
            <a:ext cx="3087360" cy="471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5685A7E-3CDE-4C0F-8BDC-B45317ABD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243C2A3-0121-4A40-A577-09565D8C5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01240"/>
            <a:ext cx="6853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Rectangle 14"/>
          <p:cNvSpPr/>
          <p:nvPr/>
        </p:nvSpPr>
        <p:spPr>
          <a:xfrm>
            <a:off x="-1800" y="6551640"/>
            <a:ext cx="3718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Copyright © 2013 </a:t>
            </a:r>
            <a:r>
              <a:rPr b="1" lang="en-US" sz="1000" spc="-1" strike="noStrike">
                <a:solidFill>
                  <a:srgbClr val="d9d9d9"/>
                </a:solidFill>
                <a:latin typeface="Arial"/>
              </a:rPr>
              <a:t>Logical Operations, Inc</a:t>
            </a: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3" descr=""/>
          <p:cNvPicPr/>
          <p:nvPr/>
        </p:nvPicPr>
        <p:blipFill>
          <a:blip r:embed="rId2"/>
          <a:stretch/>
        </p:blipFill>
        <p:spPr>
          <a:xfrm>
            <a:off x="6019920" y="2666880"/>
            <a:ext cx="1676160" cy="5526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0" y="-7920"/>
            <a:ext cx="9144000" cy="9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Course Outline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ating and Configuring a Site Col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figuring the Top-Level 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figuring Site Collection Meta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Archiving and Compli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ating and Testing a Work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figuring 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1T12:27:45Z</dcterms:created>
  <dc:creator>peterl@aeshen.com</dc:creator>
  <dc:description>Version 1.6
03.31.03</dc:description>
  <dc:language>en-US</dc:language>
  <cp:lastModifiedBy>Tricia Murphy</cp:lastModifiedBy>
  <dcterms:modified xsi:type="dcterms:W3CDTF">2013-08-05T19:43:12Z</dcterms:modified>
  <cp:revision>94</cp:revision>
  <dc:subject>Courseware Resource Supplement</dc:subject>
  <dc:title>OV-ILT Template –  Content Developer Section</dc:title>
</cp:coreProperties>
</file>