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EC06-D9BC-46D4-A299-CEE26BBEC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47C1163-0F0C-4225-9ADD-7529FD5A3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D1AE515-43C6-4A40-966B-697583490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6 - </a:t>
            </a:r>
            <a:fld id="{00B018ED-6BEB-403F-B312-DBB1DFD87E51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03040"/>
            <a:ext cx="6853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figuring Search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gure Search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rch for Content and Set Ale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List and Library Search Op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2" descr="F:\SVN\091109\trunk\091109\images\L6-List&amp;LibrarySearch.png"/>
          <p:cNvPicPr/>
          <p:nvPr/>
        </p:nvPicPr>
        <p:blipFill>
          <a:blip r:embed="rId1"/>
          <a:stretch/>
        </p:blipFill>
        <p:spPr>
          <a:xfrm>
            <a:off x="1844640" y="2255760"/>
            <a:ext cx="5362560" cy="1447920"/>
          </a:xfrm>
          <a:prstGeom prst="rect">
            <a:avLst/>
          </a:prstGeom>
          <a:ln w="0">
            <a:noFill/>
          </a:ln>
        </p:spPr>
      </p:pic>
      <p:sp>
        <p:nvSpPr>
          <p:cNvPr id="53" name="Rounded Rectangle 4"/>
          <p:cNvSpPr/>
          <p:nvPr/>
        </p:nvSpPr>
        <p:spPr>
          <a:xfrm>
            <a:off x="3214800" y="3502080"/>
            <a:ext cx="2535120" cy="73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lect Yes or No to determine if items in this list / library appear on search results lis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03"/>
          <p:cNvSpPr/>
          <p:nvPr/>
        </p:nvSpPr>
        <p:spPr>
          <a:xfrm flipH="1" rot="16200000">
            <a:off x="4308840" y="2744640"/>
            <a:ext cx="343080" cy="1101960"/>
          </a:xfrm>
          <a:custGeom>
            <a:avLst/>
            <a:gdLst>
              <a:gd name="textAreaLeft" fmla="*/ -360 w 343080"/>
              <a:gd name="textAreaRight" fmla="*/ 123480 w 343080"/>
              <a:gd name="textAreaTop" fmla="*/ 70920 h 1101960"/>
              <a:gd name="textAreaBottom" fmla="*/ 1031040 h 110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26"/>
                  <a:pt x="10800" y="4451"/>
                </a:cubicBezTo>
                <a:lnTo>
                  <a:pt x="10800" y="6349"/>
                </a:lnTo>
                <a:cubicBezTo>
                  <a:pt x="10800" y="8575"/>
                  <a:pt x="16200" y="10800"/>
                  <a:pt x="21600" y="10800"/>
                </a:cubicBezTo>
                <a:cubicBezTo>
                  <a:pt x="16200" y="10800"/>
                  <a:pt x="10800" y="13026"/>
                  <a:pt x="10800" y="15251"/>
                </a:cubicBezTo>
                <a:lnTo>
                  <a:pt x="10800" y="17149"/>
                </a:lnTo>
                <a:cubicBezTo>
                  <a:pt x="10800" y="19375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earch Alert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6" name="Picture 3" descr="F:\SVN\091109\trunk\091109\images\L6-AlertMsg.png"/>
          <p:cNvPicPr/>
          <p:nvPr/>
        </p:nvPicPr>
        <p:blipFill>
          <a:blip r:embed="rId1"/>
          <a:stretch/>
        </p:blipFill>
        <p:spPr>
          <a:xfrm>
            <a:off x="1076400" y="4713120"/>
            <a:ext cx="3268440" cy="185112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57" name="Picture 4" descr="F:\SVN\091109\trunk\091109\images\L6-Search.png"/>
          <p:cNvPicPr/>
          <p:nvPr/>
        </p:nvPicPr>
        <p:blipFill>
          <a:blip r:embed="rId2"/>
          <a:stretch/>
        </p:blipFill>
        <p:spPr>
          <a:xfrm>
            <a:off x="1092240" y="1009800"/>
            <a:ext cx="3110040" cy="176184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58" name="Picture 2" descr="F:\SVN\091109\trunk\091109\images\L6-Alert.png"/>
          <p:cNvPicPr/>
          <p:nvPr/>
        </p:nvPicPr>
        <p:blipFill>
          <a:blip r:embed="rId3"/>
          <a:stretch/>
        </p:blipFill>
        <p:spPr>
          <a:xfrm>
            <a:off x="4202280" y="2852640"/>
            <a:ext cx="3719520" cy="17668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59" name="AutoShape 309"/>
          <p:cNvSpPr/>
          <p:nvPr/>
        </p:nvSpPr>
        <p:spPr>
          <a:xfrm flipV="1" rot="2770200">
            <a:off x="3984480" y="2618280"/>
            <a:ext cx="381240" cy="304920"/>
          </a:xfrm>
          <a:prstGeom prst="rightArrow">
            <a:avLst>
              <a:gd name="adj1" fmla="val 52602"/>
              <a:gd name="adj2" fmla="val 59586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09"/>
          <p:cNvSpPr/>
          <p:nvPr/>
        </p:nvSpPr>
        <p:spPr>
          <a:xfrm flipV="1" rot="8103000">
            <a:off x="4011480" y="4559400"/>
            <a:ext cx="381240" cy="304920"/>
          </a:xfrm>
          <a:prstGeom prst="rightArrow">
            <a:avLst>
              <a:gd name="adj1" fmla="val 52602"/>
              <a:gd name="adj2" fmla="val 59586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07"/>
          <p:cNvSpPr/>
          <p:nvPr/>
        </p:nvSpPr>
        <p:spPr>
          <a:xfrm>
            <a:off x="4775040" y="1231920"/>
            <a:ext cx="21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ate alert on search result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4410000" y="1292400"/>
            <a:ext cx="382680" cy="403200"/>
          </a:xfrm>
          <a:custGeom>
            <a:avLst/>
            <a:gdLst>
              <a:gd name="textAreaLeft" fmla="*/ 18360 w 382680"/>
              <a:gd name="textAreaRight" fmla="*/ 364320 w 382680"/>
              <a:gd name="textAreaTop" fmla="*/ 18360 h 403200"/>
              <a:gd name="textAreaBottom" fmla="*/ 384840 h 403200"/>
            </a:gdLst>
            <a:ahLst/>
            <a:rect l="textAreaLeft" t="textAreaTop" r="textAreaRight" b="textAreaBottom"/>
            <a:pathLst>
              <a:path w="21600" h="22757">
                <a:moveTo>
                  <a:pt x="3600" y="0"/>
                </a:moveTo>
                <a:arcTo wR="3600" hR="3600" stAng="16200000" swAng="-5400000"/>
                <a:lnTo>
                  <a:pt x="0" y="19157"/>
                </a:lnTo>
                <a:arcTo wR="3600" hR="3600" stAng="10800000" swAng="-5400000"/>
                <a:lnTo>
                  <a:pt x="18000" y="227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10"/>
          <p:cNvSpPr/>
          <p:nvPr/>
        </p:nvSpPr>
        <p:spPr>
          <a:xfrm>
            <a:off x="2276640" y="3446640"/>
            <a:ext cx="433080" cy="40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7"/>
          <p:cNvSpPr/>
          <p:nvPr/>
        </p:nvSpPr>
        <p:spPr>
          <a:xfrm>
            <a:off x="2766960" y="3392640"/>
            <a:ext cx="11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figure al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12"/>
          <p:cNvSpPr/>
          <p:nvPr/>
        </p:nvSpPr>
        <p:spPr>
          <a:xfrm>
            <a:off x="4602240" y="5425920"/>
            <a:ext cx="392040" cy="35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07"/>
          <p:cNvSpPr/>
          <p:nvPr/>
        </p:nvSpPr>
        <p:spPr>
          <a:xfrm>
            <a:off x="5175360" y="5342040"/>
            <a:ext cx="24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 email updates with search results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do you think search-based alerts would be most helpful for you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there a centralized search server in your organization and why would you want centralized search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2:50:30Z</dcterms:created>
  <dc:creator>khess</dc:creator>
  <dc:description/>
  <dc:language>en-US</dc:language>
  <cp:lastModifiedBy>Tricia Murphy</cp:lastModifiedBy>
  <dcterms:modified xsi:type="dcterms:W3CDTF">2013-08-05T20:01:24Z</dcterms:modified>
  <cp:revision>118</cp:revision>
  <dc:subject/>
  <dc:title>Lesson One: Advanced Form Design</dc:title>
</cp:coreProperties>
</file>