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D4B1-921D-4A2E-8492-B06109C49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F85360A-3500-4EEE-B05F-137F7AB1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18A0A75-F95D-4650-929A-FCE5071F9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A7F06EA3-6ACD-432A-9D12-25645317F582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figuring Your SharePoint Profil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 and Share Your Profil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and Follow SharePoint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B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Profil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F:\LO Software\Lesson4\Lesson4-ProfilePage476.png"/>
          <p:cNvPicPr/>
          <p:nvPr/>
        </p:nvPicPr>
        <p:blipFill>
          <a:blip r:embed="rId1"/>
          <a:stretch/>
        </p:blipFill>
        <p:spPr>
          <a:xfrm>
            <a:off x="2522520" y="2405160"/>
            <a:ext cx="4533840" cy="2257200"/>
          </a:xfrm>
          <a:prstGeom prst="rect">
            <a:avLst/>
          </a:prstGeom>
          <a:ln w="0">
            <a:noFill/>
          </a:ln>
        </p:spPr>
      </p:pic>
      <p:sp>
        <p:nvSpPr>
          <p:cNvPr id="53" name="Line 144"/>
          <p:cNvSpPr/>
          <p:nvPr/>
        </p:nvSpPr>
        <p:spPr>
          <a:xfrm flipH="1">
            <a:off x="4536720" y="27241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6"/>
          <p:cNvSpPr/>
          <p:nvPr/>
        </p:nvSpPr>
        <p:spPr>
          <a:xfrm>
            <a:off x="1144440" y="3282840"/>
            <a:ext cx="121932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al site lin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03"/>
          <p:cNvSpPr/>
          <p:nvPr/>
        </p:nvSpPr>
        <p:spPr>
          <a:xfrm flipH="1">
            <a:off x="2363760" y="3208320"/>
            <a:ext cx="176400" cy="649440"/>
          </a:xfrm>
          <a:custGeom>
            <a:avLst/>
            <a:gdLst>
              <a:gd name="textAreaLeft" fmla="*/ 360 w 176400"/>
              <a:gd name="textAreaRight" fmla="*/ 64080 w 176400"/>
              <a:gd name="textAreaTop" fmla="*/ 36000 h 649440"/>
              <a:gd name="textAreaBottom" fmla="*/ 61344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21"/>
                  <a:pt x="10800" y="3842"/>
                </a:cubicBezTo>
                <a:lnTo>
                  <a:pt x="10800" y="6958"/>
                </a:lnTo>
                <a:cubicBezTo>
                  <a:pt x="10800" y="8879"/>
                  <a:pt x="16200" y="10800"/>
                  <a:pt x="21600" y="10800"/>
                </a:cubicBezTo>
                <a:cubicBezTo>
                  <a:pt x="16200" y="10800"/>
                  <a:pt x="10800" y="12721"/>
                  <a:pt x="10800" y="14642"/>
                </a:cubicBezTo>
                <a:lnTo>
                  <a:pt x="10800" y="17758"/>
                </a:lnTo>
                <a:cubicBezTo>
                  <a:pt x="10800" y="1967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9"/>
          <p:cNvSpPr/>
          <p:nvPr/>
        </p:nvSpPr>
        <p:spPr>
          <a:xfrm>
            <a:off x="5149800" y="3809880"/>
            <a:ext cx="1365480" cy="4320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cent activ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03"/>
          <p:cNvSpPr/>
          <p:nvPr/>
        </p:nvSpPr>
        <p:spPr>
          <a:xfrm flipH="1" flipV="1" rot="10800000">
            <a:off x="4950360" y="3389400"/>
            <a:ext cx="198360" cy="1272960"/>
          </a:xfrm>
          <a:custGeom>
            <a:avLst/>
            <a:gdLst>
              <a:gd name="textAreaLeft" fmla="*/ 0 w 198360"/>
              <a:gd name="textAreaRight" fmla="*/ 71640 w 198360"/>
              <a:gd name="textAreaTop" fmla="*/ 40680 h 1272960"/>
              <a:gd name="textAreaBottom" fmla="*/ 1232280 h 127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8"/>
                  <a:pt x="10800" y="2215"/>
                </a:cubicBezTo>
                <a:lnTo>
                  <a:pt x="10800" y="8585"/>
                </a:lnTo>
                <a:cubicBezTo>
                  <a:pt x="10800" y="9693"/>
                  <a:pt x="16200" y="10800"/>
                  <a:pt x="21600" y="10800"/>
                </a:cubicBezTo>
                <a:cubicBezTo>
                  <a:pt x="16200" y="10800"/>
                  <a:pt x="10800" y="11908"/>
                  <a:pt x="10800" y="13015"/>
                </a:cubicBezTo>
                <a:lnTo>
                  <a:pt x="10800" y="19385"/>
                </a:lnTo>
                <a:cubicBezTo>
                  <a:pt x="10800" y="2049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1"/>
          <p:cNvSpPr/>
          <p:nvPr/>
        </p:nvSpPr>
        <p:spPr>
          <a:xfrm>
            <a:off x="5149800" y="2421000"/>
            <a:ext cx="1362240" cy="6062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ser name associated with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4"/>
          <p:cNvSpPr/>
          <p:nvPr/>
        </p:nvSpPr>
        <p:spPr>
          <a:xfrm>
            <a:off x="3611520" y="223848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2"/>
          <p:cNvSpPr/>
          <p:nvPr/>
        </p:nvSpPr>
        <p:spPr>
          <a:xfrm>
            <a:off x="3002040" y="1841400"/>
            <a:ext cx="122076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dit profile lin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diting Your SharePoint Profil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" name="Picture 3" descr="F:\LO Software\Lesson4\Lesson4-ProfilePage2476.png"/>
          <p:cNvPicPr/>
          <p:nvPr/>
        </p:nvPicPr>
        <p:blipFill>
          <a:blip r:embed="rId1"/>
          <a:stretch/>
        </p:blipFill>
        <p:spPr>
          <a:xfrm>
            <a:off x="2268360" y="2060640"/>
            <a:ext cx="4534200" cy="29620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03"/>
          <p:cNvSpPr/>
          <p:nvPr/>
        </p:nvSpPr>
        <p:spPr>
          <a:xfrm flipH="1">
            <a:off x="3009240" y="3081240"/>
            <a:ext cx="230040" cy="1822680"/>
          </a:xfrm>
          <a:custGeom>
            <a:avLst/>
            <a:gdLst>
              <a:gd name="textAreaLeft" fmla="*/ 0 w 230040"/>
              <a:gd name="textAreaRight" fmla="*/ 83160 w 230040"/>
              <a:gd name="textAreaTop" fmla="*/ 47160 h 1822680"/>
              <a:gd name="textAreaBottom" fmla="*/ 1775520 h 182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1630440" y="3686040"/>
            <a:ext cx="1365120" cy="5860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file Information about yo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03"/>
          <p:cNvSpPr/>
          <p:nvPr/>
        </p:nvSpPr>
        <p:spPr>
          <a:xfrm flipH="1" flipV="1" rot="10800000">
            <a:off x="6191640" y="3080160"/>
            <a:ext cx="196920" cy="1752840"/>
          </a:xfrm>
          <a:custGeom>
            <a:avLst/>
            <a:gdLst>
              <a:gd name="textAreaLeft" fmla="*/ 0 w 196920"/>
              <a:gd name="textAreaRight" fmla="*/ 70920 w 196920"/>
              <a:gd name="textAreaTop" fmla="*/ 40680 h 1752840"/>
              <a:gd name="textAreaBottom" fmla="*/ 171216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5"/>
                  <a:pt x="10800" y="1609"/>
                </a:cubicBezTo>
                <a:lnTo>
                  <a:pt x="10800" y="9191"/>
                </a:lnTo>
                <a:cubicBezTo>
                  <a:pt x="10800" y="9996"/>
                  <a:pt x="16200" y="10800"/>
                  <a:pt x="21600" y="10800"/>
                </a:cubicBezTo>
                <a:cubicBezTo>
                  <a:pt x="16200" y="10800"/>
                  <a:pt x="10800" y="11605"/>
                  <a:pt x="10800" y="12409"/>
                </a:cubicBezTo>
                <a:lnTo>
                  <a:pt x="10800" y="19991"/>
                </a:lnTo>
                <a:cubicBezTo>
                  <a:pt x="10800" y="2079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9"/>
          <p:cNvSpPr/>
          <p:nvPr/>
        </p:nvSpPr>
        <p:spPr>
          <a:xfrm>
            <a:off x="6391440" y="3654360"/>
            <a:ext cx="1363320" cy="6066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rmissions set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03"/>
          <p:cNvSpPr/>
          <p:nvPr/>
        </p:nvSpPr>
        <p:spPr>
          <a:xfrm flipH="1" rot="5400000">
            <a:off x="4079160" y="1626840"/>
            <a:ext cx="290520" cy="1944360"/>
          </a:xfrm>
          <a:custGeom>
            <a:avLst/>
            <a:gdLst>
              <a:gd name="textAreaLeft" fmla="*/ 0 w 290520"/>
              <a:gd name="textAreaRight" fmla="*/ 104760 w 290520"/>
              <a:gd name="textAreaTop" fmla="*/ 59760 h 1944360"/>
              <a:gd name="textAreaBottom" fmla="*/ 188460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2"/>
                  <a:pt x="10800" y="2123"/>
                </a:cubicBezTo>
                <a:lnTo>
                  <a:pt x="10800" y="8677"/>
                </a:lnTo>
                <a:cubicBezTo>
                  <a:pt x="10800" y="9739"/>
                  <a:pt x="16200" y="10800"/>
                  <a:pt x="21600" y="10800"/>
                </a:cubicBezTo>
                <a:cubicBezTo>
                  <a:pt x="16200" y="10800"/>
                  <a:pt x="10800" y="11862"/>
                  <a:pt x="10800" y="12923"/>
                </a:cubicBezTo>
                <a:lnTo>
                  <a:pt x="10800" y="19477"/>
                </a:lnTo>
                <a:cubicBezTo>
                  <a:pt x="10800" y="2053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3"/>
          <p:cNvSpPr/>
          <p:nvPr/>
        </p:nvSpPr>
        <p:spPr>
          <a:xfrm>
            <a:off x="3544920" y="1847880"/>
            <a:ext cx="1361880" cy="6062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file Information Catego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ersonal Site Acces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0" name="Picture 2" descr="F:\LO Software\Lesson4\Personal Site Access.png"/>
          <p:cNvPicPr/>
          <p:nvPr/>
        </p:nvPicPr>
        <p:blipFill>
          <a:blip r:embed="rId1"/>
          <a:stretch/>
        </p:blipFill>
        <p:spPr>
          <a:xfrm>
            <a:off x="2286000" y="2962440"/>
            <a:ext cx="4381560" cy="15141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03"/>
          <p:cNvSpPr/>
          <p:nvPr/>
        </p:nvSpPr>
        <p:spPr>
          <a:xfrm flipH="1" rot="5400000">
            <a:off x="4103640" y="1898280"/>
            <a:ext cx="290520" cy="1836720"/>
          </a:xfrm>
          <a:custGeom>
            <a:avLst/>
            <a:gdLst>
              <a:gd name="textAreaLeft" fmla="*/ 0 w 290520"/>
              <a:gd name="textAreaRight" fmla="*/ 104760 w 290520"/>
              <a:gd name="textAreaTop" fmla="*/ 59760 h 1836720"/>
              <a:gd name="textAreaBottom" fmla="*/ 1776960 h 18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24"/>
                  <a:pt x="10800" y="2247"/>
                </a:cubicBezTo>
                <a:lnTo>
                  <a:pt x="10800" y="8553"/>
                </a:lnTo>
                <a:cubicBezTo>
                  <a:pt x="10800" y="9677"/>
                  <a:pt x="16200" y="10800"/>
                  <a:pt x="21600" y="10800"/>
                </a:cubicBezTo>
                <a:cubicBezTo>
                  <a:pt x="16200" y="10800"/>
                  <a:pt x="10800" y="11924"/>
                  <a:pt x="10800" y="13047"/>
                </a:cubicBezTo>
                <a:lnTo>
                  <a:pt x="10800" y="19353"/>
                </a:lnTo>
                <a:cubicBezTo>
                  <a:pt x="10800" y="2047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5"/>
          <p:cNvSpPr/>
          <p:nvPr/>
        </p:nvSpPr>
        <p:spPr>
          <a:xfrm>
            <a:off x="3516480" y="2182680"/>
            <a:ext cx="146340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ttons to access your personal si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Follow Butt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4" name="Picture 2" descr="F:\LO Software\Lesson4\Personal Site Access.png"/>
          <p:cNvPicPr/>
          <p:nvPr/>
        </p:nvPicPr>
        <p:blipFill>
          <a:blip r:embed="rId1"/>
          <a:stretch/>
        </p:blipFill>
        <p:spPr>
          <a:xfrm>
            <a:off x="2293920" y="3029040"/>
            <a:ext cx="4381560" cy="1514520"/>
          </a:xfrm>
          <a:prstGeom prst="rect">
            <a:avLst/>
          </a:prstGeom>
          <a:ln w="0">
            <a:noFill/>
          </a:ln>
        </p:spPr>
      </p:pic>
      <p:sp>
        <p:nvSpPr>
          <p:cNvPr id="75" name="Line 144"/>
          <p:cNvSpPr/>
          <p:nvPr/>
        </p:nvSpPr>
        <p:spPr>
          <a:xfrm>
            <a:off x="5864400" y="277668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5138640" y="2344680"/>
            <a:ext cx="146232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llow 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wsfee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" name="Picture 2" descr="F:\LO Software\Lesson4\Lesson4-Newsfeed476.png"/>
          <p:cNvPicPr/>
          <p:nvPr/>
        </p:nvPicPr>
        <p:blipFill>
          <a:blip r:embed="rId1"/>
          <a:stretch/>
        </p:blipFill>
        <p:spPr>
          <a:xfrm>
            <a:off x="2362320" y="2384280"/>
            <a:ext cx="4533840" cy="24670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03"/>
          <p:cNvSpPr/>
          <p:nvPr/>
        </p:nvSpPr>
        <p:spPr>
          <a:xfrm flipH="1">
            <a:off x="3091680" y="3124080"/>
            <a:ext cx="228600" cy="1727280"/>
          </a:xfrm>
          <a:custGeom>
            <a:avLst/>
            <a:gdLst>
              <a:gd name="textAreaLeft" fmla="*/ 0 w 228600"/>
              <a:gd name="textAreaRight" fmla="*/ 82440 w 228600"/>
              <a:gd name="textAreaTop" fmla="*/ 47160 h 1727280"/>
              <a:gd name="textAreaBottom" fmla="*/ 168012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47"/>
                  <a:pt x="10800" y="1893"/>
                </a:cubicBezTo>
                <a:lnTo>
                  <a:pt x="10800" y="8907"/>
                </a:lnTo>
                <a:cubicBezTo>
                  <a:pt x="10800" y="9854"/>
                  <a:pt x="16200" y="10800"/>
                  <a:pt x="21600" y="10800"/>
                </a:cubicBezTo>
                <a:cubicBezTo>
                  <a:pt x="16200" y="10800"/>
                  <a:pt x="10800" y="11747"/>
                  <a:pt x="10800" y="12693"/>
                </a:cubicBezTo>
                <a:lnTo>
                  <a:pt x="10800" y="19707"/>
                </a:lnTo>
                <a:cubicBezTo>
                  <a:pt x="10800" y="2065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1727280" y="3787920"/>
            <a:ext cx="1365120" cy="3999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cent activ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03"/>
          <p:cNvSpPr/>
          <p:nvPr/>
        </p:nvSpPr>
        <p:spPr>
          <a:xfrm flipH="1" flipV="1" rot="10800000">
            <a:off x="6321960" y="2977200"/>
            <a:ext cx="198360" cy="1277640"/>
          </a:xfrm>
          <a:custGeom>
            <a:avLst/>
            <a:gdLst>
              <a:gd name="textAreaLeft" fmla="*/ 0 w 198360"/>
              <a:gd name="textAreaRight" fmla="*/ 71640 w 198360"/>
              <a:gd name="textAreaTop" fmla="*/ 40680 h 1277640"/>
              <a:gd name="textAreaBottom" fmla="*/ 1236960 h 127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4"/>
                  <a:pt x="10800" y="2207"/>
                </a:cubicBezTo>
                <a:lnTo>
                  <a:pt x="10800" y="8593"/>
                </a:lnTo>
                <a:cubicBezTo>
                  <a:pt x="10800" y="9697"/>
                  <a:pt x="16200" y="10800"/>
                  <a:pt x="21600" y="10800"/>
                </a:cubicBezTo>
                <a:cubicBezTo>
                  <a:pt x="16200" y="10800"/>
                  <a:pt x="10800" y="11904"/>
                  <a:pt x="10800" y="13007"/>
                </a:cubicBezTo>
                <a:lnTo>
                  <a:pt x="10800" y="19393"/>
                </a:lnTo>
                <a:cubicBezTo>
                  <a:pt x="10800" y="2049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03"/>
          <p:cNvSpPr/>
          <p:nvPr/>
        </p:nvSpPr>
        <p:spPr>
          <a:xfrm flipH="1" rot="5400000">
            <a:off x="4152600" y="1491840"/>
            <a:ext cx="290520" cy="1960560"/>
          </a:xfrm>
          <a:custGeom>
            <a:avLst/>
            <a:gdLst>
              <a:gd name="textAreaLeft" fmla="*/ 0 w 290520"/>
              <a:gd name="textAreaRight" fmla="*/ 104760 w 290520"/>
              <a:gd name="textAreaTop" fmla="*/ 59760 h 1960560"/>
              <a:gd name="textAreaBottom" fmla="*/ 190080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52"/>
                  <a:pt x="10800" y="2104"/>
                </a:cubicBezTo>
                <a:lnTo>
                  <a:pt x="10800" y="8696"/>
                </a:lnTo>
                <a:cubicBezTo>
                  <a:pt x="10800" y="9748"/>
                  <a:pt x="16200" y="10800"/>
                  <a:pt x="21600" y="10800"/>
                </a:cubicBezTo>
                <a:cubicBezTo>
                  <a:pt x="16200" y="10800"/>
                  <a:pt x="10800" y="11852"/>
                  <a:pt x="10800" y="12904"/>
                </a:cubicBezTo>
                <a:lnTo>
                  <a:pt x="10800" y="19496"/>
                </a:lnTo>
                <a:cubicBezTo>
                  <a:pt x="10800" y="2054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3"/>
          <p:cNvSpPr/>
          <p:nvPr/>
        </p:nvSpPr>
        <p:spPr>
          <a:xfrm>
            <a:off x="6521400" y="3209760"/>
            <a:ext cx="1395360" cy="774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ople, documents, sites, and tags you’re fo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4"/>
          <p:cNvSpPr/>
          <p:nvPr/>
        </p:nvSpPr>
        <p:spPr>
          <a:xfrm flipH="1">
            <a:off x="6114960" y="4349880"/>
            <a:ext cx="532080" cy="11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4"/>
          <p:cNvSpPr/>
          <p:nvPr/>
        </p:nvSpPr>
        <p:spPr>
          <a:xfrm>
            <a:off x="6521400" y="4186080"/>
            <a:ext cx="1395360" cy="3891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rending ta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4"/>
          <p:cNvSpPr/>
          <p:nvPr/>
        </p:nvSpPr>
        <p:spPr>
          <a:xfrm>
            <a:off x="2979720" y="2816280"/>
            <a:ext cx="338040" cy="18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6"/>
          <p:cNvSpPr/>
          <p:nvPr/>
        </p:nvSpPr>
        <p:spPr>
          <a:xfrm>
            <a:off x="1727280" y="2585880"/>
            <a:ext cx="1365120" cy="649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wsfeed section navig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18"/>
          <p:cNvSpPr/>
          <p:nvPr/>
        </p:nvSpPr>
        <p:spPr>
          <a:xfrm>
            <a:off x="3600360" y="1866960"/>
            <a:ext cx="1395360" cy="38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our status bo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kyDriv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Picture 4" descr="F:\LO Software\Lesson4\Lesson4-SkyDrive476.png"/>
          <p:cNvPicPr/>
          <p:nvPr/>
        </p:nvPicPr>
        <p:blipFill>
          <a:blip r:embed="rId1"/>
          <a:stretch/>
        </p:blipFill>
        <p:spPr>
          <a:xfrm>
            <a:off x="2133720" y="2246400"/>
            <a:ext cx="4533840" cy="2476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03"/>
          <p:cNvSpPr/>
          <p:nvPr/>
        </p:nvSpPr>
        <p:spPr>
          <a:xfrm flipH="1" rot="10800000">
            <a:off x="6238800" y="3884760"/>
            <a:ext cx="223920" cy="760320"/>
          </a:xfrm>
          <a:custGeom>
            <a:avLst/>
            <a:gdLst>
              <a:gd name="textAreaLeft" fmla="*/ 0 w 223920"/>
              <a:gd name="textAreaRight" fmla="*/ 80640 w 223920"/>
              <a:gd name="textAreaTop" fmla="*/ 46080 h 760320"/>
              <a:gd name="textAreaBottom" fmla="*/ 71424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98"/>
                  <a:pt x="10800" y="4196"/>
                </a:cubicBezTo>
                <a:lnTo>
                  <a:pt x="10800" y="6521"/>
                </a:lnTo>
                <a:cubicBezTo>
                  <a:pt x="10800" y="8619"/>
                  <a:pt x="16200" y="10717"/>
                  <a:pt x="21600" y="10717"/>
                </a:cubicBezTo>
                <a:cubicBezTo>
                  <a:pt x="16200" y="10717"/>
                  <a:pt x="10800" y="12815"/>
                  <a:pt x="10800" y="14913"/>
                </a:cubicBezTo>
                <a:lnTo>
                  <a:pt x="10800" y="17404"/>
                </a:lnTo>
                <a:cubicBezTo>
                  <a:pt x="10800" y="1950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6462720" y="4098960"/>
            <a:ext cx="1365120" cy="3985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ocuments in your SkyDr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8"/>
          <p:cNvSpPr/>
          <p:nvPr/>
        </p:nvSpPr>
        <p:spPr>
          <a:xfrm>
            <a:off x="1827360" y="1541520"/>
            <a:ext cx="1619280" cy="51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ndard SharePoint document library contr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03"/>
          <p:cNvSpPr/>
          <p:nvPr/>
        </p:nvSpPr>
        <p:spPr>
          <a:xfrm flipH="1" rot="5400000">
            <a:off x="2474640" y="1724760"/>
            <a:ext cx="322560" cy="1044360"/>
          </a:xfrm>
          <a:custGeom>
            <a:avLst/>
            <a:gdLst>
              <a:gd name="textAreaLeft" fmla="*/ 360 w 322560"/>
              <a:gd name="textAreaRight" fmla="*/ 116640 w 322560"/>
              <a:gd name="textAreaTop" fmla="*/ 66240 h 1044360"/>
              <a:gd name="textAreaBottom" fmla="*/ 978120 h 10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97"/>
                  <a:pt x="10800" y="4393"/>
                </a:cubicBezTo>
                <a:lnTo>
                  <a:pt x="10800" y="6324"/>
                </a:lnTo>
                <a:cubicBezTo>
                  <a:pt x="10800" y="8521"/>
                  <a:pt x="16200" y="10717"/>
                  <a:pt x="21600" y="10717"/>
                </a:cubicBezTo>
                <a:cubicBezTo>
                  <a:pt x="16200" y="10717"/>
                  <a:pt x="10800" y="12914"/>
                  <a:pt x="10800" y="15110"/>
                </a:cubicBezTo>
                <a:lnTo>
                  <a:pt x="10800" y="17207"/>
                </a:lnTo>
                <a:cubicBezTo>
                  <a:pt x="10800" y="1940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4"/>
          <p:cNvSpPr/>
          <p:nvPr/>
        </p:nvSpPr>
        <p:spPr>
          <a:xfrm flipV="1">
            <a:off x="2567160" y="3777840"/>
            <a:ext cx="0" cy="53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1882800" y="4108320"/>
            <a:ext cx="1366920" cy="3985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ink to followed docu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it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Picture 2" descr="F:\LO Software\Lesson4\Lesson4-Sites476.png"/>
          <p:cNvPicPr/>
          <p:nvPr/>
        </p:nvPicPr>
        <p:blipFill>
          <a:blip r:embed="rId1"/>
          <a:stretch/>
        </p:blipFill>
        <p:spPr>
          <a:xfrm>
            <a:off x="2362320" y="2457360"/>
            <a:ext cx="4533840" cy="18766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03"/>
          <p:cNvSpPr/>
          <p:nvPr/>
        </p:nvSpPr>
        <p:spPr>
          <a:xfrm flipH="1">
            <a:off x="3333600" y="3395520"/>
            <a:ext cx="216000" cy="825480"/>
          </a:xfrm>
          <a:custGeom>
            <a:avLst/>
            <a:gdLst>
              <a:gd name="textAreaLeft" fmla="*/ 360 w 216000"/>
              <a:gd name="textAreaRight" fmla="*/ 78480 w 216000"/>
              <a:gd name="textAreaTop" fmla="*/ 44280 h 825480"/>
              <a:gd name="textAreaBottom" fmla="*/ 781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62"/>
                  <a:pt x="10800" y="3723"/>
                </a:cubicBezTo>
                <a:lnTo>
                  <a:pt x="10800" y="11977"/>
                </a:lnTo>
                <a:cubicBezTo>
                  <a:pt x="10800" y="13839"/>
                  <a:pt x="16200" y="15700"/>
                  <a:pt x="21600" y="15700"/>
                </a:cubicBezTo>
                <a:cubicBezTo>
                  <a:pt x="16200" y="15700"/>
                  <a:pt x="10800" y="17562"/>
                  <a:pt x="10800" y="19423"/>
                </a:cubicBezTo>
                <a:lnTo>
                  <a:pt x="10800" y="17877"/>
                </a:lnTo>
                <a:cubicBezTo>
                  <a:pt x="10800" y="1973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5"/>
          <p:cNvSpPr/>
          <p:nvPr/>
        </p:nvSpPr>
        <p:spPr>
          <a:xfrm>
            <a:off x="1952640" y="371628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inks to sites you’re fo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would you follow content in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your organization could take advantage of SharePoint social collaboration features to improve productiv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2T15:08:07Z</dcterms:modified>
  <cp:revision>27</cp:revision>
  <dc:subject/>
  <dc:title>Lesson One: Advanced Form Design</dc:title>
</cp:coreProperties>
</file>