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8A10AC-FCA9-4930-988A-A48DAA04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2A39B9-3AFF-4BA9-80D5-56989A08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ng and Navigating SharePoint Team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with Documents, Content, an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with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ing Your SharePoint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ng with Microsof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Offline and Remotely with Share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peterl@aeshen.com</dc:creator>
  <dc:description>Version 1.6
03.31.03</dc:description>
  <dc:language>en-US</dc:language>
  <cp:lastModifiedBy>Michelle</cp:lastModifiedBy>
  <dcterms:modified xsi:type="dcterms:W3CDTF">2013-01-23T05:40:05Z</dcterms:modified>
  <cp:revision>87</cp:revision>
  <dc:subject>Courseware Resource Supplement</dc:subject>
  <dc:title>OV-ILT Template –  Content Developer Section</dc:title>
</cp:coreProperties>
</file>