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9AA7-B9C8-4A21-A5DF-892FF1285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916E4DB-D4D4-43B7-8FA3-FADAC8626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CFF236C-6440-4F46-A34A-37450D0A5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2 - </a:t>
            </a:r>
            <a:fld id="{88158EA2-ED0F-46D1-AEB1-51BB05C013CD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03040"/>
            <a:ext cx="6853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figuring the Top Level Sit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a Tag Cloud Web 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an RSS Feed to Your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able Email Connectivity for a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and Configure Document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ag Cloud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4" descr="F:\SVN\091109\trunk\091109\images\sharepoint2010tagcloud_thumb.jpg"/>
          <p:cNvPicPr/>
          <p:nvPr/>
        </p:nvPicPr>
        <p:blipFill>
          <a:blip r:embed="rId1"/>
          <a:stretch/>
        </p:blipFill>
        <p:spPr>
          <a:xfrm>
            <a:off x="1768320" y="1739880"/>
            <a:ext cx="5067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ag Cloud Profil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" name="Picture 2" descr="F:\SVN\091109\trunk\091109\images\L2-TagProfile.png"/>
          <p:cNvPicPr/>
          <p:nvPr/>
        </p:nvPicPr>
        <p:blipFill>
          <a:blip r:embed="rId1"/>
          <a:stretch/>
        </p:blipFill>
        <p:spPr>
          <a:xfrm>
            <a:off x="1817640" y="1717560"/>
            <a:ext cx="5124600" cy="4372200"/>
          </a:xfrm>
          <a:prstGeom prst="rect">
            <a:avLst/>
          </a:prstGeom>
          <a:ln w="0">
            <a:noFill/>
          </a:ln>
        </p:spPr>
      </p:pic>
      <p:sp>
        <p:nvSpPr>
          <p:cNvPr id="55" name="Line 313"/>
          <p:cNvSpPr/>
          <p:nvPr/>
        </p:nvSpPr>
        <p:spPr>
          <a:xfrm>
            <a:off x="4362480" y="1604880"/>
            <a:ext cx="0" cy="30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03"/>
          <p:cNvSpPr/>
          <p:nvPr/>
        </p:nvSpPr>
        <p:spPr>
          <a:xfrm flipH="1" rot="5400000">
            <a:off x="3911400" y="896400"/>
            <a:ext cx="273240" cy="1641600"/>
          </a:xfrm>
          <a:custGeom>
            <a:avLst/>
            <a:gdLst>
              <a:gd name="textAreaLeft" fmla="*/ -360 w 273240"/>
              <a:gd name="textAreaRight" fmla="*/ 98280 w 273240"/>
              <a:gd name="textAreaTop" fmla="*/ 56160 h 1641600"/>
              <a:gd name="textAreaBottom" fmla="*/ 1585440 h 164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87"/>
                  <a:pt x="10800" y="2373"/>
                </a:cubicBezTo>
                <a:lnTo>
                  <a:pt x="10800" y="8427"/>
                </a:lnTo>
                <a:cubicBezTo>
                  <a:pt x="10800" y="9614"/>
                  <a:pt x="16200" y="10800"/>
                  <a:pt x="21600" y="10800"/>
                </a:cubicBezTo>
                <a:cubicBezTo>
                  <a:pt x="16200" y="10800"/>
                  <a:pt x="10800" y="11987"/>
                  <a:pt x="10800" y="13173"/>
                </a:cubicBezTo>
                <a:lnTo>
                  <a:pt x="10800" y="19227"/>
                </a:lnTo>
                <a:cubicBezTo>
                  <a:pt x="10800" y="2041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7"/>
          <p:cNvSpPr/>
          <p:nvPr/>
        </p:nvSpPr>
        <p:spPr>
          <a:xfrm>
            <a:off x="3425760" y="1146240"/>
            <a:ext cx="1244520" cy="42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g being profil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13"/>
          <p:cNvSpPr/>
          <p:nvPr/>
        </p:nvSpPr>
        <p:spPr>
          <a:xfrm>
            <a:off x="5613480" y="2249640"/>
            <a:ext cx="0" cy="420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5016600" y="1922400"/>
            <a:ext cx="1195200" cy="4222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dd to newsfe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3"/>
          <p:cNvSpPr/>
          <p:nvPr/>
        </p:nvSpPr>
        <p:spPr>
          <a:xfrm flipV="1">
            <a:off x="2728800" y="3160440"/>
            <a:ext cx="0" cy="903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11"/>
          <p:cNvSpPr/>
          <p:nvPr/>
        </p:nvSpPr>
        <p:spPr>
          <a:xfrm>
            <a:off x="2130480" y="4064040"/>
            <a:ext cx="1195200" cy="4222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List of items with the ta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12"/>
          <p:cNvSpPr/>
          <p:nvPr/>
        </p:nvSpPr>
        <p:spPr>
          <a:xfrm>
            <a:off x="3475080" y="2814480"/>
            <a:ext cx="1195200" cy="4222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dd to ‘Ask Me About’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13"/>
          <p:cNvSpPr/>
          <p:nvPr/>
        </p:nvSpPr>
        <p:spPr>
          <a:xfrm>
            <a:off x="3484440" y="3313080"/>
            <a:ext cx="1195560" cy="4618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View tag follow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13"/>
          <p:cNvSpPr/>
          <p:nvPr/>
        </p:nvSpPr>
        <p:spPr>
          <a:xfrm flipV="1">
            <a:off x="4670280" y="2930040"/>
            <a:ext cx="285840" cy="95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13"/>
          <p:cNvSpPr/>
          <p:nvPr/>
        </p:nvSpPr>
        <p:spPr>
          <a:xfrm>
            <a:off x="4670280" y="4064040"/>
            <a:ext cx="285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16"/>
          <p:cNvSpPr/>
          <p:nvPr/>
        </p:nvSpPr>
        <p:spPr>
          <a:xfrm>
            <a:off x="3475080" y="3833640"/>
            <a:ext cx="1195200" cy="46044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dd a no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SS Feeds in SharePoin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8" name="Picture 11" descr="F:\SVN\091109\trunk\091109\images\L2-RSSViewerInSharePoint.png"/>
          <p:cNvPicPr/>
          <p:nvPr/>
        </p:nvPicPr>
        <p:blipFill>
          <a:blip r:embed="rId1"/>
          <a:stretch/>
        </p:blipFill>
        <p:spPr>
          <a:xfrm>
            <a:off x="2306520" y="1739880"/>
            <a:ext cx="4705560" cy="3467160"/>
          </a:xfrm>
          <a:prstGeom prst="rect">
            <a:avLst/>
          </a:prstGeom>
          <a:ln w="0">
            <a:noFill/>
          </a:ln>
        </p:spPr>
      </p:pic>
      <p:sp>
        <p:nvSpPr>
          <p:cNvPr id="69" name="Rounded Rectangle 3"/>
          <p:cNvSpPr/>
          <p:nvPr/>
        </p:nvSpPr>
        <p:spPr>
          <a:xfrm>
            <a:off x="1127160" y="3530520"/>
            <a:ext cx="1082520" cy="48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wsfeed ite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4"/>
          <p:cNvSpPr/>
          <p:nvPr/>
        </p:nvSpPr>
        <p:spPr>
          <a:xfrm>
            <a:off x="2822400" y="4932360"/>
            <a:ext cx="1403640" cy="41760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ocial interaction links from fe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03"/>
          <p:cNvSpPr/>
          <p:nvPr/>
        </p:nvSpPr>
        <p:spPr>
          <a:xfrm flipH="1">
            <a:off x="2208960" y="2506680"/>
            <a:ext cx="173160" cy="2535120"/>
          </a:xfrm>
          <a:custGeom>
            <a:avLst/>
            <a:gdLst>
              <a:gd name="textAreaLeft" fmla="*/ -360 w 173160"/>
              <a:gd name="textAreaRight" fmla="*/ 62280 w 173160"/>
              <a:gd name="textAreaTop" fmla="*/ 35640 h 2535120"/>
              <a:gd name="textAreaBottom" fmla="*/ 2499480 h 253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6"/>
                  <a:pt x="10800" y="972"/>
                </a:cubicBezTo>
                <a:lnTo>
                  <a:pt x="10800" y="9828"/>
                </a:lnTo>
                <a:cubicBezTo>
                  <a:pt x="10800" y="10314"/>
                  <a:pt x="16200" y="10800"/>
                  <a:pt x="21600" y="10800"/>
                </a:cubicBezTo>
                <a:cubicBezTo>
                  <a:pt x="16200" y="10800"/>
                  <a:pt x="10800" y="11286"/>
                  <a:pt x="10800" y="11772"/>
                </a:cubicBezTo>
                <a:lnTo>
                  <a:pt x="10800" y="20628"/>
                </a:lnTo>
                <a:cubicBezTo>
                  <a:pt x="10800" y="2111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6"/>
          <p:cNvSpPr/>
          <p:nvPr/>
        </p:nvSpPr>
        <p:spPr>
          <a:xfrm>
            <a:off x="2382840" y="1085760"/>
            <a:ext cx="1495440" cy="42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itle of Web Pa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7"/>
          <p:cNvSpPr/>
          <p:nvPr/>
        </p:nvSpPr>
        <p:spPr>
          <a:xfrm>
            <a:off x="3394080" y="2903400"/>
            <a:ext cx="1193760" cy="40644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ee additional text of arti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13"/>
          <p:cNvSpPr/>
          <p:nvPr/>
        </p:nvSpPr>
        <p:spPr>
          <a:xfrm flipH="1">
            <a:off x="2789280" y="3106800"/>
            <a:ext cx="604800" cy="2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03"/>
          <p:cNvSpPr/>
          <p:nvPr/>
        </p:nvSpPr>
        <p:spPr>
          <a:xfrm flipH="1" rot="16200000">
            <a:off x="3303360" y="3774240"/>
            <a:ext cx="230040" cy="2073240"/>
          </a:xfrm>
          <a:custGeom>
            <a:avLst/>
            <a:gdLst>
              <a:gd name="textAreaLeft" fmla="*/ 0 w 230040"/>
              <a:gd name="textAreaRight" fmla="*/ 83160 w 230040"/>
              <a:gd name="textAreaTop" fmla="*/ 47160 h 2073240"/>
              <a:gd name="textAreaBottom" fmla="*/ 2026080 h 207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91"/>
                  <a:pt x="10800" y="1581"/>
                </a:cubicBezTo>
                <a:lnTo>
                  <a:pt x="10800" y="9219"/>
                </a:lnTo>
                <a:cubicBezTo>
                  <a:pt x="10800" y="10010"/>
                  <a:pt x="16200" y="10800"/>
                  <a:pt x="21600" y="10800"/>
                </a:cubicBezTo>
                <a:cubicBezTo>
                  <a:pt x="16200" y="10800"/>
                  <a:pt x="10800" y="11591"/>
                  <a:pt x="10800" y="12381"/>
                </a:cubicBezTo>
                <a:lnTo>
                  <a:pt x="10800" y="20019"/>
                </a:lnTo>
                <a:cubicBezTo>
                  <a:pt x="10800" y="2081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12"/>
          <p:cNvSpPr/>
          <p:nvPr/>
        </p:nvSpPr>
        <p:spPr>
          <a:xfrm>
            <a:off x="5340240" y="1932120"/>
            <a:ext cx="1193760" cy="40644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itle of fe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13"/>
          <p:cNvSpPr/>
          <p:nvPr/>
        </p:nvSpPr>
        <p:spPr>
          <a:xfrm flipH="1">
            <a:off x="4734000" y="2134440"/>
            <a:ext cx="606240" cy="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13"/>
          <p:cNvSpPr/>
          <p:nvPr/>
        </p:nvSpPr>
        <p:spPr>
          <a:xfrm>
            <a:off x="3117960" y="1511280"/>
            <a:ext cx="0" cy="246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ncoming Email for Lists and Librari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AutoShape 304"/>
          <p:cNvSpPr/>
          <p:nvPr/>
        </p:nvSpPr>
        <p:spPr>
          <a:xfrm>
            <a:off x="4456080" y="2930400"/>
            <a:ext cx="762120" cy="609840"/>
          </a:xfrm>
          <a:prstGeom prst="rightArrow">
            <a:avLst>
              <a:gd name="adj1" fmla="val 52602"/>
              <a:gd name="adj2" fmla="val 5955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07"/>
          <p:cNvSpPr/>
          <p:nvPr/>
        </p:nvSpPr>
        <p:spPr>
          <a:xfrm>
            <a:off x="3317760" y="4056120"/>
            <a:ext cx="2863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mail documents and files directly to the document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Bob\Desktop\Stuff 4-9\Projects\PPT Res\Windows Illustration Icons\_ WINDOWS SERVER ICONS\Documents\Document Text.png"/>
          <p:cNvPicPr/>
          <p:nvPr/>
        </p:nvPicPr>
        <p:blipFill>
          <a:blip r:embed="rId1"/>
          <a:stretch/>
        </p:blipFill>
        <p:spPr>
          <a:xfrm>
            <a:off x="3686040" y="2336760"/>
            <a:ext cx="543240" cy="701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Users\Bob\Desktop\Stuff 4-9\Projects\PPT Res\Windows Illustration Icons\_ WINDOWS SERVER ICONS\Documents\Spreadsheet blank document excel.png"/>
          <p:cNvPicPr/>
          <p:nvPr/>
        </p:nvPicPr>
        <p:blipFill>
          <a:blip r:embed="rId2"/>
          <a:stretch/>
        </p:blipFill>
        <p:spPr>
          <a:xfrm>
            <a:off x="3035160" y="2354400"/>
            <a:ext cx="543240" cy="699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Bob\Desktop\Stuff 4-9\Projects\PPT Res\Windows Illustration Icons\_ WINDOWS SERVER ICONS\Documents\Envelope email letter Closed.png"/>
          <p:cNvPicPr/>
          <p:nvPr/>
        </p:nvPicPr>
        <p:blipFill>
          <a:blip r:embed="rId3"/>
          <a:stretch/>
        </p:blipFill>
        <p:spPr>
          <a:xfrm>
            <a:off x="2220840" y="2806560"/>
            <a:ext cx="1765440" cy="1138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:\Users\Bob\Desktop\Stuff 4-9\Projects\PPT Res\Windows Illustration Icons\Aeshen Created\folder-upright.png"/>
          <p:cNvPicPr/>
          <p:nvPr/>
        </p:nvPicPr>
        <p:blipFill>
          <a:blip r:embed="rId4"/>
          <a:stretch/>
        </p:blipFill>
        <p:spPr>
          <a:xfrm>
            <a:off x="5221440" y="2525760"/>
            <a:ext cx="1828800" cy="14191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06"/>
          <p:cNvSpPr/>
          <p:nvPr/>
        </p:nvSpPr>
        <p:spPr>
          <a:xfrm>
            <a:off x="2344680" y="3265560"/>
            <a:ext cx="1497240" cy="59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ddc"/>
                </a:solidFill>
                <a:latin typeface="Arial"/>
              </a:rPr>
              <a:t>Email with documents attach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6"/>
          <p:cNvSpPr/>
          <p:nvPr/>
        </p:nvSpPr>
        <p:spPr>
          <a:xfrm>
            <a:off x="5295960" y="3230640"/>
            <a:ext cx="1677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ddc"/>
                </a:solidFill>
                <a:latin typeface="Arial"/>
              </a:rPr>
              <a:t>SharePoint library with incoming email enabl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ocument Set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AutoShape 303"/>
          <p:cNvSpPr/>
          <p:nvPr/>
        </p:nvSpPr>
        <p:spPr>
          <a:xfrm flipH="1">
            <a:off x="6006960" y="1973160"/>
            <a:ext cx="268560" cy="2098800"/>
          </a:xfrm>
          <a:custGeom>
            <a:avLst/>
            <a:gdLst>
              <a:gd name="textAreaLeft" fmla="*/ 360 w 268560"/>
              <a:gd name="textAreaRight" fmla="*/ 97200 w 268560"/>
              <a:gd name="textAreaTop" fmla="*/ 55440 h 2098800"/>
              <a:gd name="textAreaBottom" fmla="*/ 2043360 h 209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12"/>
                  <a:pt x="10800" y="1824"/>
                </a:cubicBezTo>
                <a:lnTo>
                  <a:pt x="10800" y="8976"/>
                </a:lnTo>
                <a:cubicBezTo>
                  <a:pt x="10800" y="9888"/>
                  <a:pt x="16200" y="10800"/>
                  <a:pt x="21600" y="10800"/>
                </a:cubicBezTo>
                <a:cubicBezTo>
                  <a:pt x="16200" y="10800"/>
                  <a:pt x="10800" y="11712"/>
                  <a:pt x="10800" y="12624"/>
                </a:cubicBezTo>
                <a:lnTo>
                  <a:pt x="10800" y="19776"/>
                </a:lnTo>
                <a:cubicBezTo>
                  <a:pt x="10800" y="20688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4"/>
          <p:cNvSpPr/>
          <p:nvPr/>
        </p:nvSpPr>
        <p:spPr>
          <a:xfrm>
            <a:off x="4726080" y="2752560"/>
            <a:ext cx="1280880" cy="55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ocument set for projec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Bob\Desktop\Stuff 4-9\Projects\PPT Res\Windows Illustration Icons\_ WINDOWS SERVER ICONS\Documents\Document Text.png"/>
          <p:cNvPicPr/>
          <p:nvPr/>
        </p:nvPicPr>
        <p:blipFill>
          <a:blip r:embed="rId1"/>
          <a:stretch/>
        </p:blipFill>
        <p:spPr>
          <a:xfrm>
            <a:off x="6429240" y="1941480"/>
            <a:ext cx="800280" cy="1030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Bob\Desktop\Stuff 4-9\Projects\PPT Res\Windows Illustration Icons\_ WINDOWS SERVER ICONS\Documents\Document Bullet List White.png"/>
          <p:cNvPicPr/>
          <p:nvPr/>
        </p:nvPicPr>
        <p:blipFill>
          <a:blip r:embed="rId2"/>
          <a:stretch/>
        </p:blipFill>
        <p:spPr>
          <a:xfrm>
            <a:off x="7423200" y="1922400"/>
            <a:ext cx="811080" cy="1047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C:\Users\Bob\Desktop\Stuff 4-9\Projects\PPT Res\Windows Illustration Icons\_ WINDOWS SERVER ICONS\Documents\Spreadsheet blank document excel.png"/>
          <p:cNvPicPr/>
          <p:nvPr/>
        </p:nvPicPr>
        <p:blipFill>
          <a:blip r:embed="rId3"/>
          <a:stretch/>
        </p:blipFill>
        <p:spPr>
          <a:xfrm>
            <a:off x="6429240" y="3025800"/>
            <a:ext cx="800280" cy="1031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Bob\Desktop\Stuff 4-9\Projects\PPT Res\Windows Illustration Icons\_ WINDOWS SERVER ICONS\Documents\Check list checklist to do done tasks.png"/>
          <p:cNvPicPr/>
          <p:nvPr/>
        </p:nvPicPr>
        <p:blipFill>
          <a:blip r:embed="rId4"/>
          <a:stretch/>
        </p:blipFill>
        <p:spPr>
          <a:xfrm>
            <a:off x="7423200" y="3022560"/>
            <a:ext cx="806400" cy="1039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423720" y="1909800"/>
            <a:ext cx="4456080" cy="34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uments for a project th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ould be managed as a un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y need to share meta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y require custom default docu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y need a custom welcome p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y need workflow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might you use Document Sets in your organizatio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might you use email-enabled libraries in your organiz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2:50:30Z</dcterms:created>
  <dc:creator>khess</dc:creator>
  <dc:description/>
  <dc:language>en-US</dc:language>
  <cp:lastModifiedBy>Tricia Murphy</cp:lastModifiedBy>
  <dcterms:modified xsi:type="dcterms:W3CDTF">2013-08-05T19:47:22Z</dcterms:modified>
  <cp:revision>97</cp:revision>
  <dc:subject/>
  <dc:title>Lesson One: Advanced Form Design</dc:title>
</cp:coreProperties>
</file>