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8E69-E310-4A81-A9C7-87283CF57A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D211794-FCE3-4C8C-8347-B0E65013C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E6339BD-8C5E-4601-84B7-FAE18929D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5 - </a:t>
            </a:r>
            <a:fld id="{1E43354F-51D4-4519-AA1E-D0383013EAD3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ssigning Permissions and Access Right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 Sites and Set Site Per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e Lists, Libraries, and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see your organization needing any SharePoint groups besides the default Visitors, Member and Own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know of any documents, lists or libraries in your organization that should be secured with unique permission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2:50:30Z</dcterms:created>
  <dc:creator>khess</dc:creator>
  <dc:description/>
  <dc:language>en-US</dc:language>
  <cp:lastModifiedBy>Tricia Murphy</cp:lastModifiedBy>
  <dcterms:modified xsi:type="dcterms:W3CDTF">2013-08-02T20:24:20Z</dcterms:modified>
  <cp:revision>41</cp:revision>
  <dc:subject/>
  <dc:title>Lesson One: Advanced Form Design</dc:title>
</cp:coreProperties>
</file>