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3FA1-474D-4A33-8782-9DB032733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E78F3B6-A1AC-4082-90D6-2710CD79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593F9D0-C792-4C7F-AF3C-818318FD7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1DD7937-D47C-43E3-911D-884EFA16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381D72C9-2186-4C5F-AD9E-45A6240CF409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cessing and Navigating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Team Sit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SharePoint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vigate SharePoint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you will use SharePoint 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what ways would you like to use SharePoint in your organization that you're not currentl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llaboration Technolog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9" descr="f08469601_01"/>
          <p:cNvPicPr/>
          <p:nvPr/>
        </p:nvPicPr>
        <p:blipFill>
          <a:blip r:embed="rId1"/>
          <a:stretch/>
        </p:blipFill>
        <p:spPr>
          <a:xfrm>
            <a:off x="685800" y="137160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5" descr="f08469601_02"/>
          <p:cNvPicPr/>
          <p:nvPr/>
        </p:nvPicPr>
        <p:blipFill>
          <a:blip r:embed="rId1"/>
          <a:stretch/>
        </p:blipFill>
        <p:spPr>
          <a:xfrm>
            <a:off x="520560" y="1689120"/>
            <a:ext cx="6777000" cy="425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Site Hierarch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Line 113"/>
          <p:cNvSpPr/>
          <p:nvPr/>
        </p:nvSpPr>
        <p:spPr>
          <a:xfrm flipH="1">
            <a:off x="6921360" y="2716200"/>
            <a:ext cx="85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0"/>
          <p:cNvSpPr/>
          <p:nvPr/>
        </p:nvSpPr>
        <p:spPr>
          <a:xfrm>
            <a:off x="7297560" y="2590920"/>
            <a:ext cx="15465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Col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3"/>
          <p:cNvSpPr/>
          <p:nvPr/>
        </p:nvSpPr>
        <p:spPr>
          <a:xfrm flipH="1">
            <a:off x="6921360" y="4141800"/>
            <a:ext cx="85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2"/>
          <p:cNvSpPr/>
          <p:nvPr/>
        </p:nvSpPr>
        <p:spPr>
          <a:xfrm>
            <a:off x="7367760" y="400536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 flipH="1">
            <a:off x="6908400" y="5207040"/>
            <a:ext cx="777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4"/>
          <p:cNvSpPr/>
          <p:nvPr/>
        </p:nvSpPr>
        <p:spPr>
          <a:xfrm>
            <a:off x="7367760" y="4925880"/>
            <a:ext cx="1476360" cy="56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F:\LO Software\Lesson1 Graphics\DTSHome476.png"/>
          <p:cNvPicPr/>
          <p:nvPr/>
        </p:nvPicPr>
        <p:blipFill>
          <a:blip r:embed="rId1"/>
          <a:stretch/>
        </p:blipFill>
        <p:spPr>
          <a:xfrm>
            <a:off x="2727360" y="2325600"/>
            <a:ext cx="4533840" cy="2772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Interface Elem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AutoShape 303"/>
          <p:cNvSpPr/>
          <p:nvPr/>
        </p:nvSpPr>
        <p:spPr>
          <a:xfrm flipH="1">
            <a:off x="2552040" y="3222720"/>
            <a:ext cx="174600" cy="114300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8"/>
                  <a:pt x="10800" y="2175"/>
                </a:cubicBezTo>
                <a:lnTo>
                  <a:pt x="10800" y="8625"/>
                </a:lnTo>
                <a:cubicBezTo>
                  <a:pt x="10800" y="9713"/>
                  <a:pt x="16200" y="10800"/>
                  <a:pt x="21600" y="10800"/>
                </a:cubicBezTo>
                <a:cubicBezTo>
                  <a:pt x="16200" y="10800"/>
                  <a:pt x="10800" y="11888"/>
                  <a:pt x="10800" y="12975"/>
                </a:cubicBezTo>
                <a:lnTo>
                  <a:pt x="10800" y="19425"/>
                </a:lnTo>
                <a:cubicBezTo>
                  <a:pt x="10800" y="2051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4"/>
          <p:cNvSpPr/>
          <p:nvPr/>
        </p:nvSpPr>
        <p:spPr>
          <a:xfrm>
            <a:off x="2278080" y="2562120"/>
            <a:ext cx="49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6"/>
          <p:cNvSpPr/>
          <p:nvPr/>
        </p:nvSpPr>
        <p:spPr>
          <a:xfrm>
            <a:off x="1352520" y="3510000"/>
            <a:ext cx="120024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ick Launch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8"/>
          <p:cNvSpPr/>
          <p:nvPr/>
        </p:nvSpPr>
        <p:spPr>
          <a:xfrm>
            <a:off x="1352520" y="242424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b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03"/>
          <p:cNvSpPr/>
          <p:nvPr/>
        </p:nvSpPr>
        <p:spPr>
          <a:xfrm flipH="1">
            <a:off x="3453840" y="2790720"/>
            <a:ext cx="245880" cy="2306880"/>
          </a:xfrm>
          <a:custGeom>
            <a:avLst/>
            <a:gdLst>
              <a:gd name="textAreaLeft" fmla="*/ 0 w 245880"/>
              <a:gd name="textAreaRight" fmla="*/ 88920 w 245880"/>
              <a:gd name="textAreaTop" fmla="*/ 50760 h 2306880"/>
              <a:gd name="textAreaBottom" fmla="*/ 2256120 h 230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0"/>
                  <a:pt x="10800" y="1519"/>
                </a:cubicBezTo>
                <a:lnTo>
                  <a:pt x="10800" y="17260"/>
                </a:lnTo>
                <a:cubicBezTo>
                  <a:pt x="10800" y="18020"/>
                  <a:pt x="16200" y="18779"/>
                  <a:pt x="21600" y="18779"/>
                </a:cubicBezTo>
                <a:cubicBezTo>
                  <a:pt x="16200" y="18779"/>
                  <a:pt x="10800" y="19539"/>
                  <a:pt x="10800" y="20298"/>
                </a:cubicBezTo>
                <a:lnTo>
                  <a:pt x="10800" y="20081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2"/>
          <p:cNvSpPr/>
          <p:nvPr/>
        </p:nvSpPr>
        <p:spPr>
          <a:xfrm flipV="1">
            <a:off x="2413080" y="2741400"/>
            <a:ext cx="1268280" cy="18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3"/>
          <p:cNvSpPr/>
          <p:nvPr/>
        </p:nvSpPr>
        <p:spPr>
          <a:xfrm>
            <a:off x="2526480" y="2187720"/>
            <a:ext cx="249480" cy="193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5"/>
          <p:cNvSpPr/>
          <p:nvPr/>
        </p:nvSpPr>
        <p:spPr>
          <a:xfrm>
            <a:off x="1352520" y="205092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7"/>
          <p:cNvSpPr/>
          <p:nvPr/>
        </p:nvSpPr>
        <p:spPr>
          <a:xfrm>
            <a:off x="1352520" y="279072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p Links 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2"/>
          <p:cNvSpPr/>
          <p:nvPr/>
        </p:nvSpPr>
        <p:spPr>
          <a:xfrm>
            <a:off x="2246400" y="4662360"/>
            <a:ext cx="120816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ge S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LO Software\Lesson1 Graphics\Header-Ribbon 576.png"/>
          <p:cNvPicPr/>
          <p:nvPr/>
        </p:nvPicPr>
        <p:blipFill>
          <a:blip r:embed="rId1"/>
          <a:stretch/>
        </p:blipFill>
        <p:spPr>
          <a:xfrm>
            <a:off x="1654200" y="3135240"/>
            <a:ext cx="5486400" cy="1276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Heade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AutoShape 303"/>
          <p:cNvSpPr/>
          <p:nvPr/>
        </p:nvSpPr>
        <p:spPr>
          <a:xfrm rot="16200000">
            <a:off x="4258440" y="253080"/>
            <a:ext cx="296640" cy="5467320"/>
          </a:xfrm>
          <a:custGeom>
            <a:avLst/>
            <a:gdLst>
              <a:gd name="textAreaLeft" fmla="*/ 0 w 296640"/>
              <a:gd name="textAreaRight" fmla="*/ 106920 w 296640"/>
              <a:gd name="textAreaTop" fmla="*/ 60840 h 5467320"/>
              <a:gd name="textAreaBottom" fmla="*/ 5406480 h 546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11"/>
          <p:cNvSpPr/>
          <p:nvPr/>
        </p:nvSpPr>
        <p:spPr>
          <a:xfrm>
            <a:off x="5759280" y="2782800"/>
            <a:ext cx="719280" cy="39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2"/>
          <p:cNvSpPr/>
          <p:nvPr/>
        </p:nvSpPr>
        <p:spPr>
          <a:xfrm flipV="1">
            <a:off x="3201840" y="3251160"/>
            <a:ext cx="205272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16"/>
          <p:cNvSpPr/>
          <p:nvPr/>
        </p:nvSpPr>
        <p:spPr>
          <a:xfrm flipH="1">
            <a:off x="6875280" y="2782800"/>
            <a:ext cx="299880" cy="39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2"/>
          <p:cNvSpPr/>
          <p:nvPr/>
        </p:nvSpPr>
        <p:spPr>
          <a:xfrm flipV="1">
            <a:off x="4406760" y="3251160"/>
            <a:ext cx="131616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2"/>
          <p:cNvSpPr/>
          <p:nvPr/>
        </p:nvSpPr>
        <p:spPr>
          <a:xfrm flipV="1">
            <a:off x="5759280" y="3247920"/>
            <a:ext cx="34956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12"/>
          <p:cNvSpPr/>
          <p:nvPr/>
        </p:nvSpPr>
        <p:spPr>
          <a:xfrm flipH="1" flipV="1">
            <a:off x="7054560" y="3251160"/>
            <a:ext cx="1206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2598840" y="3635280"/>
            <a:ext cx="120816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wsfe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7640" y="3635280"/>
            <a:ext cx="120816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kyDr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12"/>
          <p:cNvSpPr/>
          <p:nvPr/>
        </p:nvSpPr>
        <p:spPr>
          <a:xfrm>
            <a:off x="5189400" y="3635280"/>
            <a:ext cx="120996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5"/>
          <p:cNvSpPr/>
          <p:nvPr/>
        </p:nvSpPr>
        <p:spPr>
          <a:xfrm>
            <a:off x="6572160" y="3635280"/>
            <a:ext cx="120816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22"/>
          <p:cNvSpPr/>
          <p:nvPr/>
        </p:nvSpPr>
        <p:spPr>
          <a:xfrm>
            <a:off x="5199120" y="253836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3"/>
          <p:cNvSpPr/>
          <p:nvPr/>
        </p:nvSpPr>
        <p:spPr>
          <a:xfrm>
            <a:off x="6575400" y="253836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0"/>
          <p:cNvSpPr/>
          <p:nvPr/>
        </p:nvSpPr>
        <p:spPr>
          <a:xfrm>
            <a:off x="3816360" y="253836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ibb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2" descr="F:\LO Software\Lesson1 Graphics\Header-Ribbon 576.png"/>
          <p:cNvPicPr/>
          <p:nvPr/>
        </p:nvPicPr>
        <p:blipFill>
          <a:blip r:embed="rId1"/>
          <a:stretch/>
        </p:blipFill>
        <p:spPr>
          <a:xfrm>
            <a:off x="1735200" y="2971800"/>
            <a:ext cx="54864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03"/>
          <p:cNvSpPr/>
          <p:nvPr/>
        </p:nvSpPr>
        <p:spPr>
          <a:xfrm rot="5400000">
            <a:off x="4338360" y="726840"/>
            <a:ext cx="297000" cy="5469120"/>
          </a:xfrm>
          <a:custGeom>
            <a:avLst/>
            <a:gdLst>
              <a:gd name="textAreaLeft" fmla="*/ 0 w 297000"/>
              <a:gd name="textAreaRight" fmla="*/ 107280 w 297000"/>
              <a:gd name="textAreaTop" fmla="*/ 60840 h 5469120"/>
              <a:gd name="textAreaBottom" fmla="*/ 5408280 h 546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25"/>
          <p:cNvSpPr/>
          <p:nvPr/>
        </p:nvSpPr>
        <p:spPr>
          <a:xfrm>
            <a:off x="3875040" y="3610080"/>
            <a:ext cx="120816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03"/>
          <p:cNvSpPr/>
          <p:nvPr/>
        </p:nvSpPr>
        <p:spPr>
          <a:xfrm rot="16200000">
            <a:off x="1938240" y="2654280"/>
            <a:ext cx="285840" cy="644400"/>
          </a:xfrm>
          <a:custGeom>
            <a:avLst/>
            <a:gdLst>
              <a:gd name="textAreaLeft" fmla="*/ 0 w 285840"/>
              <a:gd name="textAreaRight" fmla="*/ 103320 w 285840"/>
              <a:gd name="textAreaTop" fmla="*/ 58680 h 644400"/>
              <a:gd name="textAreaBottom" fmla="*/ 585720 h 6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1"/>
                  <a:pt x="10800" y="6301"/>
                </a:cubicBezTo>
                <a:lnTo>
                  <a:pt x="10800" y="4499"/>
                </a:lnTo>
                <a:cubicBezTo>
                  <a:pt x="10800" y="7650"/>
                  <a:pt x="16200" y="10800"/>
                  <a:pt x="21600" y="10800"/>
                </a:cubicBezTo>
                <a:cubicBezTo>
                  <a:pt x="16200" y="10800"/>
                  <a:pt x="10800" y="13951"/>
                  <a:pt x="10800" y="17101"/>
                </a:cubicBezTo>
                <a:lnTo>
                  <a:pt x="10800" y="15299"/>
                </a:lnTo>
                <a:cubicBezTo>
                  <a:pt x="10800" y="1845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0"/>
          <p:cNvSpPr/>
          <p:nvPr/>
        </p:nvSpPr>
        <p:spPr>
          <a:xfrm>
            <a:off x="1481040" y="255888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28"/>
          <p:cNvSpPr/>
          <p:nvPr/>
        </p:nvSpPr>
        <p:spPr>
          <a:xfrm>
            <a:off x="6119640" y="255888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6"/>
          <p:cNvSpPr/>
          <p:nvPr/>
        </p:nvSpPr>
        <p:spPr>
          <a:xfrm>
            <a:off x="6719760" y="2833560"/>
            <a:ext cx="82800" cy="34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6"/>
          <p:cNvSpPr/>
          <p:nvPr/>
        </p:nvSpPr>
        <p:spPr>
          <a:xfrm>
            <a:off x="5410080" y="2790000"/>
            <a:ext cx="91296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27"/>
          <p:cNvSpPr/>
          <p:nvPr/>
        </p:nvSpPr>
        <p:spPr>
          <a:xfrm>
            <a:off x="4809960" y="2558880"/>
            <a:ext cx="1200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2"/>
          <p:cNvSpPr/>
          <p:nvPr/>
        </p:nvSpPr>
        <p:spPr>
          <a:xfrm flipV="1">
            <a:off x="6723000" y="3285720"/>
            <a:ext cx="319320" cy="46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9"/>
          <p:cNvSpPr/>
          <p:nvPr/>
        </p:nvSpPr>
        <p:spPr>
          <a:xfrm>
            <a:off x="6119640" y="3614760"/>
            <a:ext cx="1208160" cy="3650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cus on Con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ibbon with PAGE Tab Selecte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Picture 3" descr="F:\LO Software\Lesson1 Graphics\RibbonwPage576.png"/>
          <p:cNvPicPr/>
          <p:nvPr/>
        </p:nvPicPr>
        <p:blipFill>
          <a:blip r:embed="rId1"/>
          <a:stretch/>
        </p:blipFill>
        <p:spPr>
          <a:xfrm>
            <a:off x="1849320" y="2813040"/>
            <a:ext cx="5486400" cy="19144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03"/>
          <p:cNvSpPr/>
          <p:nvPr/>
        </p:nvSpPr>
        <p:spPr>
          <a:xfrm rot="5400000">
            <a:off x="4444560" y="1035000"/>
            <a:ext cx="296640" cy="5468760"/>
          </a:xfrm>
          <a:custGeom>
            <a:avLst/>
            <a:gdLst>
              <a:gd name="textAreaLeft" fmla="*/ 0 w 296640"/>
              <a:gd name="textAreaRight" fmla="*/ 106920 w 296640"/>
              <a:gd name="textAreaTop" fmla="*/ 60840 h 5468760"/>
              <a:gd name="textAreaBottom" fmla="*/ 5407920 h 546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17"/>
          <p:cNvSpPr/>
          <p:nvPr/>
        </p:nvSpPr>
        <p:spPr>
          <a:xfrm>
            <a:off x="3979800" y="3917880"/>
            <a:ext cx="1208160" cy="4431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GE tab Ribbon men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18"/>
          <p:cNvSpPr/>
          <p:nvPr/>
        </p:nvSpPr>
        <p:spPr>
          <a:xfrm>
            <a:off x="1859040" y="2290680"/>
            <a:ext cx="1200240" cy="41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GE Tab Sel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6"/>
          <p:cNvSpPr/>
          <p:nvPr/>
        </p:nvSpPr>
        <p:spPr>
          <a:xfrm flipH="1">
            <a:off x="2376360" y="2708280"/>
            <a:ext cx="82800" cy="34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Quick Launch Area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Picture 3" descr="F:\LO Software\Lesson1 Graphics\Quick Launch576.png"/>
          <p:cNvPicPr/>
          <p:nvPr/>
        </p:nvPicPr>
        <p:blipFill>
          <a:blip r:embed="rId1"/>
          <a:stretch/>
        </p:blipFill>
        <p:spPr>
          <a:xfrm>
            <a:off x="2050920" y="1305000"/>
            <a:ext cx="5486400" cy="46767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03"/>
          <p:cNvSpPr/>
          <p:nvPr/>
        </p:nvSpPr>
        <p:spPr>
          <a:xfrm flipH="1">
            <a:off x="1875600" y="2637000"/>
            <a:ext cx="174600" cy="248436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2484360"/>
              <a:gd name="textAreaBottom" fmla="*/ 2448360 h 24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1"/>
                  <a:pt x="10800" y="1001"/>
                </a:cubicBezTo>
                <a:lnTo>
                  <a:pt x="10800" y="9799"/>
                </a:lnTo>
                <a:cubicBezTo>
                  <a:pt x="10800" y="10300"/>
                  <a:pt x="16200" y="10800"/>
                  <a:pt x="21600" y="10800"/>
                </a:cubicBezTo>
                <a:cubicBezTo>
                  <a:pt x="16200" y="10800"/>
                  <a:pt x="10800" y="11301"/>
                  <a:pt x="10800" y="11801"/>
                </a:cubicBezTo>
                <a:lnTo>
                  <a:pt x="10800" y="20599"/>
                </a:lnTo>
                <a:cubicBezTo>
                  <a:pt x="10800" y="211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5"/>
          <p:cNvSpPr/>
          <p:nvPr/>
        </p:nvSpPr>
        <p:spPr>
          <a:xfrm>
            <a:off x="700200" y="3422520"/>
            <a:ext cx="117144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ick Launch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02"/>
          <p:cNvSpPr/>
          <p:nvPr/>
        </p:nvSpPr>
        <p:spPr>
          <a:xfrm>
            <a:off x="3078000" y="2646360"/>
            <a:ext cx="174960" cy="1941480"/>
          </a:xfrm>
          <a:custGeom>
            <a:avLst/>
            <a:gdLst>
              <a:gd name="textAreaLeft" fmla="*/ 0 w 174960"/>
              <a:gd name="textAreaRight" fmla="*/ 63000 w 174960"/>
              <a:gd name="textAreaTop" fmla="*/ 36000 h 1941480"/>
              <a:gd name="textAreaBottom" fmla="*/ 1905480 h 19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1"/>
                  <a:pt x="10800" y="1281"/>
                </a:cubicBezTo>
                <a:lnTo>
                  <a:pt x="10800" y="9519"/>
                </a:lnTo>
                <a:cubicBezTo>
                  <a:pt x="10800" y="10160"/>
                  <a:pt x="16200" y="10800"/>
                  <a:pt x="21600" y="10800"/>
                </a:cubicBezTo>
                <a:cubicBezTo>
                  <a:pt x="16200" y="10800"/>
                  <a:pt x="10800" y="11441"/>
                  <a:pt x="10800" y="12081"/>
                </a:cubicBezTo>
                <a:lnTo>
                  <a:pt x="10800" y="20319"/>
                </a:lnTo>
                <a:cubicBezTo>
                  <a:pt x="10800" y="2096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3"/>
          <p:cNvSpPr/>
          <p:nvPr/>
        </p:nvSpPr>
        <p:spPr>
          <a:xfrm flipH="1">
            <a:off x="2779560" y="4981680"/>
            <a:ext cx="771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3252960" y="3548160"/>
            <a:ext cx="172368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te Navigation Lin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10"/>
          <p:cNvSpPr/>
          <p:nvPr/>
        </p:nvSpPr>
        <p:spPr>
          <a:xfrm>
            <a:off x="3252960" y="4862520"/>
            <a:ext cx="172368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dit Lin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3"/>
          <p:cNvSpPr/>
          <p:nvPr/>
        </p:nvSpPr>
        <p:spPr>
          <a:xfrm flipH="1">
            <a:off x="2779200" y="4587120"/>
            <a:ext cx="568440" cy="13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11"/>
          <p:cNvSpPr/>
          <p:nvPr/>
        </p:nvSpPr>
        <p:spPr>
          <a:xfrm>
            <a:off x="3252960" y="4449600"/>
            <a:ext cx="172368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te C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F:\LO Software\Lesson1 Graphics\DTSHome476.png"/>
          <p:cNvPicPr/>
          <p:nvPr/>
        </p:nvPicPr>
        <p:blipFill>
          <a:blip r:embed="rId1"/>
          <a:stretch/>
        </p:blipFill>
        <p:spPr>
          <a:xfrm>
            <a:off x="2284560" y="2220840"/>
            <a:ext cx="4533840" cy="2772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ge Sec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AutoShape 303"/>
          <p:cNvSpPr/>
          <p:nvPr/>
        </p:nvSpPr>
        <p:spPr>
          <a:xfrm flipH="1">
            <a:off x="3011400" y="2685960"/>
            <a:ext cx="246240" cy="2306880"/>
          </a:xfrm>
          <a:custGeom>
            <a:avLst/>
            <a:gdLst>
              <a:gd name="textAreaLeft" fmla="*/ 360 w 246240"/>
              <a:gd name="textAreaRight" fmla="*/ 89280 w 246240"/>
              <a:gd name="textAreaTop" fmla="*/ 50760 h 2306880"/>
              <a:gd name="textAreaBottom" fmla="*/ 2256120 h 230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0"/>
                  <a:pt x="10800" y="1519"/>
                </a:cubicBezTo>
                <a:lnTo>
                  <a:pt x="10800" y="8519"/>
                </a:lnTo>
                <a:cubicBezTo>
                  <a:pt x="10800" y="9279"/>
                  <a:pt x="16200" y="10038"/>
                  <a:pt x="21600" y="10038"/>
                </a:cubicBezTo>
                <a:cubicBezTo>
                  <a:pt x="16200" y="10038"/>
                  <a:pt x="10800" y="10798"/>
                  <a:pt x="10800" y="11557"/>
                </a:cubicBezTo>
                <a:lnTo>
                  <a:pt x="10800" y="20081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82"/>
          <p:cNvSpPr/>
          <p:nvPr/>
        </p:nvSpPr>
        <p:spPr>
          <a:xfrm>
            <a:off x="1792440" y="3606840"/>
            <a:ext cx="120780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ge S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4-15T21:13:13Z</dcterms:modified>
  <cp:revision>18</cp:revision>
  <dc:subject/>
  <dc:title>Lesson One: Advanced Form Design</dc:title>
</cp:coreProperties>
</file>