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8814-F0D1-4942-8EBF-983D54BDB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5E88A62-8E0A-4521-B5FA-799F6B16D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BFA7451-A541-4817-AEE9-6EE9C1FC3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F8F600A-8EF0-4058-805C-604A36EFF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4- </a:t>
            </a:r>
            <a:fld id="{2EAD90ED-CD3B-4708-A188-6F5F461F1CA2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figuring Site Settings, Navigation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nd Search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e Site Search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e Site Administration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e Site Organization and Navig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ite Settings: Quick Launch and Edit Link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2" descr="F:\SVN\lo_91108\trunk\091108\images\Lesson4-QuickLaunchEditLinks.png"/>
          <p:cNvPicPr/>
          <p:nvPr/>
        </p:nvPicPr>
        <p:blipFill>
          <a:blip r:embed="rId1"/>
          <a:stretch/>
        </p:blipFill>
        <p:spPr>
          <a:xfrm>
            <a:off x="2719440" y="2490840"/>
            <a:ext cx="4870440" cy="2011320"/>
          </a:xfrm>
          <a:prstGeom prst="rect">
            <a:avLst/>
          </a:prstGeom>
          <a:ln w="0">
            <a:noFill/>
          </a:ln>
        </p:spPr>
      </p:pic>
      <p:sp>
        <p:nvSpPr>
          <p:cNvPr id="53" name="Line 144"/>
          <p:cNvSpPr/>
          <p:nvPr/>
        </p:nvSpPr>
        <p:spPr>
          <a:xfrm flipH="1">
            <a:off x="5438880" y="2865600"/>
            <a:ext cx="1440" cy="336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4"/>
          <p:cNvSpPr/>
          <p:nvPr/>
        </p:nvSpPr>
        <p:spPr>
          <a:xfrm flipV="1">
            <a:off x="2911320" y="4119120"/>
            <a:ext cx="0" cy="382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3"/>
          <p:cNvSpPr/>
          <p:nvPr/>
        </p:nvSpPr>
        <p:spPr>
          <a:xfrm>
            <a:off x="2214720" y="4491000"/>
            <a:ext cx="1395360" cy="452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dit Link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d Link Butt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4"/>
          <p:cNvSpPr/>
          <p:nvPr/>
        </p:nvSpPr>
        <p:spPr>
          <a:xfrm>
            <a:off x="2529000" y="2116080"/>
            <a:ext cx="1625400" cy="452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dit Link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lete Links Butt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4"/>
          <p:cNvSpPr/>
          <p:nvPr/>
        </p:nvSpPr>
        <p:spPr>
          <a:xfrm>
            <a:off x="3341520" y="2568600"/>
            <a:ext cx="482760" cy="633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4"/>
          <p:cNvSpPr/>
          <p:nvPr/>
        </p:nvSpPr>
        <p:spPr>
          <a:xfrm flipH="1" flipV="1">
            <a:off x="4182840" y="4105080"/>
            <a:ext cx="376200" cy="38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4"/>
          <p:cNvSpPr/>
          <p:nvPr/>
        </p:nvSpPr>
        <p:spPr>
          <a:xfrm>
            <a:off x="5537160" y="2865600"/>
            <a:ext cx="455760" cy="336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8"/>
          <p:cNvSpPr/>
          <p:nvPr/>
        </p:nvSpPr>
        <p:spPr>
          <a:xfrm>
            <a:off x="4540320" y="4118040"/>
            <a:ext cx="1797120" cy="74772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ite Sett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Quick Laun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ink Configuration Butt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4"/>
          <p:cNvSpPr/>
          <p:nvPr/>
        </p:nvSpPr>
        <p:spPr>
          <a:xfrm flipH="1">
            <a:off x="4665600" y="2808360"/>
            <a:ext cx="773280" cy="38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40"/>
          <p:cNvSpPr/>
          <p:nvPr/>
        </p:nvSpPr>
        <p:spPr>
          <a:xfrm>
            <a:off x="4638600" y="2116080"/>
            <a:ext cx="1797120" cy="74952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ite Sett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Quick Laun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nfiguration O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03"/>
          <p:cNvSpPr/>
          <p:nvPr/>
        </p:nvSpPr>
        <p:spPr>
          <a:xfrm flipH="1">
            <a:off x="2512440" y="3176640"/>
            <a:ext cx="206280" cy="482400"/>
          </a:xfrm>
          <a:custGeom>
            <a:avLst/>
            <a:gdLst>
              <a:gd name="textAreaLeft" fmla="*/ 0 w 206280"/>
              <a:gd name="textAreaRight" fmla="*/ 74520 w 206280"/>
              <a:gd name="textAreaTop" fmla="*/ 42480 h 482400"/>
              <a:gd name="textAreaBottom" fmla="*/ 439920 h 48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48"/>
                  <a:pt x="10800" y="6096"/>
                </a:cubicBezTo>
                <a:lnTo>
                  <a:pt x="10800" y="4379"/>
                </a:lnTo>
                <a:cubicBezTo>
                  <a:pt x="10800" y="7427"/>
                  <a:pt x="16200" y="10475"/>
                  <a:pt x="21600" y="10475"/>
                </a:cubicBezTo>
                <a:cubicBezTo>
                  <a:pt x="16200" y="10475"/>
                  <a:pt x="10800" y="13523"/>
                  <a:pt x="10800" y="16571"/>
                </a:cubicBezTo>
                <a:lnTo>
                  <a:pt x="10800" y="15504"/>
                </a:lnTo>
                <a:cubicBezTo>
                  <a:pt x="10800" y="18552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2"/>
          <p:cNvSpPr/>
          <p:nvPr/>
        </p:nvSpPr>
        <p:spPr>
          <a:xfrm>
            <a:off x="1420920" y="3192480"/>
            <a:ext cx="998280" cy="45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uick Laun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ight you configure navigation options in your SharePoint si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regional settings do you think would benefit your organiz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2:50:30Z</dcterms:created>
  <dc:creator>khess</dc:creator>
  <dc:description/>
  <dc:language>en-US</dc:language>
  <cp:lastModifiedBy>Tricia Murphy</cp:lastModifiedBy>
  <dcterms:modified xsi:type="dcterms:W3CDTF">2013-04-25T14:18:34Z</dcterms:modified>
  <cp:revision>37</cp:revision>
  <dc:subject/>
  <dc:title>Lesson One: Advanced Form Design</dc:title>
</cp:coreProperties>
</file>