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12B8010-BAFE-4D91-8F94-135B0968D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BB4DE26-DE87-4EB4-807A-7627858A6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urse Outlin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ing a New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ng and Configuring Libr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ng and Configuring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ing Site Settings, Navigation, and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igning Permissions and Access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e Content Roll-up, Summary Links, and Sit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peterl@aeshen.com</dc:creator>
  <dc:description>Version 1.6
03.31.03</dc:description>
  <dc:language>en-US</dc:language>
  <cp:lastModifiedBy>Angie French</cp:lastModifiedBy>
  <dcterms:modified xsi:type="dcterms:W3CDTF">2013-03-12T13:01:36Z</dcterms:modified>
  <cp:revision>88</cp:revision>
  <dc:subject>Courseware Resource Supplement</dc:subject>
  <dc:title>OV-ILT Template –  Content Developer Section</dc:title>
</cp:coreProperties>
</file>