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7AE0-3C62-4E0C-AEEF-7FAB3C492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C410C78-65AD-4A27-AA9B-1AFA0A27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DDEABA8-B357-4B45-BB3B-44F87580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 - </a:t>
            </a:r>
            <a:fld id="{C0B8A34E-2F7A-4E22-A32E-D7484DBB285C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3040"/>
            <a:ext cx="6853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reating and Configuring a Site Collec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Sit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e Audi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 up Your Sit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Site Hierarch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F:\SVN\091109\trunk\091109\images\SharePoint Heirarchy.png"/>
          <p:cNvPicPr/>
          <p:nvPr/>
        </p:nvPicPr>
        <p:blipFill>
          <a:blip r:embed="rId1"/>
          <a:stretch/>
        </p:blipFill>
        <p:spPr>
          <a:xfrm>
            <a:off x="1844640" y="1932120"/>
            <a:ext cx="54864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F:\SVN\091109\trunk\091109\images\SharePoint Central Administration.png"/>
          <p:cNvPicPr/>
          <p:nvPr/>
        </p:nvPicPr>
        <p:blipFill>
          <a:blip r:embed="rId1"/>
          <a:stretch/>
        </p:blipFill>
        <p:spPr>
          <a:xfrm>
            <a:off x="1500120" y="2200320"/>
            <a:ext cx="6616800" cy="3657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Central Administr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Line 313"/>
          <p:cNvSpPr/>
          <p:nvPr/>
        </p:nvSpPr>
        <p:spPr>
          <a:xfrm>
            <a:off x="4137120" y="1985400"/>
            <a:ext cx="0" cy="30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03"/>
          <p:cNvSpPr/>
          <p:nvPr/>
        </p:nvSpPr>
        <p:spPr>
          <a:xfrm flipH="1">
            <a:off x="2687040" y="2684520"/>
            <a:ext cx="236520" cy="3009960"/>
          </a:xfrm>
          <a:custGeom>
            <a:avLst/>
            <a:gdLst>
              <a:gd name="textAreaLeft" fmla="*/ 0 w 236520"/>
              <a:gd name="textAreaRight" fmla="*/ 85320 w 236520"/>
              <a:gd name="textAreaTop" fmla="*/ 48600 h 3009960"/>
              <a:gd name="textAreaBottom" fmla="*/ 2961360 h 300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0"/>
                  <a:pt x="10800" y="1119"/>
                </a:cubicBezTo>
                <a:lnTo>
                  <a:pt x="10800" y="15329"/>
                </a:lnTo>
                <a:cubicBezTo>
                  <a:pt x="10800" y="15889"/>
                  <a:pt x="16200" y="16448"/>
                  <a:pt x="21600" y="16448"/>
                </a:cubicBezTo>
                <a:cubicBezTo>
                  <a:pt x="16200" y="16448"/>
                  <a:pt x="10800" y="17008"/>
                  <a:pt x="10800" y="17567"/>
                </a:cubicBezTo>
                <a:lnTo>
                  <a:pt x="10800" y="20481"/>
                </a:lnTo>
                <a:cubicBezTo>
                  <a:pt x="10800" y="2104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11"/>
          <p:cNvSpPr/>
          <p:nvPr/>
        </p:nvSpPr>
        <p:spPr>
          <a:xfrm>
            <a:off x="3357720" y="1508040"/>
            <a:ext cx="155880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arePoint health warn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13"/>
          <p:cNvSpPr/>
          <p:nvPr/>
        </p:nvSpPr>
        <p:spPr>
          <a:xfrm>
            <a:off x="2133720" y="1968480"/>
            <a:ext cx="0" cy="30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12"/>
          <p:cNvSpPr/>
          <p:nvPr/>
        </p:nvSpPr>
        <p:spPr>
          <a:xfrm>
            <a:off x="1353960" y="1508040"/>
            <a:ext cx="155916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ick 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3"/>
          <p:cNvSpPr/>
          <p:nvPr/>
        </p:nvSpPr>
        <p:spPr>
          <a:xfrm flipV="1">
            <a:off x="2013120" y="447480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1344600" y="4757760"/>
            <a:ext cx="1336680" cy="4316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dministration tool 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Quotas in SharePoi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Line 113"/>
          <p:cNvSpPr/>
          <p:nvPr/>
        </p:nvSpPr>
        <p:spPr>
          <a:xfrm flipH="1">
            <a:off x="5732640" y="4495680"/>
            <a:ext cx="498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6026040" y="4370400"/>
            <a:ext cx="851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G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owchart: Magnetic Disk 10"/>
          <p:cNvSpPr/>
          <p:nvPr/>
        </p:nvSpPr>
        <p:spPr>
          <a:xfrm>
            <a:off x="3112920" y="4027320"/>
            <a:ext cx="2533680" cy="960480"/>
          </a:xfrm>
          <a:prstGeom prst="flowChartMagneticDisk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0"/>
          </a:gra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lowchart: Magnetic Disk 9"/>
          <p:cNvSpPr/>
          <p:nvPr/>
        </p:nvSpPr>
        <p:spPr>
          <a:xfrm>
            <a:off x="3116160" y="3375000"/>
            <a:ext cx="2533680" cy="959040"/>
          </a:xfrm>
          <a:prstGeom prst="flowChartMagneticDisk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0"/>
          </a:gra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owchart: Magnetic Disk 8"/>
          <p:cNvSpPr/>
          <p:nvPr/>
        </p:nvSpPr>
        <p:spPr>
          <a:xfrm>
            <a:off x="3116160" y="2759040"/>
            <a:ext cx="2533680" cy="960480"/>
          </a:xfrm>
          <a:prstGeom prst="flowChartMagneticDisk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0"/>
          </a:gra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lowchart: Magnetic Disk 5"/>
          <p:cNvSpPr/>
          <p:nvPr/>
        </p:nvSpPr>
        <p:spPr>
          <a:xfrm>
            <a:off x="3116160" y="2106720"/>
            <a:ext cx="2533680" cy="960480"/>
          </a:xfrm>
          <a:prstGeom prst="flowChartMagneticDisk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0"/>
          </a:gra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3"/>
          <p:cNvSpPr/>
          <p:nvPr/>
        </p:nvSpPr>
        <p:spPr>
          <a:xfrm>
            <a:off x="2766240" y="3255840"/>
            <a:ext cx="336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2"/>
          <p:cNvSpPr/>
          <p:nvPr/>
        </p:nvSpPr>
        <p:spPr>
          <a:xfrm>
            <a:off x="1751040" y="3102120"/>
            <a:ext cx="1015920" cy="27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3"/>
          <p:cNvSpPr/>
          <p:nvPr/>
        </p:nvSpPr>
        <p:spPr>
          <a:xfrm flipH="1">
            <a:off x="5714640" y="3192480"/>
            <a:ext cx="49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14"/>
          <p:cNvSpPr/>
          <p:nvPr/>
        </p:nvSpPr>
        <p:spPr>
          <a:xfrm>
            <a:off x="6008760" y="3067200"/>
            <a:ext cx="868320" cy="27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G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3"/>
          <p:cNvSpPr/>
          <p:nvPr/>
        </p:nvSpPr>
        <p:spPr>
          <a:xfrm flipH="1">
            <a:off x="5702400" y="3844800"/>
            <a:ext cx="498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6"/>
          <p:cNvSpPr/>
          <p:nvPr/>
        </p:nvSpPr>
        <p:spPr>
          <a:xfrm>
            <a:off x="5996160" y="3719520"/>
            <a:ext cx="88092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G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3"/>
          <p:cNvSpPr/>
          <p:nvPr/>
        </p:nvSpPr>
        <p:spPr>
          <a:xfrm flipH="1">
            <a:off x="5702400" y="2610000"/>
            <a:ext cx="498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8"/>
          <p:cNvSpPr/>
          <p:nvPr/>
        </p:nvSpPr>
        <p:spPr>
          <a:xfrm>
            <a:off x="5996160" y="2484360"/>
            <a:ext cx="88092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GB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3"/>
          <p:cNvSpPr/>
          <p:nvPr/>
        </p:nvSpPr>
        <p:spPr>
          <a:xfrm>
            <a:off x="2770920" y="2638440"/>
            <a:ext cx="336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20"/>
          <p:cNvSpPr/>
          <p:nvPr/>
        </p:nvSpPr>
        <p:spPr>
          <a:xfrm>
            <a:off x="1755720" y="2484360"/>
            <a:ext cx="101592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3"/>
          <p:cNvSpPr/>
          <p:nvPr/>
        </p:nvSpPr>
        <p:spPr>
          <a:xfrm>
            <a:off x="2766240" y="3873600"/>
            <a:ext cx="336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22"/>
          <p:cNvSpPr/>
          <p:nvPr/>
        </p:nvSpPr>
        <p:spPr>
          <a:xfrm>
            <a:off x="1751040" y="3719520"/>
            <a:ext cx="101592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3"/>
          <p:cNvSpPr/>
          <p:nvPr/>
        </p:nvSpPr>
        <p:spPr>
          <a:xfrm>
            <a:off x="2766240" y="4443480"/>
            <a:ext cx="336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24"/>
          <p:cNvSpPr/>
          <p:nvPr/>
        </p:nvSpPr>
        <p:spPr>
          <a:xfrm>
            <a:off x="1751040" y="4289400"/>
            <a:ext cx="101592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e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Point Audit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4" name="Picture 6" descr="C:\Users\Bob\Desktop\Stuff 4-9\Projects\PPT Res\Windows Illustration Icons\_ WINDOWS SERVER ICONS\Documents\Spreadsheet blank document excel.png"/>
          <p:cNvPicPr/>
          <p:nvPr/>
        </p:nvPicPr>
        <p:blipFill>
          <a:blip r:embed="rId1"/>
          <a:stretch/>
        </p:blipFill>
        <p:spPr>
          <a:xfrm rot="20659200">
            <a:off x="4878360" y="1860480"/>
            <a:ext cx="1809720" cy="23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Bob\Desktop\Stuff 4-9\Projects\PPT Res\Windows Illustration Icons\_ WINDOWS SERVER ICONS\Documents\Document Text.png"/>
          <p:cNvPicPr/>
          <p:nvPr/>
        </p:nvPicPr>
        <p:blipFill>
          <a:blip r:embed="rId2"/>
          <a:stretch/>
        </p:blipFill>
        <p:spPr>
          <a:xfrm rot="1330200">
            <a:off x="6975360" y="1925280"/>
            <a:ext cx="1809720" cy="233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Bob\Desktop\Stuff 4-9\Projects\PPT Res\Windows Illustration Icons\_ WINDOWS SERVER ICONS\Search\Magnifying Glass zoom search 1.png"/>
          <p:cNvPicPr/>
          <p:nvPr/>
        </p:nvPicPr>
        <p:blipFill>
          <a:blip r:embed="rId3"/>
          <a:stretch/>
        </p:blipFill>
        <p:spPr>
          <a:xfrm>
            <a:off x="5783400" y="2122560"/>
            <a:ext cx="2047680" cy="2390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423720" y="1614600"/>
            <a:ext cx="445608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from which an event orig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ID, type, name, and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D associated with the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 type, date, time, and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 taken on the item includ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ing or downloading documents, viewing items or item proper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diting i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ing out or checking in i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ving or copying i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eting or restoring i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diting content types and colum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arching site cont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diting users and per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ackup Options in SharePoin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Picture 2" descr="F:\SVN\091109\trunk\091109\images\L1-Backup.png"/>
          <p:cNvPicPr/>
          <p:nvPr/>
        </p:nvPicPr>
        <p:blipFill>
          <a:blip r:embed="rId1"/>
          <a:stretch/>
        </p:blipFill>
        <p:spPr>
          <a:xfrm>
            <a:off x="1463760" y="2308320"/>
            <a:ext cx="683712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le 4"/>
          <p:cNvSpPr/>
          <p:nvPr/>
        </p:nvSpPr>
        <p:spPr>
          <a:xfrm>
            <a:off x="1903320" y="3522600"/>
            <a:ext cx="1386000" cy="4222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ackup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5025960" y="2886120"/>
            <a:ext cx="1814400" cy="406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te collection to be backed 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13"/>
          <p:cNvSpPr/>
          <p:nvPr/>
        </p:nvSpPr>
        <p:spPr>
          <a:xfrm>
            <a:off x="2836800" y="20502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3"/>
          <p:cNvSpPr/>
          <p:nvPr/>
        </p:nvSpPr>
        <p:spPr>
          <a:xfrm>
            <a:off x="5943600" y="41911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9"/>
          <p:cNvSpPr/>
          <p:nvPr/>
        </p:nvSpPr>
        <p:spPr>
          <a:xfrm>
            <a:off x="5019840" y="3868560"/>
            <a:ext cx="1815840" cy="406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twork or local path for back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5"/>
          <p:cNvSpPr/>
          <p:nvPr/>
        </p:nvSpPr>
        <p:spPr>
          <a:xfrm>
            <a:off x="2103480" y="1695600"/>
            <a:ext cx="152244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e collection backup p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03"/>
          <p:cNvSpPr/>
          <p:nvPr/>
        </p:nvSpPr>
        <p:spPr>
          <a:xfrm flipH="1" rot="16200000">
            <a:off x="2478960" y="2272680"/>
            <a:ext cx="234720" cy="2265120"/>
          </a:xfrm>
          <a:custGeom>
            <a:avLst/>
            <a:gdLst>
              <a:gd name="textAreaLeft" fmla="*/ 360 w 234720"/>
              <a:gd name="textAreaRight" fmla="*/ 84960 w 234720"/>
              <a:gd name="textAreaTop" fmla="*/ 47880 h 2265120"/>
              <a:gd name="textAreaBottom" fmla="*/ 2217240 h 22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35"/>
                  <a:pt x="10800" y="1469"/>
                </a:cubicBezTo>
                <a:lnTo>
                  <a:pt x="10800" y="9422"/>
                </a:lnTo>
                <a:cubicBezTo>
                  <a:pt x="10800" y="10157"/>
                  <a:pt x="16200" y="10891"/>
                  <a:pt x="21600" y="10891"/>
                </a:cubicBezTo>
                <a:cubicBezTo>
                  <a:pt x="16200" y="10891"/>
                  <a:pt x="10800" y="11626"/>
                  <a:pt x="10800" y="12360"/>
                </a:cubicBezTo>
                <a:lnTo>
                  <a:pt x="10800" y="20131"/>
                </a:lnTo>
                <a:cubicBezTo>
                  <a:pt x="10800" y="2086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3"/>
          <p:cNvSpPr/>
          <p:nvPr/>
        </p:nvSpPr>
        <p:spPr>
          <a:xfrm>
            <a:off x="5943600" y="32972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13"/>
          <p:cNvSpPr/>
          <p:nvPr/>
        </p:nvSpPr>
        <p:spPr>
          <a:xfrm flipH="1" flipV="1">
            <a:off x="4541400" y="4843080"/>
            <a:ext cx="762120" cy="50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5"/>
          <p:cNvSpPr/>
          <p:nvPr/>
        </p:nvSpPr>
        <p:spPr>
          <a:xfrm>
            <a:off x="4305240" y="5227560"/>
            <a:ext cx="1814400" cy="4064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Overwrite existing file op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storage quotas in your organization and what would you set for quotas in SharePoin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ight you use SharePoint's auditing features and what might you trac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2:50:30Z</dcterms:created>
  <dc:creator>khess</dc:creator>
  <dc:description/>
  <dc:language>en-US</dc:language>
  <cp:lastModifiedBy>Tricia Murphy</cp:lastModifiedBy>
  <dcterms:modified xsi:type="dcterms:W3CDTF">2013-08-05T19:45:24Z</dcterms:modified>
  <cp:revision>79</cp:revision>
  <dc:subject/>
  <dc:title>Lesson One: Advanced Form Design</dc:title>
</cp:coreProperties>
</file>