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CFD-CC24-44E1-A16C-D47A57298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5951017-CC0B-4F79-96FF-AA8879F8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76A5784-E187-4C88-BF09-4C86DCE7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08CC26F-3D0A-4F4B-9396-DC4FCADE7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5FAA709-AE7E-427A-AF81-8D75A499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876858D-45D5-47C8-A27C-4D2864A2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AE1E3DF-70E9-485C-8A20-0E4ED3AB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28A4D10-F77B-4950-8AC4-2C4F4A52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9AEBA3C3-19D0-4510-9AA2-E5D78FBAA39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eating a New Sit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Look and Feel of Your SharePoin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harePoint Site Hierarch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5" descr="f08469601_02"/>
          <p:cNvPicPr/>
          <p:nvPr/>
        </p:nvPicPr>
        <p:blipFill>
          <a:blip r:embed="rId1"/>
          <a:stretch/>
        </p:blipFill>
        <p:spPr>
          <a:xfrm>
            <a:off x="520560" y="1295280"/>
            <a:ext cx="6777000" cy="4254480"/>
          </a:xfrm>
          <a:prstGeom prst="rect">
            <a:avLst/>
          </a:prstGeom>
          <a:ln w="0">
            <a:noFill/>
          </a:ln>
        </p:spPr>
      </p:pic>
      <p:sp>
        <p:nvSpPr>
          <p:cNvPr id="53" name="Line 113"/>
          <p:cNvSpPr/>
          <p:nvPr/>
        </p:nvSpPr>
        <p:spPr>
          <a:xfrm flipH="1">
            <a:off x="6921360" y="2322360"/>
            <a:ext cx="85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5"/>
          <p:cNvSpPr/>
          <p:nvPr/>
        </p:nvSpPr>
        <p:spPr>
          <a:xfrm>
            <a:off x="7297560" y="2197080"/>
            <a:ext cx="15465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3"/>
          <p:cNvSpPr/>
          <p:nvPr/>
        </p:nvSpPr>
        <p:spPr>
          <a:xfrm flipH="1">
            <a:off x="6921360" y="3747960"/>
            <a:ext cx="85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7367760" y="361152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3"/>
          <p:cNvSpPr/>
          <p:nvPr/>
        </p:nvSpPr>
        <p:spPr>
          <a:xfrm flipH="1">
            <a:off x="6908400" y="4813200"/>
            <a:ext cx="77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9"/>
          <p:cNvSpPr/>
          <p:nvPr/>
        </p:nvSpPr>
        <p:spPr>
          <a:xfrm>
            <a:off x="7367760" y="4532400"/>
            <a:ext cx="1476360" cy="56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te Settings Pag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2" descr="F:\SVN\lo_91108\trunk\091108\images\Lesson1-SiteSettingsPage.png"/>
          <p:cNvPicPr/>
          <p:nvPr/>
        </p:nvPicPr>
        <p:blipFill>
          <a:blip r:embed="rId1"/>
          <a:stretch/>
        </p:blipFill>
        <p:spPr>
          <a:xfrm>
            <a:off x="895320" y="1295280"/>
            <a:ext cx="731376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hange the Look Pag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Line 144"/>
          <p:cNvSpPr/>
          <p:nvPr/>
        </p:nvSpPr>
        <p:spPr>
          <a:xfrm>
            <a:off x="2214720" y="3979800"/>
            <a:ext cx="60480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F:\SVN\lo_91108\trunk\091108\images\Lesson1-ChangeTheLookPage.png"/>
          <p:cNvPicPr/>
          <p:nvPr/>
        </p:nvPicPr>
        <p:blipFill>
          <a:blip r:embed="rId1"/>
          <a:stretch/>
        </p:blipFill>
        <p:spPr>
          <a:xfrm>
            <a:off x="2819520" y="1600200"/>
            <a:ext cx="5800680" cy="3759120"/>
          </a:xfrm>
          <a:prstGeom prst="rect">
            <a:avLst/>
          </a:prstGeom>
          <a:ln w="0">
            <a:noFill/>
          </a:ln>
        </p:spPr>
      </p:pic>
      <p:sp>
        <p:nvSpPr>
          <p:cNvPr id="64" name="Line 144"/>
          <p:cNvSpPr/>
          <p:nvPr/>
        </p:nvSpPr>
        <p:spPr>
          <a:xfrm flipV="1">
            <a:off x="2214720" y="3580920"/>
            <a:ext cx="60480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6"/>
          <p:cNvSpPr/>
          <p:nvPr/>
        </p:nvSpPr>
        <p:spPr>
          <a:xfrm>
            <a:off x="561960" y="3689280"/>
            <a:ext cx="1739880" cy="5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ailable Sty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tyle Customiza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2" descr="F:\SVN\lo_91108\trunk\091108\images\Lesson1-StyleCustomizations.png"/>
          <p:cNvPicPr/>
          <p:nvPr/>
        </p:nvPicPr>
        <p:blipFill>
          <a:blip r:embed="rId1"/>
          <a:stretch/>
        </p:blipFill>
        <p:spPr>
          <a:xfrm>
            <a:off x="2612880" y="1913040"/>
            <a:ext cx="5027760" cy="3186000"/>
          </a:xfrm>
          <a:prstGeom prst="rect">
            <a:avLst/>
          </a:prstGeom>
          <a:ln w="0">
            <a:noFill/>
          </a:ln>
        </p:spPr>
      </p:pic>
      <p:sp>
        <p:nvSpPr>
          <p:cNvPr id="68" name="Line 144"/>
          <p:cNvSpPr/>
          <p:nvPr/>
        </p:nvSpPr>
        <p:spPr>
          <a:xfrm flipV="1">
            <a:off x="2363760" y="4793760"/>
            <a:ext cx="303120" cy="1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4"/>
          <p:cNvSpPr/>
          <p:nvPr/>
        </p:nvSpPr>
        <p:spPr>
          <a:xfrm>
            <a:off x="2332080" y="3670200"/>
            <a:ext cx="344520" cy="2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0"/>
          <p:cNvSpPr/>
          <p:nvPr/>
        </p:nvSpPr>
        <p:spPr>
          <a:xfrm>
            <a:off x="1017720" y="3494160"/>
            <a:ext cx="1395360" cy="45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ors Se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2"/>
          <p:cNvSpPr/>
          <p:nvPr/>
        </p:nvSpPr>
        <p:spPr>
          <a:xfrm>
            <a:off x="1017720" y="4794120"/>
            <a:ext cx="1395360" cy="45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nt Sel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4"/>
          <p:cNvSpPr/>
          <p:nvPr/>
        </p:nvSpPr>
        <p:spPr>
          <a:xfrm>
            <a:off x="2394000" y="433692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4"/>
          <p:cNvSpPr/>
          <p:nvPr/>
        </p:nvSpPr>
        <p:spPr>
          <a:xfrm>
            <a:off x="2384280" y="2895480"/>
            <a:ext cx="282600" cy="28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5"/>
          <p:cNvSpPr/>
          <p:nvPr/>
        </p:nvSpPr>
        <p:spPr>
          <a:xfrm>
            <a:off x="1017720" y="2649600"/>
            <a:ext cx="1395360" cy="4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ckground Image Se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6"/>
          <p:cNvSpPr/>
          <p:nvPr/>
        </p:nvSpPr>
        <p:spPr>
          <a:xfrm>
            <a:off x="2384280" y="1441440"/>
            <a:ext cx="1130400" cy="4208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art Over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4"/>
          <p:cNvSpPr/>
          <p:nvPr/>
        </p:nvSpPr>
        <p:spPr>
          <a:xfrm>
            <a:off x="2955960" y="1862280"/>
            <a:ext cx="0" cy="82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4"/>
          <p:cNvSpPr/>
          <p:nvPr/>
        </p:nvSpPr>
        <p:spPr>
          <a:xfrm>
            <a:off x="6753240" y="1739880"/>
            <a:ext cx="0" cy="93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9"/>
          <p:cNvSpPr/>
          <p:nvPr/>
        </p:nvSpPr>
        <p:spPr>
          <a:xfrm>
            <a:off x="6188040" y="1441440"/>
            <a:ext cx="1130400" cy="4208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ry it out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20"/>
          <p:cNvSpPr/>
          <p:nvPr/>
        </p:nvSpPr>
        <p:spPr>
          <a:xfrm>
            <a:off x="7439040" y="3803760"/>
            <a:ext cx="1131840" cy="4190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eview of the S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03"/>
          <p:cNvSpPr/>
          <p:nvPr/>
        </p:nvSpPr>
        <p:spPr>
          <a:xfrm flipH="1" rot="10800000">
            <a:off x="7057080" y="2947680"/>
            <a:ext cx="322200" cy="2151000"/>
          </a:xfrm>
          <a:custGeom>
            <a:avLst/>
            <a:gdLst>
              <a:gd name="textAreaLeft" fmla="*/ 0 w 322200"/>
              <a:gd name="textAreaRight" fmla="*/ 116280 w 322200"/>
              <a:gd name="textAreaTop" fmla="*/ 66240 h 2151000"/>
              <a:gd name="textAreaBottom" fmla="*/ 208476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6"/>
                  <a:pt x="10800" y="2132"/>
                </a:cubicBezTo>
                <a:lnTo>
                  <a:pt x="10800" y="8668"/>
                </a:lnTo>
                <a:cubicBezTo>
                  <a:pt x="10800" y="9734"/>
                  <a:pt x="16200" y="10800"/>
                  <a:pt x="21600" y="10800"/>
                </a:cubicBezTo>
                <a:cubicBezTo>
                  <a:pt x="16200" y="10800"/>
                  <a:pt x="10800" y="11866"/>
                  <a:pt x="10800" y="12932"/>
                </a:cubicBezTo>
                <a:lnTo>
                  <a:pt x="10800" y="19468"/>
                </a:lnTo>
                <a:cubicBezTo>
                  <a:pt x="10800" y="205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11"/>
          <p:cNvSpPr/>
          <p:nvPr/>
        </p:nvSpPr>
        <p:spPr>
          <a:xfrm>
            <a:off x="1017720" y="4111560"/>
            <a:ext cx="1395360" cy="45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Layout Se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Layou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3" name="Picture 3" descr="F:\SVN\lo_91108\trunk\091108\images\Lesson1-TextLayout.png"/>
          <p:cNvPicPr/>
          <p:nvPr/>
        </p:nvPicPr>
        <p:blipFill>
          <a:blip r:embed="rId1"/>
          <a:stretch/>
        </p:blipFill>
        <p:spPr>
          <a:xfrm>
            <a:off x="3798720" y="1538280"/>
            <a:ext cx="2381400" cy="4029120"/>
          </a:xfrm>
          <a:prstGeom prst="rect">
            <a:avLst/>
          </a:prstGeom>
          <a:ln w="0">
            <a:noFill/>
          </a:ln>
        </p:spPr>
      </p:pic>
      <p:sp>
        <p:nvSpPr>
          <p:cNvPr id="84" name="Line 144"/>
          <p:cNvSpPr/>
          <p:nvPr/>
        </p:nvSpPr>
        <p:spPr>
          <a:xfrm>
            <a:off x="3341520" y="1989000"/>
            <a:ext cx="42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24"/>
          <p:cNvSpPr/>
          <p:nvPr/>
        </p:nvSpPr>
        <p:spPr>
          <a:xfrm>
            <a:off x="2257560" y="1781280"/>
            <a:ext cx="12556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Layou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3"/>
          <p:cNvSpPr/>
          <p:nvPr/>
        </p:nvSpPr>
        <p:spPr>
          <a:xfrm flipH="1">
            <a:off x="3512520" y="2295360"/>
            <a:ext cx="174600" cy="318168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3181680"/>
              <a:gd name="textAreaBottom" fmla="*/ 3145680 h 318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1"/>
                  <a:pt x="10800" y="781"/>
                </a:cubicBezTo>
                <a:lnTo>
                  <a:pt x="10800" y="10019"/>
                </a:lnTo>
                <a:cubicBezTo>
                  <a:pt x="10800" y="10410"/>
                  <a:pt x="16200" y="10800"/>
                  <a:pt x="21600" y="10800"/>
                </a:cubicBezTo>
                <a:cubicBezTo>
                  <a:pt x="16200" y="10800"/>
                  <a:pt x="10800" y="11191"/>
                  <a:pt x="10800" y="11581"/>
                </a:cubicBezTo>
                <a:lnTo>
                  <a:pt x="10800" y="20819"/>
                </a:lnTo>
                <a:cubicBezTo>
                  <a:pt x="10800" y="2121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6"/>
          <p:cNvSpPr/>
          <p:nvPr/>
        </p:nvSpPr>
        <p:spPr>
          <a:xfrm>
            <a:off x="2217600" y="3672000"/>
            <a:ext cx="12556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Layou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SharePoint templates will your organization use the mo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style options and customizations do you see being used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4-25T14:13:42Z</dcterms:modified>
  <cp:revision>25</cp:revision>
  <dc:subject/>
  <dc:title>Lesson One: Advanced Form Design</dc:title>
</cp:coreProperties>
</file>