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64B5-F83B-4F54-B741-99F67C5917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B05C770-2F73-4A5F-8014-982676D40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CB72240-61C8-413E-8C68-A604150B8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6 - </a:t>
            </a:r>
            <a:fld id="{02887FFC-CEF9-4ADB-B397-0A2E0580DAFE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orking Offline and Remotely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ith SharePoint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chronize Libraries, Sites, and MySite and Working Off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 from a Mobile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harePoint SYNC Butt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2" descr="F:\LO Software\Lesson6\Lesson6FigureSync.png"/>
          <p:cNvPicPr/>
          <p:nvPr/>
        </p:nvPicPr>
        <p:blipFill>
          <a:blip r:embed="rId1"/>
          <a:stretch/>
        </p:blipFill>
        <p:spPr>
          <a:xfrm>
            <a:off x="3103560" y="2895480"/>
            <a:ext cx="2714760" cy="1590840"/>
          </a:xfrm>
          <a:prstGeom prst="rect">
            <a:avLst/>
          </a:prstGeom>
          <a:ln w="0">
            <a:noFill/>
          </a:ln>
        </p:spPr>
      </p:pic>
      <p:sp>
        <p:nvSpPr>
          <p:cNvPr id="53" name="Line 144"/>
          <p:cNvSpPr/>
          <p:nvPr/>
        </p:nvSpPr>
        <p:spPr>
          <a:xfrm>
            <a:off x="5151600" y="2386080"/>
            <a:ext cx="0" cy="83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5"/>
          <p:cNvSpPr/>
          <p:nvPr/>
        </p:nvSpPr>
        <p:spPr>
          <a:xfrm>
            <a:off x="4516560" y="2386080"/>
            <a:ext cx="1271520" cy="417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YNC butt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what cases would you work offline with SharePoi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re some potential issues and problems with working offli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2:50:30Z</dcterms:created>
  <dc:creator>khess</dc:creator>
  <dc:description/>
  <dc:language>en-US</dc:language>
  <cp:lastModifiedBy>Tricia Murphy</cp:lastModifiedBy>
  <dcterms:modified xsi:type="dcterms:W3CDTF">2013-08-02T15:08:23Z</dcterms:modified>
  <cp:revision>34</cp:revision>
  <dc:subject/>
  <dc:title>Lesson One: Advanced Form Design</dc:title>
</cp:coreProperties>
</file>