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E083-A571-4A45-BDB6-D04CD8401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9932F75-1BF6-4117-BFE6-AB785C78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7FA87CB-9132-444D-AE3C-6A2B4B9B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360787-4603-49FA-B299-C5C230030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B616B9A-6EE0-4F5A-AB3F-2DA96196C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137EE0F-B744-411E-9A9D-11BBE46E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369A6DB8-C283-4710-BE13-844FB7FD2BA8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ing and Configuring Lis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 Announcement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d Configure a Task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d Configure Contact and Calendar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d Configure a Blog Su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d Configure a Custom List to your SharePoint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 List 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eb Part Toolbar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SVN\lo_91108\trunk\091108\images\Toolbar-Ann-ShowToolbar.png"/>
          <p:cNvPicPr/>
          <p:nvPr/>
        </p:nvPicPr>
        <p:blipFill>
          <a:blip r:embed="rId1"/>
          <a:stretch/>
        </p:blipFill>
        <p:spPr>
          <a:xfrm>
            <a:off x="2990880" y="3236760"/>
            <a:ext cx="445752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:\SVN\lo_91108\trunk\091108\images\Toolbar-Ann-FullToolbar.png"/>
          <p:cNvPicPr/>
          <p:nvPr/>
        </p:nvPicPr>
        <p:blipFill>
          <a:blip r:embed="rId2"/>
          <a:stretch/>
        </p:blipFill>
        <p:spPr>
          <a:xfrm>
            <a:off x="3048120" y="1471680"/>
            <a:ext cx="4400280" cy="144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F:\SVN\lo_91108\trunk\091108\images\Toolbar-Ann-NoToolbar.png"/>
          <p:cNvPicPr/>
          <p:nvPr/>
        </p:nvPicPr>
        <p:blipFill>
          <a:blip r:embed="rId3"/>
          <a:stretch/>
        </p:blipFill>
        <p:spPr>
          <a:xfrm>
            <a:off x="2990880" y="5029200"/>
            <a:ext cx="354312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303"/>
          <p:cNvSpPr/>
          <p:nvPr/>
        </p:nvSpPr>
        <p:spPr>
          <a:xfrm flipH="1">
            <a:off x="2815560" y="1530360"/>
            <a:ext cx="174600" cy="129852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1298520"/>
              <a:gd name="textAreaBottom" fmla="*/ 1262520 h 12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8"/>
                  <a:pt x="10800" y="1915"/>
                </a:cubicBezTo>
                <a:lnTo>
                  <a:pt x="10800" y="8885"/>
                </a:lnTo>
                <a:cubicBezTo>
                  <a:pt x="10800" y="9843"/>
                  <a:pt x="16200" y="10800"/>
                  <a:pt x="21600" y="10800"/>
                </a:cubicBezTo>
                <a:cubicBezTo>
                  <a:pt x="16200" y="10800"/>
                  <a:pt x="10800" y="11758"/>
                  <a:pt x="10800" y="12715"/>
                </a:cubicBezTo>
                <a:lnTo>
                  <a:pt x="10800" y="19685"/>
                </a:lnTo>
                <a:cubicBezTo>
                  <a:pt x="10800" y="2064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03"/>
          <p:cNvSpPr/>
          <p:nvPr/>
        </p:nvSpPr>
        <p:spPr>
          <a:xfrm flipH="1">
            <a:off x="2815560" y="3249720"/>
            <a:ext cx="174600" cy="146664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1466640"/>
              <a:gd name="textAreaBottom" fmla="*/ 1430640 h 14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8"/>
                  <a:pt x="10800" y="1695"/>
                </a:cubicBezTo>
                <a:lnTo>
                  <a:pt x="10800" y="9105"/>
                </a:lnTo>
                <a:cubicBezTo>
                  <a:pt x="10800" y="9953"/>
                  <a:pt x="16200" y="10800"/>
                  <a:pt x="21600" y="10800"/>
                </a:cubicBezTo>
                <a:cubicBezTo>
                  <a:pt x="16200" y="10800"/>
                  <a:pt x="10800" y="11648"/>
                  <a:pt x="10800" y="12495"/>
                </a:cubicBezTo>
                <a:lnTo>
                  <a:pt x="10800" y="19905"/>
                </a:lnTo>
                <a:cubicBezTo>
                  <a:pt x="10800" y="2075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26"/>
          <p:cNvSpPr/>
          <p:nvPr/>
        </p:nvSpPr>
        <p:spPr>
          <a:xfrm>
            <a:off x="1422360" y="1954080"/>
            <a:ext cx="1393920" cy="45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 pa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ll Tool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27"/>
          <p:cNvSpPr/>
          <p:nvPr/>
        </p:nvSpPr>
        <p:spPr>
          <a:xfrm>
            <a:off x="1422360" y="3757680"/>
            <a:ext cx="139392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 pa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w Tool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03"/>
          <p:cNvSpPr/>
          <p:nvPr/>
        </p:nvSpPr>
        <p:spPr>
          <a:xfrm flipH="1">
            <a:off x="2815560" y="5056200"/>
            <a:ext cx="174600" cy="95868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958680"/>
              <a:gd name="textAreaBottom" fmla="*/ 922680 h 95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6"/>
                  <a:pt x="10800" y="2592"/>
                </a:cubicBezTo>
                <a:lnTo>
                  <a:pt x="10800" y="8208"/>
                </a:lnTo>
                <a:cubicBezTo>
                  <a:pt x="10800" y="9504"/>
                  <a:pt x="16200" y="10800"/>
                  <a:pt x="21600" y="10800"/>
                </a:cubicBezTo>
                <a:cubicBezTo>
                  <a:pt x="16200" y="10800"/>
                  <a:pt x="10800" y="12096"/>
                  <a:pt x="10800" y="13392"/>
                </a:cubicBezTo>
                <a:lnTo>
                  <a:pt x="10800" y="19008"/>
                </a:lnTo>
                <a:cubicBezTo>
                  <a:pt x="10800" y="203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9"/>
          <p:cNvSpPr/>
          <p:nvPr/>
        </p:nvSpPr>
        <p:spPr>
          <a:xfrm>
            <a:off x="1422360" y="5337000"/>
            <a:ext cx="139392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 pa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Tool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alculated Colum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48120" y="2583000"/>
            <a:ext cx="3209760" cy="206676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35"/>
          <p:cNvSpPr/>
          <p:nvPr/>
        </p:nvSpPr>
        <p:spPr>
          <a:xfrm>
            <a:off x="3652920" y="3567240"/>
            <a:ext cx="1000080" cy="4204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mpleted Formu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4"/>
          <p:cNvSpPr/>
          <p:nvPr/>
        </p:nvSpPr>
        <p:spPr>
          <a:xfrm flipV="1">
            <a:off x="4152960" y="309852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4"/>
          <p:cNvSpPr/>
          <p:nvPr/>
        </p:nvSpPr>
        <p:spPr>
          <a:xfrm>
            <a:off x="5562720" y="2149560"/>
            <a:ext cx="0" cy="44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8"/>
          <p:cNvSpPr/>
          <p:nvPr/>
        </p:nvSpPr>
        <p:spPr>
          <a:xfrm>
            <a:off x="4863960" y="1835280"/>
            <a:ext cx="1393920" cy="45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umn Selection 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crosoft InfoPath Interfac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2" descr="F:\SVN\lo_91108\trunk\091108\images\Lesson3-InfoPathInterface.png"/>
          <p:cNvPicPr/>
          <p:nvPr/>
        </p:nvPicPr>
        <p:blipFill>
          <a:blip r:embed="rId1"/>
          <a:stretch/>
        </p:blipFill>
        <p:spPr>
          <a:xfrm>
            <a:off x="1311120" y="1509840"/>
            <a:ext cx="6613560" cy="4262400"/>
          </a:xfrm>
          <a:prstGeom prst="rect">
            <a:avLst/>
          </a:prstGeom>
          <a:ln w="0">
            <a:noFill/>
          </a:ln>
        </p:spPr>
      </p:pic>
      <p:sp>
        <p:nvSpPr>
          <p:cNvPr id="69" name="Line 144"/>
          <p:cNvSpPr/>
          <p:nvPr/>
        </p:nvSpPr>
        <p:spPr>
          <a:xfrm>
            <a:off x="6721560" y="1461960"/>
            <a:ext cx="0" cy="108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1811160" y="6031080"/>
            <a:ext cx="1395720" cy="45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 Layout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0"/>
          <p:cNvSpPr/>
          <p:nvPr/>
        </p:nvSpPr>
        <p:spPr>
          <a:xfrm>
            <a:off x="6024600" y="1057320"/>
            <a:ext cx="139392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elds to Add to the Fo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03"/>
          <p:cNvSpPr/>
          <p:nvPr/>
        </p:nvSpPr>
        <p:spPr>
          <a:xfrm flipH="1" rot="5400000">
            <a:off x="4419360" y="-1630800"/>
            <a:ext cx="336600" cy="6553440"/>
          </a:xfrm>
          <a:custGeom>
            <a:avLst/>
            <a:gdLst>
              <a:gd name="textAreaLeft" fmla="*/ -360 w 336600"/>
              <a:gd name="textAreaRight" fmla="*/ 121320 w 336600"/>
              <a:gd name="textAreaTop" fmla="*/ 69480 h 6553440"/>
              <a:gd name="textAreaBottom" fmla="*/ 648396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7"/>
                  <a:pt x="10800" y="734"/>
                </a:cubicBezTo>
                <a:lnTo>
                  <a:pt x="10800" y="14278"/>
                </a:lnTo>
                <a:cubicBezTo>
                  <a:pt x="10800" y="14645"/>
                  <a:pt x="16200" y="15012"/>
                  <a:pt x="21600" y="15012"/>
                </a:cubicBezTo>
                <a:cubicBezTo>
                  <a:pt x="16200" y="15012"/>
                  <a:pt x="10800" y="15379"/>
                  <a:pt x="10800" y="15746"/>
                </a:cubicBezTo>
                <a:lnTo>
                  <a:pt x="10800" y="20866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2"/>
          <p:cNvSpPr/>
          <p:nvPr/>
        </p:nvSpPr>
        <p:spPr>
          <a:xfrm>
            <a:off x="2654280" y="1009800"/>
            <a:ext cx="1395360" cy="45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Path Rib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03"/>
          <p:cNvSpPr/>
          <p:nvPr/>
        </p:nvSpPr>
        <p:spPr>
          <a:xfrm flipH="1" rot="16200000">
            <a:off x="3611880" y="3379680"/>
            <a:ext cx="349560" cy="4953240"/>
          </a:xfrm>
          <a:custGeom>
            <a:avLst/>
            <a:gdLst>
              <a:gd name="textAreaLeft" fmla="*/ 0 w 349560"/>
              <a:gd name="textAreaRight" fmla="*/ 126360 w 349560"/>
              <a:gd name="textAreaTop" fmla="*/ 71640 h 4953240"/>
              <a:gd name="textAreaBottom" fmla="*/ 4881600 h 495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1"/>
                  <a:pt x="10800" y="1001"/>
                </a:cubicBezTo>
                <a:lnTo>
                  <a:pt x="10800" y="4217"/>
                </a:lnTo>
                <a:cubicBezTo>
                  <a:pt x="10800" y="4718"/>
                  <a:pt x="16200" y="5218"/>
                  <a:pt x="21600" y="5218"/>
                </a:cubicBezTo>
                <a:cubicBezTo>
                  <a:pt x="16200" y="5218"/>
                  <a:pt x="10800" y="5719"/>
                  <a:pt x="10800" y="6219"/>
                </a:cubicBezTo>
                <a:lnTo>
                  <a:pt x="10800" y="20599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ypes of custom lists might your organization u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ypes of lists can your organization benefit from us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Gail Sandler</cp:lastModifiedBy>
  <dcterms:modified xsi:type="dcterms:W3CDTF">2013-07-10T18:28:40Z</dcterms:modified>
  <cp:revision>35</cp:revision>
  <dc:subject/>
  <dc:title>Lesson One: Advanced Form Design</dc:title>
</cp:coreProperties>
</file>