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C39D-37F7-42F3-8006-A6D893972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8D868D2-63CB-4A07-A79C-F02E05965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4F91322-9BC8-446C-81E3-2CD2F22F3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F7351114-E21E-4EEB-B50A-3B291B22FB5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orking with Lis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List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List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List 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 and Group with List 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ist Filtering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F:\LO Software\Lesson3 Graphics\L3TCFilteringExample.png"/>
          <p:cNvPicPr/>
          <p:nvPr/>
        </p:nvPicPr>
        <p:blipFill>
          <a:blip r:embed="rId1"/>
          <a:stretch/>
        </p:blipFill>
        <p:spPr>
          <a:xfrm>
            <a:off x="3379680" y="1530360"/>
            <a:ext cx="3648240" cy="3762360"/>
          </a:xfrm>
          <a:prstGeom prst="rect">
            <a:avLst/>
          </a:prstGeom>
          <a:ln w="0">
            <a:noFill/>
          </a:ln>
        </p:spPr>
      </p:pic>
      <p:sp>
        <p:nvSpPr>
          <p:cNvPr id="53" name="Line 144"/>
          <p:cNvSpPr/>
          <p:nvPr/>
        </p:nvSpPr>
        <p:spPr>
          <a:xfrm>
            <a:off x="3487680" y="3038400"/>
            <a:ext cx="69840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5"/>
          <p:cNvSpPr/>
          <p:nvPr/>
        </p:nvSpPr>
        <p:spPr>
          <a:xfrm>
            <a:off x="1852560" y="2787480"/>
            <a:ext cx="170820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rst column filter ope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4"/>
          <p:cNvSpPr/>
          <p:nvPr/>
        </p:nvSpPr>
        <p:spPr>
          <a:xfrm>
            <a:off x="3487680" y="2465280"/>
            <a:ext cx="714600" cy="54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4"/>
          <p:cNvSpPr/>
          <p:nvPr/>
        </p:nvSpPr>
        <p:spPr>
          <a:xfrm flipV="1">
            <a:off x="3487680" y="3611520"/>
            <a:ext cx="714600" cy="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1868400" y="3367080"/>
            <a:ext cx="170676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rst column filter cri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4"/>
          <p:cNvSpPr/>
          <p:nvPr/>
        </p:nvSpPr>
        <p:spPr>
          <a:xfrm flipV="1">
            <a:off x="3559320" y="4733640"/>
            <a:ext cx="645840" cy="10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11"/>
          <p:cNvSpPr/>
          <p:nvPr/>
        </p:nvSpPr>
        <p:spPr>
          <a:xfrm>
            <a:off x="1879560" y="4591080"/>
            <a:ext cx="17082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column filter operator (option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4"/>
          <p:cNvSpPr/>
          <p:nvPr/>
        </p:nvSpPr>
        <p:spPr>
          <a:xfrm>
            <a:off x="3487680" y="4257720"/>
            <a:ext cx="704880" cy="17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4"/>
          <p:cNvSpPr/>
          <p:nvPr/>
        </p:nvSpPr>
        <p:spPr>
          <a:xfrm flipV="1">
            <a:off x="3487680" y="5036760"/>
            <a:ext cx="714600" cy="37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15"/>
          <p:cNvSpPr/>
          <p:nvPr/>
        </p:nvSpPr>
        <p:spPr>
          <a:xfrm>
            <a:off x="1879560" y="5164200"/>
            <a:ext cx="17082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column filter criteria (option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6"/>
          <p:cNvSpPr/>
          <p:nvPr/>
        </p:nvSpPr>
        <p:spPr>
          <a:xfrm>
            <a:off x="1852560" y="2214720"/>
            <a:ext cx="170676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rst column to filter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2"/>
          <p:cNvSpPr/>
          <p:nvPr/>
        </p:nvSpPr>
        <p:spPr>
          <a:xfrm>
            <a:off x="1868400" y="4006800"/>
            <a:ext cx="170676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column to filter on (option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4"/>
          <p:cNvSpPr/>
          <p:nvPr/>
        </p:nvSpPr>
        <p:spPr>
          <a:xfrm flipH="1" flipV="1">
            <a:off x="5203800" y="3949560"/>
            <a:ext cx="876240" cy="16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6"/>
          <p:cNvSpPr/>
          <p:nvPr/>
        </p:nvSpPr>
        <p:spPr>
          <a:xfrm>
            <a:off x="5892840" y="3844800"/>
            <a:ext cx="17082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/ Or sel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ist Grouping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Picture 2" descr="F:\LO Software\Lesson3 Graphics\GroupingOptionsExample.png"/>
          <p:cNvPicPr/>
          <p:nvPr/>
        </p:nvPicPr>
        <p:blipFill>
          <a:blip r:embed="rId1"/>
          <a:stretch/>
        </p:blipFill>
        <p:spPr>
          <a:xfrm>
            <a:off x="3243240" y="1557360"/>
            <a:ext cx="3152880" cy="4172040"/>
          </a:xfrm>
          <a:prstGeom prst="rect">
            <a:avLst/>
          </a:prstGeom>
          <a:ln w="0">
            <a:noFill/>
          </a:ln>
        </p:spPr>
      </p:pic>
      <p:sp>
        <p:nvSpPr>
          <p:cNvPr id="69" name="Line 144"/>
          <p:cNvSpPr/>
          <p:nvPr/>
        </p:nvSpPr>
        <p:spPr>
          <a:xfrm>
            <a:off x="2846520" y="1808280"/>
            <a:ext cx="714240" cy="150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4"/>
          <p:cNvSpPr/>
          <p:nvPr/>
        </p:nvSpPr>
        <p:spPr>
          <a:xfrm>
            <a:off x="2965320" y="4976640"/>
            <a:ext cx="295560" cy="1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1440000" y="2338560"/>
            <a:ext cx="165240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rst column sort order se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4"/>
          <p:cNvSpPr/>
          <p:nvPr/>
        </p:nvSpPr>
        <p:spPr>
          <a:xfrm>
            <a:off x="2951280" y="3465360"/>
            <a:ext cx="585720" cy="65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14"/>
          <p:cNvSpPr/>
          <p:nvPr/>
        </p:nvSpPr>
        <p:spPr>
          <a:xfrm>
            <a:off x="1440000" y="1557360"/>
            <a:ext cx="164628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rst column to group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5"/>
          <p:cNvSpPr/>
          <p:nvPr/>
        </p:nvSpPr>
        <p:spPr>
          <a:xfrm>
            <a:off x="1440000" y="3147840"/>
            <a:ext cx="164916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column to group on (option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03"/>
          <p:cNvSpPr/>
          <p:nvPr/>
        </p:nvSpPr>
        <p:spPr>
          <a:xfrm flipH="1">
            <a:off x="3115440" y="2162160"/>
            <a:ext cx="174600" cy="853920"/>
          </a:xfrm>
          <a:custGeom>
            <a:avLst/>
            <a:gdLst>
              <a:gd name="textAreaLeft" fmla="*/ 0 w 174600"/>
              <a:gd name="textAreaRight" fmla="*/ 63000 w 174600"/>
              <a:gd name="textAreaTop" fmla="*/ 35640 h 853920"/>
              <a:gd name="textAreaBottom" fmla="*/ 818280 h 85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54"/>
                  <a:pt x="10800" y="2908"/>
                </a:cubicBezTo>
                <a:lnTo>
                  <a:pt x="10800" y="7892"/>
                </a:lnTo>
                <a:cubicBezTo>
                  <a:pt x="10800" y="9346"/>
                  <a:pt x="16200" y="10800"/>
                  <a:pt x="21600" y="10800"/>
                </a:cubicBezTo>
                <a:cubicBezTo>
                  <a:pt x="16200" y="10800"/>
                  <a:pt x="10800" y="12254"/>
                  <a:pt x="10800" y="13708"/>
                </a:cubicBezTo>
                <a:lnTo>
                  <a:pt x="10800" y="18692"/>
                </a:lnTo>
                <a:cubicBezTo>
                  <a:pt x="10800" y="2014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03"/>
          <p:cNvSpPr/>
          <p:nvPr/>
        </p:nvSpPr>
        <p:spPr>
          <a:xfrm flipH="1">
            <a:off x="3091680" y="3735360"/>
            <a:ext cx="198360" cy="857160"/>
          </a:xfrm>
          <a:custGeom>
            <a:avLst/>
            <a:gdLst>
              <a:gd name="textAreaLeft" fmla="*/ 0 w 198360"/>
              <a:gd name="textAreaRight" fmla="*/ 71640 w 198360"/>
              <a:gd name="textAreaTop" fmla="*/ 40680 h 857160"/>
              <a:gd name="textAreaBottom" fmla="*/ 81648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52"/>
                  <a:pt x="10800" y="3303"/>
                </a:cubicBezTo>
                <a:lnTo>
                  <a:pt x="10800" y="12357"/>
                </a:lnTo>
                <a:cubicBezTo>
                  <a:pt x="10800" y="14009"/>
                  <a:pt x="16200" y="15660"/>
                  <a:pt x="21600" y="15660"/>
                </a:cubicBezTo>
                <a:cubicBezTo>
                  <a:pt x="16200" y="15660"/>
                  <a:pt x="10800" y="17312"/>
                  <a:pt x="10800" y="18963"/>
                </a:cubicBezTo>
                <a:lnTo>
                  <a:pt x="10800" y="18297"/>
                </a:lnTo>
                <a:cubicBezTo>
                  <a:pt x="10800" y="1994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18"/>
          <p:cNvSpPr/>
          <p:nvPr/>
        </p:nvSpPr>
        <p:spPr>
          <a:xfrm>
            <a:off x="1441440" y="3970440"/>
            <a:ext cx="1649520" cy="66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column sort order selection (option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19"/>
          <p:cNvSpPr/>
          <p:nvPr/>
        </p:nvSpPr>
        <p:spPr>
          <a:xfrm>
            <a:off x="1440000" y="4726080"/>
            <a:ext cx="164628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ault display sel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4"/>
          <p:cNvSpPr/>
          <p:nvPr/>
        </p:nvSpPr>
        <p:spPr>
          <a:xfrm>
            <a:off x="2965320" y="5587920"/>
            <a:ext cx="295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13"/>
          <p:cNvSpPr/>
          <p:nvPr/>
        </p:nvSpPr>
        <p:spPr>
          <a:xfrm>
            <a:off x="1441440" y="5337000"/>
            <a:ext cx="165096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roups per p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work environment, how could you use list views to make your job easi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ypes of SharePoint lists would your team find usefu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2T15:07:57Z</dcterms:modified>
  <cp:revision>22</cp:revision>
  <dc:subject/>
  <dc:title>Lesson One: Advanced Form Design</dc:title>
</cp:coreProperties>
</file>