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ACA4-0575-4724-8A55-4B6387C70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774013D-F521-4D33-8C61-DC4AF09F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1D39-1061-483F-8D18-6093A25CC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AE6A6DF-D0D1-4F61-8D3B-0FFACB98F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5D4A2647-5797-48B9-979D-270E6CB3288E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03040"/>
            <a:ext cx="6853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reating and Testing a Workflow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a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nd Publish a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Your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Simple SharePoint Workflow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228760" y="4484520"/>
            <a:ext cx="1268640" cy="7686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6"/>
          <p:cNvSpPr/>
          <p:nvPr/>
        </p:nvSpPr>
        <p:spPr>
          <a:xfrm>
            <a:off x="5070600" y="4468680"/>
            <a:ext cx="1268280" cy="7686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7"/>
          <p:cNvSpPr/>
          <p:nvPr/>
        </p:nvSpPr>
        <p:spPr>
          <a:xfrm>
            <a:off x="3660840" y="3544920"/>
            <a:ext cx="1266840" cy="7668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3813120" y="5425920"/>
            <a:ext cx="960480" cy="960480"/>
          </a:xfrm>
          <a:prstGeom prst="ellipse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16"/>
          <p:cNvSpPr/>
          <p:nvPr/>
        </p:nvSpPr>
        <p:spPr>
          <a:xfrm>
            <a:off x="4311720" y="200808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25"/>
          <p:cNvGrpSpPr/>
          <p:nvPr/>
        </p:nvGrpSpPr>
        <p:grpSpPr>
          <a:xfrm>
            <a:off x="4944960" y="3993840"/>
            <a:ext cx="761760" cy="489960"/>
            <a:chOff x="4944960" y="3993840"/>
            <a:chExt cx="761760" cy="489960"/>
          </a:xfrm>
        </p:grpSpPr>
        <p:sp>
          <p:nvSpPr>
            <p:cNvPr id="58" name="Line 326"/>
            <p:cNvSpPr/>
            <p:nvPr/>
          </p:nvSpPr>
          <p:spPr>
            <a:xfrm>
              <a:off x="4944960" y="400536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27"/>
            <p:cNvSpPr/>
            <p:nvPr/>
          </p:nvSpPr>
          <p:spPr>
            <a:xfrm flipV="1">
              <a:off x="5706720" y="3993840"/>
              <a:ext cx="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25"/>
          <p:cNvGrpSpPr/>
          <p:nvPr/>
        </p:nvGrpSpPr>
        <p:grpSpPr>
          <a:xfrm>
            <a:off x="2892600" y="4005360"/>
            <a:ext cx="763200" cy="491760"/>
            <a:chOff x="2892600" y="4005360"/>
            <a:chExt cx="763200" cy="491760"/>
          </a:xfrm>
        </p:grpSpPr>
        <p:sp>
          <p:nvSpPr>
            <p:cNvPr id="61" name="Line 326"/>
            <p:cNvSpPr/>
            <p:nvPr/>
          </p:nvSpPr>
          <p:spPr>
            <a:xfrm flipH="1">
              <a:off x="2892600" y="4016520"/>
              <a:ext cx="76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27"/>
            <p:cNvSpPr/>
            <p:nvPr/>
          </p:nvSpPr>
          <p:spPr>
            <a:xfrm flipV="1">
              <a:off x="2892600" y="4005360"/>
              <a:ext cx="0" cy="49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Line 316"/>
          <p:cNvSpPr/>
          <p:nvPr/>
        </p:nvSpPr>
        <p:spPr>
          <a:xfrm>
            <a:off x="4311720" y="304632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>
            <a:off x="3814920" y="1258920"/>
            <a:ext cx="958680" cy="960480"/>
          </a:xfrm>
          <a:prstGeom prst="ellipse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3678120" y="2506680"/>
            <a:ext cx="1266840" cy="768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25"/>
          <p:cNvGrpSpPr/>
          <p:nvPr/>
        </p:nvGrpSpPr>
        <p:grpSpPr>
          <a:xfrm>
            <a:off x="4774320" y="5269680"/>
            <a:ext cx="1017000" cy="636120"/>
            <a:chOff x="4774320" y="5269680"/>
            <a:chExt cx="1017000" cy="636120"/>
          </a:xfrm>
        </p:grpSpPr>
        <p:sp>
          <p:nvSpPr>
            <p:cNvPr id="67" name="Line 326"/>
            <p:cNvSpPr/>
            <p:nvPr/>
          </p:nvSpPr>
          <p:spPr>
            <a:xfrm>
              <a:off x="5767920" y="5269680"/>
              <a:ext cx="0" cy="63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27"/>
            <p:cNvSpPr/>
            <p:nvPr/>
          </p:nvSpPr>
          <p:spPr>
            <a:xfrm>
              <a:off x="4774320" y="5905440"/>
              <a:ext cx="101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25"/>
          <p:cNvGrpSpPr/>
          <p:nvPr/>
        </p:nvGrpSpPr>
        <p:grpSpPr>
          <a:xfrm>
            <a:off x="2803320" y="5272920"/>
            <a:ext cx="1013400" cy="636120"/>
            <a:chOff x="2803320" y="5272920"/>
            <a:chExt cx="1013400" cy="636120"/>
          </a:xfrm>
        </p:grpSpPr>
        <p:sp>
          <p:nvSpPr>
            <p:cNvPr id="70" name="Line 326"/>
            <p:cNvSpPr/>
            <p:nvPr/>
          </p:nvSpPr>
          <p:spPr>
            <a:xfrm>
              <a:off x="2826720" y="5272920"/>
              <a:ext cx="0" cy="63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27"/>
            <p:cNvSpPr/>
            <p:nvPr/>
          </p:nvSpPr>
          <p:spPr>
            <a:xfrm flipH="1">
              <a:off x="2803320" y="5908680"/>
              <a:ext cx="101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ounded Rectangle 30"/>
          <p:cNvSpPr/>
          <p:nvPr/>
        </p:nvSpPr>
        <p:spPr>
          <a:xfrm>
            <a:off x="3819600" y="1601640"/>
            <a:ext cx="952560" cy="274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1"/>
          <p:cNvSpPr/>
          <p:nvPr/>
        </p:nvSpPr>
        <p:spPr>
          <a:xfrm>
            <a:off x="3695760" y="2521080"/>
            <a:ext cx="1231920" cy="753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nd email to notify appro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32"/>
          <p:cNvSpPr/>
          <p:nvPr/>
        </p:nvSpPr>
        <p:spPr>
          <a:xfrm>
            <a:off x="3676680" y="3552840"/>
            <a:ext cx="1231920" cy="758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it for approvers to  approve or  re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33"/>
          <p:cNvSpPr/>
          <p:nvPr/>
        </p:nvSpPr>
        <p:spPr>
          <a:xfrm>
            <a:off x="5878440" y="2795760"/>
            <a:ext cx="1230480" cy="77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ait for approvers to  approve or  re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4"/>
          <p:cNvSpPr/>
          <p:nvPr/>
        </p:nvSpPr>
        <p:spPr>
          <a:xfrm>
            <a:off x="5087880" y="4464000"/>
            <a:ext cx="1231920" cy="77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nd email to notify document auth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5"/>
          <p:cNvSpPr/>
          <p:nvPr/>
        </p:nvSpPr>
        <p:spPr>
          <a:xfrm>
            <a:off x="2657520" y="3746520"/>
            <a:ext cx="1231920" cy="3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ro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36"/>
          <p:cNvSpPr/>
          <p:nvPr/>
        </p:nvSpPr>
        <p:spPr>
          <a:xfrm>
            <a:off x="4772160" y="3735360"/>
            <a:ext cx="1231920" cy="3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37"/>
          <p:cNvSpPr/>
          <p:nvPr/>
        </p:nvSpPr>
        <p:spPr>
          <a:xfrm>
            <a:off x="2246400" y="4497480"/>
            <a:ext cx="1231920" cy="739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nd email to notify document auth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38"/>
          <p:cNvSpPr/>
          <p:nvPr/>
        </p:nvSpPr>
        <p:spPr>
          <a:xfrm>
            <a:off x="3813120" y="5772240"/>
            <a:ext cx="952560" cy="274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39"/>
          <p:cNvSpPr/>
          <p:nvPr/>
        </p:nvSpPr>
        <p:spPr>
          <a:xfrm>
            <a:off x="1890720" y="1335240"/>
            <a:ext cx="180504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e approval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uidelines for Planning a Workflow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1355760"/>
            <a:ext cx="822960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what will trigger the workflo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what constitutes completion of the workflo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creating a flowchart to visualize the business process that you are translating to a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the actions or tasks that must be performed during the workfl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distinct steps of the business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the conditions that must be evaluated for the business process to continue from each step to the next ste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if there are any actions that can take place in parall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all individuals that must be notified as part of the workfl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any other actions or notifications that must take place as part of the workflow and build them into the flowcha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Workflow Development Tool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5" name="Picture 3" descr="F:\SVN\091109\trunk\091109\images\fp123578.spdesigner_32(en-us,MSDN.10).png"/>
          <p:cNvPicPr/>
          <p:nvPr/>
        </p:nvPicPr>
        <p:blipFill>
          <a:blip r:embed="rId1"/>
          <a:stretch/>
        </p:blipFill>
        <p:spPr>
          <a:xfrm>
            <a:off x="754200" y="1525680"/>
            <a:ext cx="842760" cy="84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F:\SVN\091109\trunk\091109\images\VS2012.png"/>
          <p:cNvPicPr/>
          <p:nvPr/>
        </p:nvPicPr>
        <p:blipFill>
          <a:blip r:embed="rId2"/>
          <a:stretch/>
        </p:blipFill>
        <p:spPr>
          <a:xfrm>
            <a:off x="754200" y="2776680"/>
            <a:ext cx="842760" cy="826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F:\SVN\091109\trunk\091109\images\InfoPath2013.jpg"/>
          <p:cNvPicPr/>
          <p:nvPr/>
        </p:nvPicPr>
        <p:blipFill>
          <a:blip r:embed="rId3"/>
          <a:stretch/>
        </p:blipFill>
        <p:spPr>
          <a:xfrm>
            <a:off x="368280" y="4811760"/>
            <a:ext cx="1521000" cy="151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F:\SVN\091109\trunk\091109\images\Visio2013.PNG"/>
          <p:cNvPicPr/>
          <p:nvPr/>
        </p:nvPicPr>
        <p:blipFill>
          <a:blip r:embed="rId4"/>
          <a:stretch/>
        </p:blipFill>
        <p:spPr>
          <a:xfrm>
            <a:off x="752400" y="4005360"/>
            <a:ext cx="1560600" cy="687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07"/>
          <p:cNvSpPr/>
          <p:nvPr/>
        </p:nvSpPr>
        <p:spPr>
          <a:xfrm>
            <a:off x="1906560" y="1700280"/>
            <a:ext cx="39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Point Design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7"/>
          <p:cNvSpPr/>
          <p:nvPr/>
        </p:nvSpPr>
        <p:spPr>
          <a:xfrm>
            <a:off x="1884240" y="2959200"/>
            <a:ext cx="39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tudi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604880" y="4011480"/>
            <a:ext cx="1920960" cy="6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7"/>
          <p:cNvSpPr/>
          <p:nvPr/>
        </p:nvSpPr>
        <p:spPr>
          <a:xfrm>
            <a:off x="1906560" y="4121280"/>
            <a:ext cx="39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7"/>
          <p:cNvSpPr/>
          <p:nvPr/>
        </p:nvSpPr>
        <p:spPr>
          <a:xfrm>
            <a:off x="1884240" y="5340240"/>
            <a:ext cx="39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Path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F:\SVN\091109\trunk\091109\images\L5-WorkflowComponents.png"/>
          <p:cNvPicPr/>
          <p:nvPr/>
        </p:nvPicPr>
        <p:blipFill>
          <a:blip r:embed="rId1"/>
          <a:stretch/>
        </p:blipFill>
        <p:spPr>
          <a:xfrm>
            <a:off x="3016080" y="2409840"/>
            <a:ext cx="3562560" cy="254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orkflow Compon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Line 66"/>
          <p:cNvSpPr/>
          <p:nvPr/>
        </p:nvSpPr>
        <p:spPr>
          <a:xfrm flipV="1">
            <a:off x="2638440" y="2676240"/>
            <a:ext cx="444600" cy="18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03"/>
          <p:cNvSpPr/>
          <p:nvPr/>
        </p:nvSpPr>
        <p:spPr>
          <a:xfrm flipH="1">
            <a:off x="3355200" y="3789360"/>
            <a:ext cx="174600" cy="797040"/>
          </a:xfrm>
          <a:custGeom>
            <a:avLst/>
            <a:gdLst>
              <a:gd name="textAreaLeft" fmla="*/ 0 w 174600"/>
              <a:gd name="textAreaRight" fmla="*/ 63000 w 174600"/>
              <a:gd name="textAreaTop" fmla="*/ 36000 h 797040"/>
              <a:gd name="textAreaBottom" fmla="*/ 761040 h 7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62"/>
                  <a:pt x="10800" y="3124"/>
                </a:cubicBezTo>
                <a:lnTo>
                  <a:pt x="10800" y="7676"/>
                </a:lnTo>
                <a:cubicBezTo>
                  <a:pt x="10800" y="9238"/>
                  <a:pt x="16200" y="10800"/>
                  <a:pt x="21600" y="10800"/>
                </a:cubicBezTo>
                <a:cubicBezTo>
                  <a:pt x="16200" y="10800"/>
                  <a:pt x="10800" y="12362"/>
                  <a:pt x="10800" y="13924"/>
                </a:cubicBezTo>
                <a:lnTo>
                  <a:pt x="10800" y="18476"/>
                </a:lnTo>
                <a:cubicBezTo>
                  <a:pt x="10800" y="2003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8"/>
          <p:cNvSpPr/>
          <p:nvPr/>
        </p:nvSpPr>
        <p:spPr>
          <a:xfrm>
            <a:off x="1162080" y="272736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9"/>
          <p:cNvSpPr/>
          <p:nvPr/>
        </p:nvSpPr>
        <p:spPr>
          <a:xfrm>
            <a:off x="5734080" y="3021120"/>
            <a:ext cx="1724040" cy="38556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ction: Wait for field chance in current i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6"/>
          <p:cNvSpPr/>
          <p:nvPr/>
        </p:nvSpPr>
        <p:spPr>
          <a:xfrm>
            <a:off x="2638440" y="2865600"/>
            <a:ext cx="71280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6"/>
          <p:cNvSpPr/>
          <p:nvPr/>
        </p:nvSpPr>
        <p:spPr>
          <a:xfrm flipH="1">
            <a:off x="4695480" y="2538360"/>
            <a:ext cx="1020600" cy="327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16"/>
          <p:cNvSpPr/>
          <p:nvPr/>
        </p:nvSpPr>
        <p:spPr>
          <a:xfrm>
            <a:off x="5716440" y="2386080"/>
            <a:ext cx="172404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ction: Send an e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6"/>
          <p:cNvSpPr/>
          <p:nvPr/>
        </p:nvSpPr>
        <p:spPr>
          <a:xfrm flipH="1">
            <a:off x="4814640" y="3214800"/>
            <a:ext cx="919080" cy="325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18"/>
          <p:cNvSpPr/>
          <p:nvPr/>
        </p:nvSpPr>
        <p:spPr>
          <a:xfrm>
            <a:off x="1631880" y="3995640"/>
            <a:ext cx="1724040" cy="3859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arallel block with 2 ac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20"/>
          <p:cNvSpPr/>
          <p:nvPr/>
        </p:nvSpPr>
        <p:spPr>
          <a:xfrm>
            <a:off x="5734080" y="3544920"/>
            <a:ext cx="172404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ction: Send an e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21"/>
          <p:cNvSpPr/>
          <p:nvPr/>
        </p:nvSpPr>
        <p:spPr>
          <a:xfrm>
            <a:off x="5716440" y="4678200"/>
            <a:ext cx="172404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ction: Declare rec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6"/>
          <p:cNvSpPr/>
          <p:nvPr/>
        </p:nvSpPr>
        <p:spPr>
          <a:xfrm flipH="1">
            <a:off x="4814640" y="3681360"/>
            <a:ext cx="919080" cy="327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6"/>
          <p:cNvSpPr/>
          <p:nvPr/>
        </p:nvSpPr>
        <p:spPr>
          <a:xfrm flipH="1" flipV="1">
            <a:off x="4695840" y="4519080"/>
            <a:ext cx="1038240" cy="29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316"/>
          <p:cNvSpPr/>
          <p:nvPr/>
        </p:nvSpPr>
        <p:spPr>
          <a:xfrm>
            <a:off x="4295880" y="528480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16"/>
          <p:cNvSpPr/>
          <p:nvPr/>
        </p:nvSpPr>
        <p:spPr>
          <a:xfrm>
            <a:off x="4272120" y="4338720"/>
            <a:ext cx="0" cy="498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orkflow Initiation and Execu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Rounded Rectangle 3"/>
          <p:cNvSpPr/>
          <p:nvPr/>
        </p:nvSpPr>
        <p:spPr>
          <a:xfrm>
            <a:off x="3463920" y="4836960"/>
            <a:ext cx="1546200" cy="766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5"/>
          <p:cNvSpPr/>
          <p:nvPr/>
        </p:nvSpPr>
        <p:spPr>
          <a:xfrm>
            <a:off x="3463920" y="3760920"/>
            <a:ext cx="1592280" cy="7682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3814920" y="5783400"/>
            <a:ext cx="960120" cy="960480"/>
          </a:xfrm>
          <a:prstGeom prst="ellipse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6"/>
          <p:cNvSpPr/>
          <p:nvPr/>
        </p:nvSpPr>
        <p:spPr>
          <a:xfrm>
            <a:off x="4295880" y="222552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6"/>
          <p:cNvSpPr/>
          <p:nvPr/>
        </p:nvSpPr>
        <p:spPr>
          <a:xfrm>
            <a:off x="4295880" y="326232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3798720" y="1476360"/>
            <a:ext cx="960480" cy="959040"/>
          </a:xfrm>
          <a:prstGeom prst="ellipse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16"/>
          <p:cNvSpPr/>
          <p:nvPr/>
        </p:nvSpPr>
        <p:spPr>
          <a:xfrm>
            <a:off x="3463920" y="2724120"/>
            <a:ext cx="1616040" cy="768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23"/>
          <p:cNvSpPr/>
          <p:nvPr/>
        </p:nvSpPr>
        <p:spPr>
          <a:xfrm>
            <a:off x="3787920" y="1733400"/>
            <a:ext cx="996840" cy="492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w i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24"/>
          <p:cNvSpPr/>
          <p:nvPr/>
        </p:nvSpPr>
        <p:spPr>
          <a:xfrm>
            <a:off x="3463920" y="2738520"/>
            <a:ext cx="1616040" cy="77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nd email to notify IPO Leg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25"/>
          <p:cNvSpPr/>
          <p:nvPr/>
        </p:nvSpPr>
        <p:spPr>
          <a:xfrm>
            <a:off x="3487680" y="3751200"/>
            <a:ext cx="1568520" cy="777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it for Task Status field set to 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ounded Rectangle 29"/>
          <p:cNvSpPr/>
          <p:nvPr/>
        </p:nvSpPr>
        <p:spPr>
          <a:xfrm>
            <a:off x="5010120" y="5024520"/>
            <a:ext cx="1231920" cy="387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actions in parallel blo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30"/>
          <p:cNvSpPr/>
          <p:nvPr/>
        </p:nvSpPr>
        <p:spPr>
          <a:xfrm>
            <a:off x="3473280" y="4830840"/>
            <a:ext cx="1536840" cy="77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nd email to IPO Legal group &amp; declare rec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1"/>
          <p:cNvSpPr/>
          <p:nvPr/>
        </p:nvSpPr>
        <p:spPr>
          <a:xfrm>
            <a:off x="3787920" y="6126120"/>
            <a:ext cx="1003320" cy="274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2"/>
          <p:cNvSpPr/>
          <p:nvPr/>
        </p:nvSpPr>
        <p:spPr>
          <a:xfrm>
            <a:off x="1922400" y="851040"/>
            <a:ext cx="518472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O Communications workflow initiation and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33"/>
          <p:cNvSpPr/>
          <p:nvPr/>
        </p:nvSpPr>
        <p:spPr>
          <a:xfrm>
            <a:off x="5079960" y="1643040"/>
            <a:ext cx="1873440" cy="673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orkflow starts automatically when new item posted to IPO Communications li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kflows do you have in your organization now? How could you translate those to SharePoin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you think using workflows can improve your productivity in the workpla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5T20:00:34Z</dcterms:modified>
  <cp:revision>120</cp:revision>
  <dc:subject/>
  <dc:title>Lesson One: Advanced Form Design</dc:title>
</cp:coreProperties>
</file>