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72A-7A46-4BF6-8C33-C5A7ED234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64DFBF1-D6A6-444D-B47A-821E8B66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71D62D6-4F7E-4590-9EF1-B3194710C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FE311262-97B0-4C27-9638-92E6D12CB6E2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5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3040"/>
            <a:ext cx="6853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naging Archiving and Complianc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Site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In-place Record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Information Management Po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Content Organizer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Site Pol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4" descr="F:\SVN\091109\trunk\091109\images\L4-SitePolicies.png"/>
          <p:cNvPicPr/>
          <p:nvPr/>
        </p:nvPicPr>
        <p:blipFill>
          <a:blip r:embed="rId1"/>
          <a:stretch/>
        </p:blipFill>
        <p:spPr>
          <a:xfrm>
            <a:off x="1998720" y="1440000"/>
            <a:ext cx="4992480" cy="43624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03"/>
          <p:cNvSpPr/>
          <p:nvPr/>
        </p:nvSpPr>
        <p:spPr>
          <a:xfrm flipH="1">
            <a:off x="4134600" y="2008080"/>
            <a:ext cx="174600" cy="668520"/>
          </a:xfrm>
          <a:custGeom>
            <a:avLst/>
            <a:gdLst>
              <a:gd name="textAreaLeft" fmla="*/ 0 w 174600"/>
              <a:gd name="textAreaRight" fmla="*/ 63000 w 174600"/>
              <a:gd name="textAreaTop" fmla="*/ 36000 h 668520"/>
              <a:gd name="textAreaBottom" fmla="*/ 63252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59"/>
                  <a:pt x="10800" y="3717"/>
                </a:cubicBezTo>
                <a:lnTo>
                  <a:pt x="10800" y="7083"/>
                </a:lnTo>
                <a:cubicBezTo>
                  <a:pt x="10800" y="8942"/>
                  <a:pt x="16200" y="10800"/>
                  <a:pt x="21600" y="10800"/>
                </a:cubicBezTo>
                <a:cubicBezTo>
                  <a:pt x="16200" y="10800"/>
                  <a:pt x="10800" y="12659"/>
                  <a:pt x="10800" y="14517"/>
                </a:cubicBezTo>
                <a:lnTo>
                  <a:pt x="10800" y="17883"/>
                </a:lnTo>
                <a:cubicBezTo>
                  <a:pt x="10800" y="1974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5"/>
          <p:cNvSpPr/>
          <p:nvPr/>
        </p:nvSpPr>
        <p:spPr>
          <a:xfrm>
            <a:off x="2411280" y="3098880"/>
            <a:ext cx="1724040" cy="4284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te closure and deletion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03"/>
          <p:cNvSpPr/>
          <p:nvPr/>
        </p:nvSpPr>
        <p:spPr>
          <a:xfrm flipH="1">
            <a:off x="4125240" y="3006720"/>
            <a:ext cx="183960" cy="614520"/>
          </a:xfrm>
          <a:custGeom>
            <a:avLst/>
            <a:gdLst>
              <a:gd name="textAreaLeft" fmla="*/ -360 w 183960"/>
              <a:gd name="textAreaRight" fmla="*/ 65880 w 183960"/>
              <a:gd name="textAreaTop" fmla="*/ 37440 h 614520"/>
              <a:gd name="textAreaBottom" fmla="*/ 5770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0"/>
                  <a:pt x="10800" y="4239"/>
                </a:cubicBezTo>
                <a:lnTo>
                  <a:pt x="10800" y="6561"/>
                </a:lnTo>
                <a:cubicBezTo>
                  <a:pt x="10800" y="8681"/>
                  <a:pt x="16200" y="10800"/>
                  <a:pt x="21600" y="10800"/>
                </a:cubicBezTo>
                <a:cubicBezTo>
                  <a:pt x="16200" y="10800"/>
                  <a:pt x="10800" y="12920"/>
                  <a:pt x="10800" y="15039"/>
                </a:cubicBezTo>
                <a:lnTo>
                  <a:pt x="10800" y="17361"/>
                </a:lnTo>
                <a:cubicBezTo>
                  <a:pt x="10800" y="1948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2421000" y="2170080"/>
            <a:ext cx="1724040" cy="4302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olicy name and descrip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03"/>
          <p:cNvSpPr/>
          <p:nvPr/>
        </p:nvSpPr>
        <p:spPr>
          <a:xfrm flipH="1">
            <a:off x="4109400" y="3700440"/>
            <a:ext cx="215640" cy="1341360"/>
          </a:xfrm>
          <a:custGeom>
            <a:avLst/>
            <a:gdLst>
              <a:gd name="textAreaLeft" fmla="*/ -360 w 215640"/>
              <a:gd name="textAreaRight" fmla="*/ 77400 w 215640"/>
              <a:gd name="textAreaTop" fmla="*/ 44280 h 1341360"/>
              <a:gd name="textAreaBottom" fmla="*/ 129708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48"/>
                  <a:pt x="10800" y="2296"/>
                </a:cubicBezTo>
                <a:lnTo>
                  <a:pt x="10800" y="8504"/>
                </a:lnTo>
                <a:cubicBezTo>
                  <a:pt x="10800" y="9652"/>
                  <a:pt x="16200" y="10800"/>
                  <a:pt x="21600" y="10800"/>
                </a:cubicBezTo>
                <a:cubicBezTo>
                  <a:pt x="16200" y="10800"/>
                  <a:pt x="10800" y="11948"/>
                  <a:pt x="10800" y="13096"/>
                </a:cubicBezTo>
                <a:lnTo>
                  <a:pt x="10800" y="19304"/>
                </a:lnTo>
                <a:cubicBezTo>
                  <a:pt x="10800" y="2045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9"/>
          <p:cNvSpPr/>
          <p:nvPr/>
        </p:nvSpPr>
        <p:spPr>
          <a:xfrm>
            <a:off x="2401920" y="4156200"/>
            <a:ext cx="1724040" cy="4302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tification and follow-up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7"/>
          <p:cNvSpPr/>
          <p:nvPr/>
        </p:nvSpPr>
        <p:spPr>
          <a:xfrm>
            <a:off x="5249880" y="542916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0"/>
          <p:cNvSpPr/>
          <p:nvPr/>
        </p:nvSpPr>
        <p:spPr>
          <a:xfrm>
            <a:off x="4397400" y="5656320"/>
            <a:ext cx="1724040" cy="5223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Option to make site collection read-only when clos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uidelines for Site Polic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355760"/>
            <a:ext cx="822960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publishing site policies and training site owners on procedures and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access requirements when configuring site collection clo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corporate work styles when configuring time frames and notif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corporate retention policies when configuring site de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SharePoint server and farm backup schedules when configuring site deletion time fr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training administrative staff on site rest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6" descr=""/>
          <p:cNvPicPr/>
          <p:nvPr/>
        </p:nvPicPr>
        <p:blipFill>
          <a:blip r:embed="rId1"/>
          <a:stretch/>
        </p:blipFill>
        <p:spPr>
          <a:xfrm>
            <a:off x="1511280" y="2000160"/>
            <a:ext cx="6095880" cy="405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cords and Records Managem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5159520" y="1589040"/>
            <a:ext cx="1212840" cy="1079640"/>
            <a:chOff x="5159520" y="1589040"/>
            <a:chExt cx="1212840" cy="1079640"/>
          </a:xfrm>
        </p:grpSpPr>
        <p:pic>
          <p:nvPicPr>
            <p:cNvPr id="66" name="Picture 6" descr="C:\Users\Bob\Desktop\Stuff 4-9\Projects\PPT Res\Windows Illustration Icons\_ WINDOWS SERVER ICONS\Documents\Spreadsheet blank document excel.png"/>
            <p:cNvPicPr/>
            <p:nvPr/>
          </p:nvPicPr>
          <p:blipFill>
            <a:blip r:embed="rId2"/>
            <a:stretch/>
          </p:blipFill>
          <p:spPr>
            <a:xfrm>
              <a:off x="5159520" y="1791720"/>
              <a:ext cx="561960" cy="7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C:\Users\Bob\Desktop\Stuff 4-9\Projects\PPT Res\Windows Illustration Icons\_ WINDOWS SERVER ICONS\Documents\Document Text.png"/>
            <p:cNvPicPr/>
            <p:nvPr/>
          </p:nvPicPr>
          <p:blipFill>
            <a:blip r:embed="rId3"/>
            <a:stretch/>
          </p:blipFill>
          <p:spPr>
            <a:xfrm>
              <a:off x="5817600" y="1801080"/>
              <a:ext cx="55476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8" descr="C:\Users\Bob\Desktop\Stuff 4-9\Projects\PPT Res\Windows Illustration Icons\_ WINDOWS SERVER ICONS\Search\Magnifying Glass zoom search 1.png"/>
            <p:cNvPicPr/>
            <p:nvPr/>
          </p:nvPicPr>
          <p:blipFill>
            <a:blip r:embed="rId4"/>
            <a:stretch/>
          </p:blipFill>
          <p:spPr>
            <a:xfrm>
              <a:off x="5259960" y="1589040"/>
              <a:ext cx="923400" cy="107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2" descr="C:\Users\Bob\Desktop\Stuff 4-9\Projects\PPT Res\Windows Illustration Icons\_ WINDOWS SERVER ICONS\Misc\gears cogwheels cog.png"/>
          <p:cNvPicPr/>
          <p:nvPr/>
        </p:nvPicPr>
        <p:blipFill>
          <a:blip r:embed="rId5"/>
          <a:stretch/>
        </p:blipFill>
        <p:spPr>
          <a:xfrm>
            <a:off x="2394000" y="3984480"/>
            <a:ext cx="579240" cy="57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Bob\Desktop\Stuff 4-9\Projects\PPT Res\Windows Illustration Icons\Delete.png"/>
          <p:cNvPicPr/>
          <p:nvPr/>
        </p:nvPicPr>
        <p:blipFill>
          <a:blip r:embed="rId6"/>
          <a:stretch/>
        </p:blipFill>
        <p:spPr>
          <a:xfrm>
            <a:off x="1919160" y="2378160"/>
            <a:ext cx="765360" cy="709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Bob\Desktop\Stuff 4-9\Projects\PPT Res\Windows Illustration Icons\Clock.png"/>
          <p:cNvPicPr/>
          <p:nvPr/>
        </p:nvPicPr>
        <p:blipFill>
          <a:blip r:embed="rId7"/>
          <a:stretch/>
        </p:blipFill>
        <p:spPr>
          <a:xfrm>
            <a:off x="4221000" y="4772160"/>
            <a:ext cx="809640" cy="81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Bob\Desktop\Stuff 4-9\Projects\PPT Res\Windows Illustration Icons\_ SEVEN STYLE\sand clock time hour glass.png"/>
          <p:cNvPicPr/>
          <p:nvPr/>
        </p:nvPicPr>
        <p:blipFill>
          <a:blip r:embed="rId8"/>
          <a:stretch/>
        </p:blipFill>
        <p:spPr>
          <a:xfrm>
            <a:off x="2811600" y="1778040"/>
            <a:ext cx="869760" cy="869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07"/>
          <p:cNvSpPr/>
          <p:nvPr/>
        </p:nvSpPr>
        <p:spPr>
          <a:xfrm>
            <a:off x="4703760" y="2517840"/>
            <a:ext cx="2227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ermine what are to be considered reco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5030640" y="3654360"/>
            <a:ext cx="2227320" cy="1271880"/>
            <a:chOff x="5030640" y="3654360"/>
            <a:chExt cx="2227320" cy="1271880"/>
          </a:xfrm>
        </p:grpSpPr>
        <p:pic>
          <p:nvPicPr>
            <p:cNvPr id="75" name="Picture 6" descr="C:\Users\Bob\Desktop\Stuff 4-9\Projects\PPT Res\Windows Illustration Icons\_ WINDOWS SERVER ICONS\Documents\Spreadsheet blank document excel.png"/>
            <p:cNvPicPr/>
            <p:nvPr/>
          </p:nvPicPr>
          <p:blipFill>
            <a:blip r:embed="rId9"/>
            <a:stretch/>
          </p:blipFill>
          <p:spPr>
            <a:xfrm>
              <a:off x="5277600" y="3654360"/>
              <a:ext cx="560520" cy="72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C:\Users\Bob\Desktop\Stuff 4-9\Projects\PPT Res\Windows Illustration Icons\_ WINDOWS SERVER ICONS\Documents\Document Text.png"/>
            <p:cNvPicPr/>
            <p:nvPr/>
          </p:nvPicPr>
          <p:blipFill>
            <a:blip r:embed="rId10"/>
            <a:stretch/>
          </p:blipFill>
          <p:spPr>
            <a:xfrm>
              <a:off x="5630760" y="3826080"/>
              <a:ext cx="539280" cy="6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C:\Users\Bob\Desktop\Stuff 4-9\Projects\PPT Res\Windows Illustration Icons\_ SUPER VISTA STYLE\safety box safe closed.png"/>
            <p:cNvPicPr/>
            <p:nvPr/>
          </p:nvPicPr>
          <p:blipFill>
            <a:blip r:embed="rId11"/>
            <a:stretch/>
          </p:blipFill>
          <p:spPr>
            <a:xfrm>
              <a:off x="5776560" y="3826080"/>
              <a:ext cx="78768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C:\Users\Bob\Desktop\Stuff 4-9\Projects\PPT Res\Windows Illustration Icons\_ SEVEN STYLE\lock security secure locked.png"/>
            <p:cNvPicPr/>
            <p:nvPr/>
          </p:nvPicPr>
          <p:blipFill>
            <a:blip r:embed="rId12"/>
            <a:stretch/>
          </p:blipFill>
          <p:spPr>
            <a:xfrm>
              <a:off x="5546160" y="4050720"/>
              <a:ext cx="4694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" descr="C:\Users\Bob\Desktop\Stuff 4-9\Projects\PPT Res\Windows Illustration Icons\_ SEVEN STYLE\lock security secure locked.png"/>
            <p:cNvPicPr/>
            <p:nvPr/>
          </p:nvPicPr>
          <p:blipFill>
            <a:blip r:embed="rId13"/>
            <a:stretch/>
          </p:blipFill>
          <p:spPr>
            <a:xfrm>
              <a:off x="5220720" y="3912840"/>
              <a:ext cx="4694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307"/>
            <p:cNvSpPr/>
            <p:nvPr/>
          </p:nvSpPr>
          <p:spPr>
            <a:xfrm>
              <a:off x="5030640" y="4497480"/>
              <a:ext cx="2227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termine how records will be handled and stor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307"/>
          <p:cNvSpPr/>
          <p:nvPr/>
        </p:nvSpPr>
        <p:spPr>
          <a:xfrm>
            <a:off x="3463920" y="5721480"/>
            <a:ext cx="2227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ermine duration of storage to meet legal, business, or regulatory require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7"/>
          <p:cNvSpPr/>
          <p:nvPr/>
        </p:nvSpPr>
        <p:spPr>
          <a:xfrm>
            <a:off x="1665360" y="4519440"/>
            <a:ext cx="2227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lement solutions to meet records management oblig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"/>
          <p:cNvSpPr/>
          <p:nvPr/>
        </p:nvSpPr>
        <p:spPr>
          <a:xfrm>
            <a:off x="2341440" y="2647800"/>
            <a:ext cx="2227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form record-related tasks such as deletion and legal hol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149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uidelines for Determining a Records Management Strategy in SharePoi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355760"/>
            <a:ext cx="822960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if in-place records management is appropriate or allow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what additional administrative tasks and time will be required to support in-place records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if your industry requires records be kept separate from active doc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if site administrators can be trusted to manage a site that contains rec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if you need different or more restricted access permissions for records than are in use on collaboration s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if you need records backed up on a different schedule than collaboration s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how long the collaboration site will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if collaboration site users need frequent access to the documents declared as rec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if records managers are responsible for records only, or responsible for all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Information Management Polic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7" name="Picture 6" descr="C:\Users\Bob\Desktop\Stuff 4-9\Projects\PPT Res\Windows Illustration Icons\Clock.png"/>
          <p:cNvPicPr/>
          <p:nvPr/>
        </p:nvPicPr>
        <p:blipFill>
          <a:blip r:embed="rId1"/>
          <a:stretch/>
        </p:blipFill>
        <p:spPr>
          <a:xfrm>
            <a:off x="2651040" y="2228760"/>
            <a:ext cx="1387440" cy="1386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07"/>
          <p:cNvSpPr/>
          <p:nvPr/>
        </p:nvSpPr>
        <p:spPr>
          <a:xfrm>
            <a:off x="754200" y="3614760"/>
            <a:ext cx="142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660600" y="2241360"/>
            <a:ext cx="1699200" cy="1451160"/>
            <a:chOff x="660600" y="2241360"/>
            <a:chExt cx="1699200" cy="1451160"/>
          </a:xfrm>
        </p:grpSpPr>
        <p:pic>
          <p:nvPicPr>
            <p:cNvPr id="90" name="Picture 6" descr="C:\Users\Bob\Desktop\Stuff 4-9\Projects\PPT Res\Windows Illustration Icons\_ WINDOWS SERVER ICONS\Documents\Spreadsheet blank document excel.png"/>
            <p:cNvPicPr/>
            <p:nvPr/>
          </p:nvPicPr>
          <p:blipFill>
            <a:blip r:embed="rId2"/>
            <a:stretch/>
          </p:blipFill>
          <p:spPr>
            <a:xfrm rot="20113200">
              <a:off x="830160" y="2354760"/>
              <a:ext cx="75636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C:\Users\Bob\Desktop\Stuff 4-9\Projects\PPT Res\Windows Illustration Icons\_ WINDOWS SERVER ICONS\Documents\Document Text.png"/>
            <p:cNvPicPr/>
            <p:nvPr/>
          </p:nvPicPr>
          <p:blipFill>
            <a:blip r:embed="rId3"/>
            <a:stretch/>
          </p:blipFill>
          <p:spPr>
            <a:xfrm rot="1646400">
              <a:off x="1432800" y="2462400"/>
              <a:ext cx="74664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C:\Users\Bob\Desktop\Stuff 4-9\Projects\PPT Res\Windows Illustration Icons\_ WINDOWS SERVER ICONS\Search\Magnifying Glass zoom search 1.png"/>
            <p:cNvPicPr/>
            <p:nvPr/>
          </p:nvPicPr>
          <p:blipFill>
            <a:blip r:embed="rId4"/>
            <a:stretch/>
          </p:blipFill>
          <p:spPr>
            <a:xfrm>
              <a:off x="843480" y="2241720"/>
              <a:ext cx="1242720" cy="14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307"/>
          <p:cNvSpPr/>
          <p:nvPr/>
        </p:nvSpPr>
        <p:spPr>
          <a:xfrm>
            <a:off x="2697120" y="3614760"/>
            <a:ext cx="131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en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Bob\Desktop\Stuff 4-9\Projects\PPT Res\Windows Illustration Icons\_ SUPER VISTA STYLE\barcode retail tracking.png"/>
          <p:cNvPicPr/>
          <p:nvPr/>
        </p:nvPicPr>
        <p:blipFill>
          <a:blip r:embed="rId5"/>
          <a:stretch/>
        </p:blipFill>
        <p:spPr>
          <a:xfrm>
            <a:off x="4495680" y="1908000"/>
            <a:ext cx="2035440" cy="2035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07"/>
          <p:cNvSpPr/>
          <p:nvPr/>
        </p:nvSpPr>
        <p:spPr>
          <a:xfrm>
            <a:off x="4854600" y="3614760"/>
            <a:ext cx="131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r Co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0"/>
          <p:cNvGrpSpPr/>
          <p:nvPr/>
        </p:nvGrpSpPr>
        <p:grpSpPr>
          <a:xfrm>
            <a:off x="6723000" y="2448000"/>
            <a:ext cx="1960560" cy="955440"/>
            <a:chOff x="6723000" y="2448000"/>
            <a:chExt cx="1960560" cy="955440"/>
          </a:xfrm>
        </p:grpSpPr>
        <p:sp>
          <p:nvSpPr>
            <p:cNvPr id="97" name="Rounded Rectangle 18"/>
            <p:cNvSpPr/>
            <p:nvPr/>
          </p:nvSpPr>
          <p:spPr>
            <a:xfrm>
              <a:off x="6723000" y="2448000"/>
              <a:ext cx="1960560" cy="95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d9d9d9"/>
                </a:gs>
              </a:gsLst>
              <a:lin ang="6000000"/>
            </a:gradFill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23"/>
            <p:cNvSpPr/>
            <p:nvPr/>
          </p:nvSpPr>
          <p:spPr>
            <a:xfrm>
              <a:off x="6922800" y="2765520"/>
              <a:ext cx="1560600" cy="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32"/>
            <p:cNvSpPr/>
            <p:nvPr/>
          </p:nvSpPr>
          <p:spPr>
            <a:xfrm>
              <a:off x="6922800" y="2925720"/>
              <a:ext cx="1560600" cy="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33"/>
            <p:cNvSpPr/>
            <p:nvPr/>
          </p:nvSpPr>
          <p:spPr>
            <a:xfrm>
              <a:off x="6922800" y="3062160"/>
              <a:ext cx="1560600" cy="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34"/>
            <p:cNvSpPr/>
            <p:nvPr/>
          </p:nvSpPr>
          <p:spPr>
            <a:xfrm>
              <a:off x="6922800" y="3209760"/>
              <a:ext cx="1560600" cy="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307"/>
          <p:cNvSpPr/>
          <p:nvPr/>
        </p:nvSpPr>
        <p:spPr>
          <a:xfrm>
            <a:off x="6723000" y="3614760"/>
            <a:ext cx="2082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ontent Organize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04" name="Group 29"/>
          <p:cNvGrpSpPr/>
          <p:nvPr/>
        </p:nvGrpSpPr>
        <p:grpSpPr>
          <a:xfrm>
            <a:off x="501480" y="1063080"/>
            <a:ext cx="1535400" cy="1827720"/>
            <a:chOff x="501480" y="1063080"/>
            <a:chExt cx="1535400" cy="1827720"/>
          </a:xfrm>
        </p:grpSpPr>
        <p:pic>
          <p:nvPicPr>
            <p:cNvPr id="105" name="Picture 6" descr="C:\Users\Bob\Desktop\Stuff 4-9\Projects\PPT Res\Windows Illustration Icons\Aeshen Created\folder-upright.png"/>
            <p:cNvPicPr/>
            <p:nvPr/>
          </p:nvPicPr>
          <p:blipFill>
            <a:blip r:embed="rId1"/>
            <a:stretch/>
          </p:blipFill>
          <p:spPr>
            <a:xfrm>
              <a:off x="501480" y="1717200"/>
              <a:ext cx="1535400" cy="11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309"/>
            <p:cNvSpPr/>
            <p:nvPr/>
          </p:nvSpPr>
          <p:spPr>
            <a:xfrm flipV="1" rot="5400000">
              <a:off x="801000" y="1061640"/>
              <a:ext cx="936360" cy="938520"/>
            </a:xfrm>
            <a:prstGeom prst="rightArrow">
              <a:avLst>
                <a:gd name="adj1" fmla="val 52602"/>
                <a:gd name="adj2" fmla="val 58782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3568680" y="1387440"/>
            <a:ext cx="1781280" cy="1727280"/>
            <a:chOff x="3568680" y="1387440"/>
            <a:chExt cx="1781280" cy="1727280"/>
          </a:xfrm>
        </p:grpSpPr>
        <p:pic>
          <p:nvPicPr>
            <p:cNvPr id="108" name="Picture 2" descr="C:\Users\Bob\Desktop\Stuff 4-9\Projects\PPT Res\Windows Illustration Icons\_ WINDOWS SERVER ICONS\Documents\Document Text.png"/>
            <p:cNvPicPr/>
            <p:nvPr/>
          </p:nvPicPr>
          <p:blipFill>
            <a:blip r:embed="rId2"/>
            <a:stretch/>
          </p:blipFill>
          <p:spPr>
            <a:xfrm>
              <a:off x="3568680" y="1387440"/>
              <a:ext cx="87768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304"/>
            <p:cNvSpPr/>
            <p:nvPr/>
          </p:nvSpPr>
          <p:spPr>
            <a:xfrm>
              <a:off x="4502160" y="1579320"/>
              <a:ext cx="847800" cy="703080"/>
            </a:xfrm>
            <a:prstGeom prst="rightArrow">
              <a:avLst>
                <a:gd name="adj1" fmla="val 52602"/>
                <a:gd name="adj2" fmla="val 62240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04"/>
            <p:cNvSpPr/>
            <p:nvPr/>
          </p:nvSpPr>
          <p:spPr>
            <a:xfrm rot="2749800">
              <a:off x="4374000" y="2199960"/>
              <a:ext cx="811080" cy="735120"/>
            </a:xfrm>
            <a:prstGeom prst="rightArrow">
              <a:avLst>
                <a:gd name="adj1" fmla="val 52602"/>
                <a:gd name="adj2" fmla="val 57021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1"/>
          <p:cNvGrpSpPr/>
          <p:nvPr/>
        </p:nvGrpSpPr>
        <p:grpSpPr>
          <a:xfrm>
            <a:off x="6458040" y="1306440"/>
            <a:ext cx="1373040" cy="1387440"/>
            <a:chOff x="6458040" y="1306440"/>
            <a:chExt cx="1373040" cy="1387440"/>
          </a:xfrm>
        </p:grpSpPr>
        <p:pic>
          <p:nvPicPr>
            <p:cNvPr id="112" name="Picture 10" descr="C:\Users\Bob\Desktop\Stuff 4-9\Projects\PPT Res\Windows Illustration Icons\Aeshen Created\folder-upright.png"/>
            <p:cNvPicPr/>
            <p:nvPr/>
          </p:nvPicPr>
          <p:blipFill>
            <a:blip r:embed="rId3"/>
            <a:stretch/>
          </p:blipFill>
          <p:spPr>
            <a:xfrm>
              <a:off x="6500520" y="1657800"/>
              <a:ext cx="133056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" descr="C:\Users\Bob\Desktop\Stuff 4-9\Projects\PPT Res\Windows Illustration Icons\_ WINDOWS SERVER ICONS\Documents\Document Text.png"/>
            <p:cNvPicPr/>
            <p:nvPr/>
          </p:nvPicPr>
          <p:blipFill>
            <a:blip r:embed="rId4"/>
            <a:stretch/>
          </p:blipFill>
          <p:spPr>
            <a:xfrm>
              <a:off x="6500520" y="1306440"/>
              <a:ext cx="768240" cy="99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2"/>
            <p:cNvSpPr/>
            <p:nvPr/>
          </p:nvSpPr>
          <p:spPr>
            <a:xfrm>
              <a:off x="6458040" y="1558440"/>
              <a:ext cx="85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422280" y="4297320"/>
            <a:ext cx="1693800" cy="1255680"/>
            <a:chOff x="422280" y="4297320"/>
            <a:chExt cx="1693800" cy="1255680"/>
          </a:xfrm>
        </p:grpSpPr>
        <p:pic>
          <p:nvPicPr>
            <p:cNvPr id="116" name="Picture 2" descr="C:\Users\Bob\Desktop\Stuff 4-9\Projects\PPT Res\Windows Illustration Icons\_ WINDOWS SERVER ICONS\Documents\Document Text.png"/>
            <p:cNvPicPr/>
            <p:nvPr/>
          </p:nvPicPr>
          <p:blipFill>
            <a:blip r:embed="rId5"/>
            <a:stretch/>
          </p:blipFill>
          <p:spPr>
            <a:xfrm>
              <a:off x="422280" y="4297320"/>
              <a:ext cx="74736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" descr="C:\Users\Bob\Desktop\Stuff 4-9\Projects\PPT Res\Windows Illustration Icons\_ WINDOWS SERVER ICONS\Documents\Document Text.png"/>
            <p:cNvPicPr/>
            <p:nvPr/>
          </p:nvPicPr>
          <p:blipFill>
            <a:blip r:embed="rId6"/>
            <a:stretch/>
          </p:blipFill>
          <p:spPr>
            <a:xfrm>
              <a:off x="1368720" y="4297320"/>
              <a:ext cx="747360" cy="10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16"/>
            <p:cNvSpPr/>
            <p:nvPr/>
          </p:nvSpPr>
          <p:spPr>
            <a:xfrm>
              <a:off x="453240" y="4408560"/>
              <a:ext cx="83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1283760" y="4408560"/>
              <a:ext cx="83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2" descr="C:\Users\Bob\Desktop\Stuff 4-9\Projects\PPT Res\Windows Illustration Icons\_ WINDOWS SERVER ICONS\Misc\gears cogwheels cog.png"/>
            <p:cNvPicPr/>
            <p:nvPr/>
          </p:nvPicPr>
          <p:blipFill>
            <a:blip r:embed="rId7"/>
            <a:stretch/>
          </p:blipFill>
          <p:spPr>
            <a:xfrm>
              <a:off x="868680" y="4686480"/>
              <a:ext cx="796680" cy="86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8"/>
          <p:cNvGrpSpPr/>
          <p:nvPr/>
        </p:nvGrpSpPr>
        <p:grpSpPr>
          <a:xfrm>
            <a:off x="3598920" y="4159080"/>
            <a:ext cx="1636200" cy="1440000"/>
            <a:chOff x="3598920" y="4159080"/>
            <a:chExt cx="1636200" cy="1440000"/>
          </a:xfrm>
        </p:grpSpPr>
        <p:pic>
          <p:nvPicPr>
            <p:cNvPr id="122" name="Picture 6" descr="C:\Users\Bob\Desktop\Stuff 4-9\Projects\PPT Res\Windows Illustration Icons\_ WINDOWS SERVER ICONS\Documents\Spreadsheet blank document excel.png"/>
            <p:cNvPicPr/>
            <p:nvPr/>
          </p:nvPicPr>
          <p:blipFill>
            <a:blip r:embed="rId8"/>
            <a:stretch/>
          </p:blipFill>
          <p:spPr>
            <a:xfrm rot="20113200">
              <a:off x="3768480" y="4271400"/>
              <a:ext cx="72072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C:\Users\Bob\Desktop\Stuff 4-9\Projects\PPT Res\Windows Illustration Icons\_ WINDOWS SERVER ICONS\Documents\Document Text.png"/>
            <p:cNvPicPr/>
            <p:nvPr/>
          </p:nvPicPr>
          <p:blipFill>
            <a:blip r:embed="rId9"/>
            <a:stretch/>
          </p:blipFill>
          <p:spPr>
            <a:xfrm rot="1646400">
              <a:off x="4343400" y="4377960"/>
              <a:ext cx="71136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8" descr="C:\Users\Bob\Desktop\Stuff 4-9\Projects\PPT Res\Windows Illustration Icons\_ WINDOWS SERVER ICONS\Search\Magnifying Glass zoom search 1.png"/>
            <p:cNvPicPr/>
            <p:nvPr/>
          </p:nvPicPr>
          <p:blipFill>
            <a:blip r:embed="rId10"/>
            <a:stretch/>
          </p:blipFill>
          <p:spPr>
            <a:xfrm>
              <a:off x="3781800" y="4159080"/>
              <a:ext cx="118404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11" descr="C:\Users\Bob\Desktop\Stuff 4-9\Projects\PPT Res\New graphics\adminhandWritesFront.png"/>
          <p:cNvPicPr/>
          <p:nvPr/>
        </p:nvPicPr>
        <p:blipFill>
          <a:blip r:embed="rId11"/>
          <a:stretch/>
        </p:blipFill>
        <p:spPr>
          <a:xfrm>
            <a:off x="6138720" y="4205160"/>
            <a:ext cx="1884600" cy="1208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07"/>
          <p:cNvSpPr/>
          <p:nvPr/>
        </p:nvSpPr>
        <p:spPr>
          <a:xfrm>
            <a:off x="347760" y="2890800"/>
            <a:ext cx="180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a Drop Off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7"/>
          <p:cNvSpPr/>
          <p:nvPr/>
        </p:nvSpPr>
        <p:spPr>
          <a:xfrm>
            <a:off x="3403440" y="3025800"/>
            <a:ext cx="19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7"/>
          <p:cNvSpPr/>
          <p:nvPr/>
        </p:nvSpPr>
        <p:spPr>
          <a:xfrm>
            <a:off x="6381720" y="2955960"/>
            <a:ext cx="177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 max items in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7"/>
          <p:cNvSpPr/>
          <p:nvPr/>
        </p:nvSpPr>
        <p:spPr>
          <a:xfrm>
            <a:off x="347760" y="5608800"/>
            <a:ext cx="176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 duplicate sub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7"/>
          <p:cNvSpPr/>
          <p:nvPr/>
        </p:nvSpPr>
        <p:spPr>
          <a:xfrm>
            <a:off x="3363840" y="5783400"/>
            <a:ext cx="18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tain audit 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7"/>
          <p:cNvSpPr/>
          <p:nvPr/>
        </p:nvSpPr>
        <p:spPr>
          <a:xfrm>
            <a:off x="6261120" y="5599080"/>
            <a:ext cx="203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fy rule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tching Rules to Conte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Picture 2" descr="C:\Users\Bob\Desktop\Stuff 4-9\Projects\PPT Res\Windows Illustration Icons\_ WINDOWS SERVER ICONS\Documents\Document Text.png"/>
          <p:cNvPicPr/>
          <p:nvPr/>
        </p:nvPicPr>
        <p:blipFill>
          <a:blip r:embed="rId1"/>
          <a:stretch/>
        </p:blipFill>
        <p:spPr>
          <a:xfrm>
            <a:off x="4508640" y="1739880"/>
            <a:ext cx="511200" cy="6336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04"/>
          <p:cNvSpPr/>
          <p:nvPr/>
        </p:nvSpPr>
        <p:spPr>
          <a:xfrm rot="5400000">
            <a:off x="4549680" y="1184400"/>
            <a:ext cx="378000" cy="460080"/>
          </a:xfrm>
          <a:prstGeom prst="rightArrow">
            <a:avLst>
              <a:gd name="adj1" fmla="val 52602"/>
              <a:gd name="adj2" fmla="val 59574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7"/>
          <p:cNvSpPr/>
          <p:nvPr/>
        </p:nvSpPr>
        <p:spPr>
          <a:xfrm>
            <a:off x="2239920" y="2540160"/>
            <a:ext cx="1460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ules evaluated for match in priority or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7"/>
          <p:cNvSpPr/>
          <p:nvPr/>
        </p:nvSpPr>
        <p:spPr>
          <a:xfrm>
            <a:off x="2239920" y="1916280"/>
            <a:ext cx="1460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 arr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7"/>
          <p:cNvSpPr/>
          <p:nvPr/>
        </p:nvSpPr>
        <p:spPr>
          <a:xfrm>
            <a:off x="2239920" y="3483000"/>
            <a:ext cx="1460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 matched to submission content type group and ty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7"/>
          <p:cNvSpPr/>
          <p:nvPr/>
        </p:nvSpPr>
        <p:spPr>
          <a:xfrm>
            <a:off x="2239920" y="4567320"/>
            <a:ext cx="1460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ditions evaluated to determine if content is a ma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7"/>
          <p:cNvSpPr/>
          <p:nvPr/>
        </p:nvSpPr>
        <p:spPr>
          <a:xfrm>
            <a:off x="2225520" y="5605560"/>
            <a:ext cx="1460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f conditions are matched, rule is appli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1"/>
          <p:cNvSpPr/>
          <p:nvPr/>
        </p:nvSpPr>
        <p:spPr>
          <a:xfrm>
            <a:off x="4073400" y="2529000"/>
            <a:ext cx="1381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9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ority 1 rule: Route documents to Project Purple libra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12"/>
          <p:cNvSpPr/>
          <p:nvPr/>
        </p:nvSpPr>
        <p:spPr>
          <a:xfrm>
            <a:off x="4073400" y="3525840"/>
            <a:ext cx="1381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9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ent type = 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13"/>
          <p:cNvSpPr/>
          <p:nvPr/>
        </p:nvSpPr>
        <p:spPr>
          <a:xfrm>
            <a:off x="4073400" y="4610160"/>
            <a:ext cx="1381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9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me property contains all of “project purple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14"/>
          <p:cNvSpPr/>
          <p:nvPr/>
        </p:nvSpPr>
        <p:spPr>
          <a:xfrm>
            <a:off x="4073400" y="5562720"/>
            <a:ext cx="1381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9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e document to Project Purple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F:\SVN\091109\trunk\091109\images\check.png"/>
          <p:cNvPicPr/>
          <p:nvPr/>
        </p:nvPicPr>
        <p:blipFill>
          <a:blip r:embed="rId2"/>
          <a:stretch/>
        </p:blipFill>
        <p:spPr>
          <a:xfrm>
            <a:off x="5532480" y="2611440"/>
            <a:ext cx="39996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F:\SVN\091109\trunk\091109\images\check.png"/>
          <p:cNvPicPr/>
          <p:nvPr/>
        </p:nvPicPr>
        <p:blipFill>
          <a:blip r:embed="rId3"/>
          <a:stretch/>
        </p:blipFill>
        <p:spPr>
          <a:xfrm>
            <a:off x="5532480" y="3639960"/>
            <a:ext cx="39996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F:\SVN\091109\trunk\091109\images\check.png"/>
          <p:cNvPicPr/>
          <p:nvPr/>
        </p:nvPicPr>
        <p:blipFill>
          <a:blip r:embed="rId4"/>
          <a:stretch/>
        </p:blipFill>
        <p:spPr>
          <a:xfrm>
            <a:off x="5532480" y="4724280"/>
            <a:ext cx="39996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F:\SVN\091109\trunk\091109\images\check.png"/>
          <p:cNvPicPr/>
          <p:nvPr/>
        </p:nvPicPr>
        <p:blipFill>
          <a:blip r:embed="rId5"/>
          <a:stretch/>
        </p:blipFill>
        <p:spPr>
          <a:xfrm>
            <a:off x="5532480" y="5676840"/>
            <a:ext cx="399960" cy="457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04"/>
          <p:cNvSpPr/>
          <p:nvPr/>
        </p:nvSpPr>
        <p:spPr>
          <a:xfrm>
            <a:off x="3670200" y="2630520"/>
            <a:ext cx="378000" cy="460440"/>
          </a:xfrm>
          <a:prstGeom prst="rightArrow">
            <a:avLst>
              <a:gd name="adj1" fmla="val 52602"/>
              <a:gd name="adj2" fmla="val 59574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4"/>
          <p:cNvSpPr/>
          <p:nvPr/>
        </p:nvSpPr>
        <p:spPr>
          <a:xfrm>
            <a:off x="3670200" y="3639960"/>
            <a:ext cx="378000" cy="460440"/>
          </a:xfrm>
          <a:prstGeom prst="rightArrow">
            <a:avLst>
              <a:gd name="adj1" fmla="val 52602"/>
              <a:gd name="adj2" fmla="val 59574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04"/>
          <p:cNvSpPr/>
          <p:nvPr/>
        </p:nvSpPr>
        <p:spPr>
          <a:xfrm>
            <a:off x="3670200" y="4781520"/>
            <a:ext cx="378000" cy="461880"/>
          </a:xfrm>
          <a:prstGeom prst="rightArrow">
            <a:avLst>
              <a:gd name="adj1" fmla="val 52602"/>
              <a:gd name="adj2" fmla="val 59574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4"/>
          <p:cNvSpPr/>
          <p:nvPr/>
        </p:nvSpPr>
        <p:spPr>
          <a:xfrm>
            <a:off x="3670200" y="5676840"/>
            <a:ext cx="378000" cy="460440"/>
          </a:xfrm>
          <a:prstGeom prst="rightArrow">
            <a:avLst>
              <a:gd name="adj1" fmla="val 52602"/>
              <a:gd name="adj2" fmla="val 59574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will you use SharePoint records management features 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ight you use the Content Organizer, and  what have you done in the past to organize content or enforce content polic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5T19:57:44Z</dcterms:modified>
  <cp:revision>110</cp:revision>
  <dc:subject/>
  <dc:title>Lesson One: Advanced Form Design</dc:title>
</cp:coreProperties>
</file>