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39379-F880-402E-A232-D04CAF614E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B8A63-B1A6-4183-ACF8-C73126E5CD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884-6793-435B-A242-F137DC20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6FB-B1E2-4957-8138-A1D429B3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F53-6AB4-4ADC-BBF1-732073D8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510-C186-4F88-9D9D-73D3C2CE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42C9-F4EF-41D9-BAD8-0CA8DCAF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F163-412E-4A7C-8352-9E4108A3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565-CB05-4692-A2A4-18E39D95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072B-C3B2-4AE8-8251-BA941F3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0D7D-4813-42D8-A8A9-3DC2AD0D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6E59-CDE2-4BAF-B24D-DA039A56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31C6-35B1-4E8A-A747-C76ACDC5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E01-C9B5-40B9-A21C-C7A7A11A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B6E6-56A5-4809-9DB9-47A9BFE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D255-CD2F-44E2-B6D9-9FCF928A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828F-E1C9-4165-977F-92764E84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E091-DA0A-4E38-9385-83C3CE73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7F49-6501-460D-AD26-130F25E1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E29A-3E1B-4B7B-850E-46B07B63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1701-4F6C-491D-B39F-CBF8AE4E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356F-9852-42AF-8DC1-EC35E2BD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66D2-0CE8-4612-8BFE-F481B5E9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168C-6961-4FB9-8DD2-164D0312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81F-149D-4F7C-8A48-FF184F4E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379F-2420-440B-BDFA-B1B2017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7E74-14C0-4745-9BCD-449B46CD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C92C-D444-4CDA-B6B8-7AE8356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9823-37A6-410E-A5BC-82C74B8C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ED94-0B28-4582-9BD4-8F17F6D4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07D8-96E8-432F-855C-E19EB9A5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11BC-FD8C-453C-B677-ECE5D30F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4A47-24CA-44E2-8088-BB396E21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9724-D473-497A-925D-F46B76B0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1EB7-AEF1-45C3-B4E7-BD770768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5A3-2CB9-405A-A21E-5AC5FBE4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73EE-FCC8-441A-966A-5A69A7E2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7CAEF-1F2E-4ACE-9CCF-F9B221C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6E53-CE64-4DF7-AD2D-5CBA8364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FDAF-E35F-49D1-98F0-51743FB1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0175-FF62-4C22-8106-29BA4B0F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41AC-FA8C-4E6A-A0AB-F1250B8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1DBE-9359-4CFC-A634-6913D0D9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62714-DBE5-499D-B48A-006475E9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9765-9B0C-4D20-A585-3456473E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7F2-2DD6-443F-883A-D9B9B81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3C4-085D-4463-ABBF-1B59783A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2CF-6D6D-45CB-89F3-F48FA35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30A-B776-4B0D-885B-81BF44A8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9D2-C6DB-4142-A7BD-7A7090B3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0F51C-F2A8-444E-A8BA-8AA3B45D22AD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7FBBD-C274-41D3-BF25-E87F4CA93E64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C4012-74BF-418F-95E4-856FB906860F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F15B0-329E-43A3-B12C-87A5A18C05D2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2° QUADRIMESTRE 2020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404040"/>
                </a:solidFill>
                <a:latin typeface="Arial"/>
                <a:ea typeface="Arial"/>
              </a:rPr>
              <a:t>DA SAÚDE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34724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PLICAÇÕES EM SAÚD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Picture 2" descr="Resultado de imagem para IMAGENS RELACIONADO A SAUDE PUBLICA"/>
          <p:cNvPicPr/>
          <p:nvPr/>
        </p:nvPicPr>
        <p:blipFill>
          <a:blip r:embed="rId1"/>
          <a:stretch/>
        </p:blipFill>
        <p:spPr>
          <a:xfrm>
            <a:off x="1116000" y="2492280"/>
            <a:ext cx="547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058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em saúde pública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Receita de Impostos.............R$  14.648.685,53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Desp.Aplicada em Saúde......R$   3.425.635,06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Despesa Máxima dos 15%....R$   2.197.302,83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...............23,39%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PT" sz="2800" spc="-1" strike="noStrike">
                <a:solidFill>
                  <a:srgbClr val="404040"/>
                </a:solidFill>
                <a:latin typeface="Arial"/>
                <a:ea typeface="Arial"/>
              </a:rPr>
              <a:t>Desta forma foi cumprido o disposto no artigo 7º da Lei Complementar n.141/2012, que prevê para o exercício o gasto mínimo de 15%(EC Nº 29/2000 CF/88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71680" y="785880"/>
            <a:ext cx="8286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ESPESAS NA SAÚDE ATÉ O QUADRIMESTRE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ursos Próprios......................R$  3.583.186,35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ursos do Estado e União.....R$  2.558.664,00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...........................................R$ 6.141.850,35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em saúde públic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216036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DESPESA COM SAÚDE DE RESTOS A PAGAR DE EXERCÍCIOS ANTERIORES NÃO COMPUTADAS PARA FINS DE APURAÇÃO DO PERCENTUAL MÍNIMO (15%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R$ 364.254,4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tângulo 1" descr=""/>
          <p:cNvPicPr/>
          <p:nvPr/>
        </p:nvPicPr>
        <p:blipFill>
          <a:blip r:embed="rId1"/>
          <a:stretch/>
        </p:blipFill>
        <p:spPr>
          <a:xfrm>
            <a:off x="566640" y="1311120"/>
            <a:ext cx="80773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13840" y="285840"/>
            <a:ext cx="8643960" cy="617832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ctos Legais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Lei 101/2000 – Lei de Responsabilidade Fiscal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 149/2019 – TCE-PR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a   transparência, controle e fiscalização lei complementar nº 101/2000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80773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audiências públicas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Objetivo da Audiênci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2160360"/>
            <a:ext cx="8066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Audiência Pública é uma das formas de participação e de controle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pula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a Administração Pública no Estado Social e Democrático de Direit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É um instrumento que leva a uma decisão política ou legal com legitimidade e transparência dos atos praticados na Administração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arágrafo 4º do artigo 9º da Lei Complementar nº 101/2000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  texto da  LRF  determina que o Poder Executivo " demonstrará e avaliará o cumprimento das metas fiscais de cada quadrimestre, em audiência públic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meses de 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I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TEMBRO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EVEREIR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C nº 101/2000 -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2160360"/>
            <a:ext cx="7850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5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Estabelece normas de finanças públicas voltadas para a responsabilidade na gestão fiscal e dá outras providências.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órios Fiscais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8139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Lei de Responsabilidade Fiscal (LRF), 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418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RF contém os Relatórios de Gestão Fiscal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763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REO - Relatório Resumido de Execução Orçamentária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GF – Relatório de Gestão Fisca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LRF regulamenta o artigo 163 da CF/88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928800" y="857160"/>
            <a:ext cx="75438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8800" spc="-1" strike="noStrike">
                <a:solidFill>
                  <a:srgbClr val="000000"/>
                </a:solidFill>
                <a:latin typeface="Trebuchet MS"/>
              </a:rPr>
              <a:t>AUDIÊNCIA PÚBLICA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0000" spc="-1" strike="noStrike">
                <a:solidFill>
                  <a:srgbClr val="000000"/>
                </a:solidFill>
                <a:latin typeface="Trebuchet MS"/>
                <a:ea typeface="Arial"/>
              </a:rPr>
              <a:t>SAÚDE</a:t>
            </a:r>
            <a:endParaRPr b="0" lang="en-US" sz="10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buClr>
                <a:srgbClr val="90c226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RubensMatos</cp:lastModifiedBy>
  <cp:lastPrinted>2020-05-26T14:48:50Z</cp:lastPrinted>
  <dcterms:modified xsi:type="dcterms:W3CDTF">2021-03-19T18:33:45Z</dcterms:modified>
  <cp:revision>453</cp:revision>
  <dc:subject/>
  <dc:title>JANEIRO  2005</dc:title>
</cp:coreProperties>
</file>