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92AC4-7BCC-47E9-910B-0560D4BAFD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15741-C61E-4AEA-A5E2-B6356F335E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83EF8-FD17-48C7-8458-F46CBC0307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39A2B-9326-4916-8ADA-95B7A1CDA2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E717F-AA7F-4AA8-9002-B69ADAC389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FED-FA96-47FB-AAC6-C1D430C6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F72-B213-4BB5-AA38-D028EE4F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171-7254-4DCD-8A95-9358F6F5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F89-39A7-4BAA-9A32-51F1F2AD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D632-1642-4CBB-9DE7-A3738BB6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9099-25B3-4BE9-883B-99AB0B22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CBAE-BB19-4EB8-A160-CDE21077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2854-A27B-475B-8B7F-87A5BE10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4C35-ACD1-4671-BBA0-09711EB3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3DA4-9DB4-4F8B-B219-DC4ED73F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1484-55DA-470F-8F6D-C632F0CF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BDD-3732-40DB-BBE6-A6A81506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CFF1-9ED5-4994-AA29-86875F92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0770-0EDC-4F3A-809F-B28F734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5D44-4F5D-48F4-B02F-28482C55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73E5-9D33-4AB3-BF09-B64BC7C1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2381-BB51-4703-A5DB-A8D0F267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9D2C-FB55-464C-82F5-A8DCB484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4509-F594-4637-91AE-70F40003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2C7C-0BED-4169-BC81-510BB274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A3A2-2D31-4CE4-94C5-28FD2780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EC421-F43C-46D8-8515-5027C7AB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65A-6EE5-459B-8822-BA02AE8E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5DBC-8990-41BE-AB54-0E7174F2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D4443-F013-47D2-A5F5-E216765B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F9CB-3BF8-4F8C-9BF7-9C49AA28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72D7-ACFF-45B0-A601-0A3762C4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CDC4D-CF6E-490A-B7BF-4B4C23D8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B4D26-1BBF-4C29-9F8A-75EDD7C7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7F20-33BD-439A-9005-42C9BEDF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2DB91-C2F0-41D4-8C98-D03340FC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0565-46D1-4438-8CE6-5E52D0E6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65A9C-26CF-46F9-8A25-F695B4AF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339-74DF-46C0-B979-1BC37FED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EB07-1300-4B9B-B99D-2C2C870C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05DA2-93AA-4D51-8E45-623AB924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AAE32-FF23-4455-8767-463C8EC7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57762-64BC-4FDA-95E7-D460BCC3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AF7F8-16E0-460C-80C6-2C385FCB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6D932-B961-41EA-9968-01194C31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460A7-591A-4A04-8CBE-8DB14D3A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5DD98-2D5E-4F57-95DD-7BD1674B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7465-9E8C-4516-8A97-85BC4CB5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FF6-066A-4BF1-A595-57ED8D50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094-65E6-42FA-8A63-8002431B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F72-0CE5-490A-8F8B-8C947867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ED9-E06A-415A-9400-8C5F8E98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822-8B8B-4EB4-95D5-DB2C809B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7AF5E-7077-4D35-BEE5-CCDA9470228C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74941-0526-4645-83C9-0EFC9DE94FF9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D8857-3BA1-4663-941A-14AFEEBAB2D1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3F325-08E4-4FEA-83DA-65A1D5928AD3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79280" y="213840"/>
            <a:ext cx="8964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2° QUADRIMESTRE 2020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GESTÃO FISCAL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480" y="1773360"/>
            <a:ext cx="76377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Prevista.............R$42.860.663,7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tualizada.........R$ 45.157.998,51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 Arrecadada.......R$21.815.044,44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1549440" y="333360"/>
            <a:ext cx="1049328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Despesa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Fixada...........R$  41.354.941,23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Atualizada.....R$  47.049.724,5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mpenhada...R$  23.476.497,24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Liquidada.......R$ 22.559.603,0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Realizada........R$ 21.603.007,4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216036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 e Despesa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rrecadada..........R$ 21.815.044,44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xecutadas..R$ 21.603.007,4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perávit.....................R$      212.036,9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CEITA CORRENTE LÍQUID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R$ 31.205.714,99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5520" y="428760"/>
            <a:ext cx="835812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DESPESA COM PESSOAL</a:t>
            </a:r>
            <a:br>
              <a:rPr sz="5400"/>
            </a:br>
            <a:br>
              <a:rPr sz="54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78199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º Quadrimestre/202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Corr. Liquida..R$  31.205.714,99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Com Pessoal.....R$  14.707.623,9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..........47,13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Desta forma, houve o cumprimento do art. 20 da LRF ( máximo de 54%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tângulo 1"/>
          <p:cNvSpPr/>
          <p:nvPr/>
        </p:nvSpPr>
        <p:spPr>
          <a:xfrm>
            <a:off x="755640" y="333360"/>
            <a:ext cx="6985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COM EDUCAÇÃO</a:t>
            </a: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12" descr="Resultado de imagem para IMAGENS RELACIONADO A EDUCAÇÃO"/>
          <p:cNvPicPr/>
          <p:nvPr/>
        </p:nvPicPr>
        <p:blipFill>
          <a:blip r:embed="rId1"/>
          <a:stretch/>
        </p:blipFill>
        <p:spPr>
          <a:xfrm>
            <a:off x="941400" y="1200240"/>
            <a:ext cx="70866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na Educação Básica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120" y="2276640"/>
            <a:ext cx="8077320" cy="37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......R$  15.046.332,81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p. Educação Básica.........R$    3.989.005,17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..............26,51%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Desta forma não foi cumprido o artigo 212 da CF/88  até 1° quadrimestre,  da aplicação mínima de 25% (art. 212 CF/1988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500" spc="-1" strike="noStrike">
                <a:solidFill>
                  <a:srgbClr val="000000"/>
                </a:solidFill>
                <a:latin typeface="Arial"/>
                <a:ea typeface="Arial"/>
              </a:rPr>
              <a:t>Receitas/Despesas do FUNDEB</a:t>
            </a:r>
            <a:endParaRPr b="0" lang="en-US" sz="4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480" y="2421000"/>
            <a:ext cx="7778880" cy="36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ceita Arrecadada do Fundeb...........R$   2.729.480,41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ceita de Aplicação Financeira.........R$          1.153,24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Transferência Recebida do Fundeb....R$   2.540.229,13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edução (Transferência à Menor).......R$     -189.251,28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Total da Receita Liquida......................R$    2.541.382,37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espesas C/Remuneração Fundeb.....R$   2.227.217,99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..................................70,55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Outras Despesas..................................R$       348.153,16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..................................21,70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4046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DICADORES DO FUNDEB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480" y="216036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Total Despesas do Fundeb......R$  2.575.371,15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-) Deduções para fins de limite do FUNDEB:                                       ....................................................R$  (113.809,89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Total das despesas (limites)...R$  2.461.561,26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Mínimo de 60%..........................................83,16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Máximo de 40%.........................................13,70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Máximo de 5%.............................................3,14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9200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ESPESAS DE CAPITAL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5247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VESTIMENTOS:..........R$  3.105.538,8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MORTIZAÇÕES:..........R$        36.531,79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R$   3.142.070,6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13840" y="285840"/>
            <a:ext cx="8643960" cy="617832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5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pectos Legais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Lei 101/2000 – Lei de Responsabilidade Fiscal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strução Normativa n° 149/2019 – TCE-PR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792000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ÍVIDA FUNDADA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56144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RECATÓRIOS:         R$                     0,0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FB- PARC. PASEP   R$          146.800,6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SS                            R$          205.873,9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INISA:                       R$       2.000.000,0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R$       2.352.674,5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STOS A PAGA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844640"/>
            <a:ext cx="82184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LIVRES:.........R$ 777.584,4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VINC.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.............R$ 1.361.838,5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......R$  2.139.422,9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31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DE CAIXA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480680"/>
            <a:ext cx="83296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=)DISPONIBILIDADE DE CAIXA BRUTA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RECURSOS VINCULADOS:.......................................................R$  6.933.861,67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RECURSOS LIVRES:..................................................................</a:t>
            </a:r>
            <a:r>
              <a:rPr b="1" lang="pt-BR" sz="16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R$     417.737,11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TOTAL:..............................................................................................R$  7.351.598,78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-) RESTOS A PAGAR-RECURSOS LIVRES</a:t>
            </a: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:..................................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$     777.584,40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-) RESTOS A PAGAR-RECURSOS VINCULADOS:.......................R$  1.361.838,5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-) DEMAIS OBRIGAÇÕES FINANCEIRAS LIVRES.......................R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   203.434,5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TOTAL..............................................................................................R$  2.342.857,52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=)DISPONIBILIDADE DE CAIXA LÍQUIDA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RECURSOS VINCULADOS:.......................................................R$  5.572.023,11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RECURSOS PRÓPIOS:...............................................................R$   -563.281,85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TOTAL DISPONIBILIDADE LÍQUIDA..............................R$  5.572.023,11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28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LIZADO ATÉ O 2° QUADRIMESTR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579.871,67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Corresponde ao resultado real (ou primário) das contas públicas, ou seja, </a:t>
            </a:r>
            <a:r>
              <a:rPr b="1" lang="pt-BR" sz="2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excluindo-se</a:t>
            </a: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 a despesa com juros, que o Município tem que pagar sobre as suas dívidas, e a inflaçã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ALIZADA ATÉ O 2° QUADRIMEST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$ 514.217,1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BR" sz="2600" spc="-1" strike="noStrike">
                <a:solidFill>
                  <a:srgbClr val="404040"/>
                </a:solidFill>
                <a:latin typeface="Arial"/>
                <a:ea typeface="Arial"/>
              </a:rPr>
              <a:t>Corresponde ao resultado nominal das contas do setor público, ou seja, está </a:t>
            </a:r>
            <a:r>
              <a:rPr b="1" lang="pt-BR" sz="26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incluso</a:t>
            </a:r>
            <a:r>
              <a:rPr b="1" lang="pt-BR" sz="2600" spc="-1" strike="noStrike">
                <a:solidFill>
                  <a:srgbClr val="404040"/>
                </a:solidFill>
                <a:latin typeface="Arial"/>
                <a:ea typeface="Arial"/>
              </a:rPr>
              <a:t> o efeito da inflação e do pagamento de juros sobre o fluxo de receitas e despesas do Município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784872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8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BR" sz="8000" spc="-1" strike="noStrike">
                <a:solidFill>
                  <a:srgbClr val="000000"/>
                </a:solidFill>
                <a:latin typeface="Arial"/>
                <a:ea typeface="Arial"/>
              </a:rPr>
              <a:t>AÇÃO SOCIAL</a:t>
            </a:r>
            <a:br>
              <a:rPr sz="8000"/>
            </a:b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785808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ASSES FEDERAIS</a:t>
            </a:r>
            <a:br>
              <a:rPr sz="3500"/>
            </a:br>
            <a:br>
              <a:rPr sz="3500"/>
            </a:br>
            <a:r>
              <a:rPr b="1" lang="pt-BR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ERÊNCIAS DE RECURSOS DO FUNDO NACIONAL DE ASSISTENCIA SOCIAL-FNAS</a:t>
            </a:r>
            <a:br>
              <a:rPr sz="3500"/>
            </a:br>
            <a:br>
              <a:rPr sz="3500"/>
            </a:br>
            <a:r>
              <a:rPr b="1" lang="pt-BR" sz="4000" spc="-1" strike="noStrike">
                <a:solidFill>
                  <a:srgbClr val="ff0000"/>
                </a:solidFill>
                <a:latin typeface="Arial"/>
                <a:ea typeface="Arial"/>
              </a:rPr>
              <a:t>R$ 239.864,26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813744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ESPESAS CORRENTES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ESSOAL E ENCARGOS:............R$  465.108,60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UTRAS DESP. CORRENTES:....R$  293.047,87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ESPESAS DE CAPITAL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INVESTIMENTOS:..........................R$            0,00</a:t>
            </a:r>
            <a:br>
              <a:rPr sz="2800"/>
            </a:br>
            <a:br>
              <a:rPr sz="28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...........R$  758.156,47</a:t>
            </a:r>
            <a:br>
              <a:rPr sz="3000"/>
            </a:b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tângulo 1" descr=""/>
          <p:cNvPicPr/>
          <p:nvPr/>
        </p:nvPicPr>
        <p:blipFill>
          <a:blip r:embed="rId1"/>
          <a:stretch/>
        </p:blipFill>
        <p:spPr>
          <a:xfrm>
            <a:off x="566640" y="1311120"/>
            <a:ext cx="80773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a   transparência, controle e fiscalização lei complementar nº 101/2000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80773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rt. 48, Parágrafo Único- A transparência será assegurada também mediante incentivo à participação popular e realização de audiências públicas, durante os processos de elaboração e de discussão dos planos, Lei de Diretrizes Orçamentárias e Orçamentos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Objetivo da Audiênci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2160360"/>
            <a:ext cx="8066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Audiência Pública é uma das formas de participação e de controle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pular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a Administração Pública no Estado Social e Democrático de Direit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É um instrumento que leva a uma decisão política ou legal com legitimidade e transparência dos atos praticados na Administração</a:t>
            </a: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34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Parágrafo 4º do artigo 9º da Lei Complementar nº 101/2000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  texto da  LRF  determina que o Poder Executivo " demonstrará e avaliará o cumprimento das metas fiscais de cada quadrimestre, em audiência pública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meses de 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AI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TEMBRO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EVEREIR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 LC nº 101/2000 - LR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2160360"/>
            <a:ext cx="7850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5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BR" sz="3500" spc="-1" strike="noStrike">
                <a:solidFill>
                  <a:srgbClr val="000000"/>
                </a:solidFill>
                <a:latin typeface="Arial"/>
                <a:ea typeface="Arial"/>
              </a:rPr>
              <a:t>Estabelece normas de finanças públicas voltadas para a responsabilidade na gestão fiscal e dá outras providências.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órios Fiscais LR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8139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Lei de Responsabilidade Fiscal (LRF), é o principal instrumento regulador das contas públicas no Brasil, estabelecendo metas, limites e condições  para gestão das Receitas e das Despesas e obrigando os Governantes a assumirem compromissos com a arrecadação e gastos públicos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418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 LRF contém os Relatórios de Gestão Fiscal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763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REO - Relatório Resumido de Execução Orçamentária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GF – Relatório de Gestão Fisca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s informações contidas nesses documentos, além de determinar parâmetros e metas para a administração pública, permitem avaliar com profundidade a gestão fiscal do Poder Executivo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 LRF regulamenta o artigo 163 da CF/88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71680" y="857160"/>
            <a:ext cx="85723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6700" spc="-1" strike="noStrike">
                <a:solidFill>
                  <a:srgbClr val="000000"/>
                </a:solidFill>
                <a:latin typeface="Arial"/>
                <a:ea typeface="Arial"/>
              </a:rPr>
              <a:t>PODER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6700" spc="-1" strike="noStrike">
                <a:solidFill>
                  <a:srgbClr val="000000"/>
                </a:solidFill>
                <a:latin typeface="Arial"/>
                <a:ea typeface="Arial"/>
              </a:rPr>
              <a:t>EXECUTIVO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RubensMatos</cp:lastModifiedBy>
  <cp:lastPrinted>2020-05-26T14:48:50Z</cp:lastPrinted>
  <dcterms:modified xsi:type="dcterms:W3CDTF">2020-09-28T19:28:43Z</dcterms:modified>
  <cp:revision>451</cp:revision>
  <dc:subject/>
  <dc:title>JANEIRO  2005</dc:title>
</cp:coreProperties>
</file>