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C42A-1955-4CD1-94E1-5BB68FF239B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5EA4-246F-4E7E-B5FA-C240603C0F52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6587-51B8-482F-9944-3C790358A269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913C-10BA-4787-8AAA-BD6D0CEBA9EA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0073-8D80-4609-A572-4AE8E3DCC742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3A1-C14D-492F-862B-6FF45CCE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12F-A512-4AA8-A006-B459805E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6F3-BCB8-4C0B-B9FD-4426C69B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AB06-EAB5-4DDE-B868-56051A76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E1AD-801B-4188-A899-BF4A945C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955E-1116-442F-92E2-76138DAC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54FF-95F9-423B-82EC-BF6AE75B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B046-4F23-4D7C-BC2E-6DEBA40F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B2F3-1C5F-4D5B-BC68-09838F73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68FE-4FD5-47F5-87EE-E4134606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4EBD-DC87-43AC-A12E-709C27DB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E5E0-F4FE-4761-834F-66C1751B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2DF9-2764-42AC-AE8A-3725ED3D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F5C7-F23E-46D1-92B1-DFD83CA5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30E2-035C-476B-B206-4758EE7B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BADA-E5D9-498F-A1CF-D52C5708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132A-B08F-48DA-BDC5-9A6A50EC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C67-6412-4C2E-9D8C-140318CA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735-BB07-4F9E-A6AD-4C5ACA1C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791-8831-455B-B806-9D0F71E3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B9E-1804-4DCD-B6A7-B5ED8AF5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AF9-E2C1-4EC4-8D65-4A448981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186-38A7-4A8D-BE59-62B5A7D0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C58-B349-4A6D-AD98-472E3A5C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5D09-FE10-46E5-901F-0D4BE6FCFC50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3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9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462F-3CEF-4AF1-BAB2-B64F0F4B4613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pt-BR" sz="4800" spc="-1" strike="noStrike">
                <a:solidFill>
                  <a:srgbClr val="ffff00"/>
                </a:solidFill>
                <a:latin typeface="Georgia"/>
              </a:rPr>
              <a:t>Audiência Pública</a:t>
            </a:r>
            <a:br>
              <a:rPr sz="4800"/>
            </a:br>
            <a:r>
              <a:rPr b="1" lang="pt-BR" sz="4800" spc="-1" strike="noStrike">
                <a:solidFill>
                  <a:srgbClr val="ffff00"/>
                </a:solidFill>
                <a:latin typeface="Georgia"/>
              </a:rPr>
              <a:t>2° Quadrimestre/2017</a:t>
            </a:r>
            <a:endParaRPr b="1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042560" y="2285640"/>
            <a:ext cx="770580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ahoma"/>
              </a:rPr>
              <a:t>PODER EXECUTIVO </a:t>
            </a:r>
            <a:r>
              <a:rPr b="0" lang="pt-BR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Tahoma"/>
              </a:rPr>
              <a:t>GESTÃO FISC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Município de Tuneiras do Oeste – P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2920" y="404640"/>
            <a:ext cx="70866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RELATORIOS FISCAI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680" y="2060640"/>
            <a:ext cx="7826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ff00"/>
                </a:solidFill>
                <a:uFillTx/>
                <a:latin typeface="Arial"/>
              </a:rPr>
              <a:t>Acompanhamento das Metas de Receita e Desp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c.Arrecadada...........R$  17.531.487,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spesa Empenhada...R$  12.967.113,7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Superávit......................R$  (4.564.373,9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ffff00"/>
                </a:solidFill>
                <a:latin typeface="Tahoma"/>
                <a:ea typeface="Tahoma"/>
              </a:rPr>
              <a:t>APLICAÇÕES  EM EDUCAÇÃO</a:t>
            </a:r>
            <a:br>
              <a:rPr sz="3500"/>
            </a:br>
            <a:endParaRPr b="1" lang="en-US" sz="3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http://www.crismenegon.com.br/portal/images/educacao/livros-educacao-a-distancia-ead.jpg"/>
          <p:cNvPicPr/>
          <p:nvPr/>
        </p:nvPicPr>
        <p:blipFill>
          <a:blip r:embed="rId1"/>
          <a:stretch/>
        </p:blipFill>
        <p:spPr>
          <a:xfrm>
            <a:off x="857160" y="1857240"/>
            <a:ext cx="77155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ahoma"/>
              </a:rPr>
              <a:t>Demonstrativo dos gastos na Educação Básica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989000"/>
            <a:ext cx="7826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Receita de Impostos..R$  12.351.816,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Desp. Educação Básica.R$ 3.050.723,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Aplicado..................................24,7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Desta forma foi  não cumprido o artigo 212 da CF/88  até 2° quadrimestre,  da aplicação minima de </a:t>
            </a:r>
            <a:r>
              <a:rPr b="1" lang="pt-PT" sz="3200" spc="-1" strike="noStrike">
                <a:solidFill>
                  <a:srgbClr val="ffff00"/>
                </a:solidFill>
                <a:latin typeface="Tahoma"/>
              </a:rPr>
              <a:t>25%</a:t>
            </a:r>
            <a:r>
              <a:rPr b="1" lang="pt-PT" sz="3200" spc="-1" strike="noStrike">
                <a:solidFill>
                  <a:srgbClr val="ffffff"/>
                </a:solidFill>
                <a:latin typeface="Tahoma"/>
              </a:rPr>
              <a:t> (art. 212 CF/198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499680"/>
            <a:ext cx="75438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Tahoma"/>
              </a:rPr>
              <a:t>Receitas do FUNDEB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Receita Arrecadada...........R$  2.362.266,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Rend.Aplic.Financeira...... R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Tahoma"/>
              </a:rPr>
              <a:t>$        7.254,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Total da Receita...............R$  2.369.521,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(-) Desp. c Remuneração..R$  1.856.508,7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% aplicado....................................90,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utras Despesas..............R$     498.427,6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% aplicado.....................................36,7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ahoma"/>
              </a:rPr>
              <a:t>Receitas do FUNDEB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680" y="2000160"/>
            <a:ext cx="7648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lha do magistério para cumprimento do limite mínimo de 60%</a:t>
            </a:r>
            <a:r>
              <a:rPr b="1" lang="pt-PT" sz="3200" spc="-1" strike="noStrike">
                <a:solidFill>
                  <a:srgbClr val="ffffff"/>
                </a:solidFill>
                <a:latin typeface="Tahoma"/>
              </a:rPr>
              <a:t> (art. 212 CF/198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gamento magistério: R$ 1.856.508,7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(-) Deduções para fins de limite do </a:t>
            </a: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FUNDEB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:                       </a:t>
            </a: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R$      (12.728,03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TOTAL:                           R$   1.843.780,7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ffff00"/>
                </a:solidFill>
                <a:latin typeface="Arial"/>
              </a:rPr>
              <a:t>PERCENTUAL                       77,81%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08660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ahoma"/>
                <a:ea typeface="Tahoma"/>
              </a:rPr>
              <a:t>RECEITA CORRENTE LÍQUIDA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66680" y="2356920"/>
            <a:ext cx="686304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ffffff"/>
                </a:solidFill>
                <a:latin typeface="Arial"/>
              </a:rPr>
              <a:t>Set/2016 a Ago/2017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ffffff"/>
                </a:solidFill>
                <a:latin typeface="Arial"/>
              </a:rPr>
              <a:t>R$ 25.233.488,58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ahoma"/>
              </a:rPr>
              <a:t>Demonstrativo dos gastos com pessoal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533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fff00"/>
                </a:solidFill>
                <a:uFillTx/>
                <a:latin typeface="Tahoma"/>
              </a:rPr>
              <a:t>2º Quadrimestre/20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Receita Corr. Liquida..R$ 25.233.488,5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Desp. Com Pessoal.. R$  12.259.873,6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% aplicado..............................48,59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Desta forma, houve o cumprimento do art. 19 da LR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85560" y="3567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O resultado Primário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66680" y="2356920"/>
            <a:ext cx="729144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ETA DE RESULTADO PRIM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571760" y="3286080"/>
          <a:ext cx="6215040" cy="1928880"/>
        </p:xfrm>
        <a:graphic>
          <a:graphicData uri="http://schemas.openxmlformats.org/drawingml/2006/table">
            <a:tbl>
              <a:tblPr/>
              <a:tblGrid>
                <a:gridCol w="621504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IZADA ATÉ O QUADRIMESTRE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1a2c"/>
                          </a:solidFill>
                          <a:latin typeface="Tahoma"/>
                        </a:rPr>
                        <a:t>R$ 4.297.159,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71400" y="21420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O resultado Nominal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66680" y="1928880"/>
            <a:ext cx="7506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ETA DE RESULTADO NOM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57200" y="3286080"/>
          <a:ext cx="6643800" cy="1785960"/>
        </p:xfrm>
        <a:graphic>
          <a:graphicData uri="http://schemas.openxmlformats.org/drawingml/2006/table">
            <a:tbl>
              <a:tblPr/>
              <a:tblGrid>
                <a:gridCol w="664380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IZADA ATÉ O QUADRIMEST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1a2c"/>
                          </a:solidFill>
                          <a:latin typeface="Tahoma"/>
                        </a:rPr>
                        <a:t>R$ 30.889,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ahoma"/>
                <a:ea typeface="Tahoma"/>
              </a:rPr>
              <a:t>DESPESAS DE CAPITAL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66680" y="2071440"/>
            <a:ext cx="72201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INVESTIMENTOS: R$  963.625,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AMORTIZAÇÕES: R$      57.119,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TOTAL:                 R$ 1.020.744,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ítulo 1" descr=""/>
          <p:cNvPicPr/>
          <p:nvPr/>
        </p:nvPicPr>
        <p:blipFill>
          <a:blip r:embed="rId1"/>
          <a:stretch/>
        </p:blipFill>
        <p:spPr>
          <a:xfrm>
            <a:off x="1060560" y="208080"/>
            <a:ext cx="7102440" cy="2157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28440" y="1928520"/>
            <a:ext cx="65386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. 48, Parágrafo Único-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ansparência será assegurada também mediante incentivo à participação popular e realização de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diências pública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durante os processos de elaboração e de discussão dos planos, Lei de Diretrizes Orçamentárias e Orçamen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ahoma"/>
                <a:ea typeface="Tahoma"/>
              </a:rPr>
              <a:t>DÍVIDA FUNDADA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680" y="2000160"/>
            <a:ext cx="7291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Tahoma"/>
                <a:ea typeface="Tahoma"/>
              </a:rPr>
              <a:t>PRECATÓRIOS:     R$     195.668,5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Tahoma"/>
                <a:ea typeface="Tahoma"/>
              </a:rPr>
              <a:t>PASEP:                   R$     160.276,8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Tahoma"/>
                <a:ea typeface="Tahoma"/>
              </a:rPr>
              <a:t>TOTAL:                   R$     355.945,3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ahoma"/>
                <a:ea typeface="Tahoma"/>
              </a:rPr>
              <a:t>RESTOS A PAGAR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066320" y="2142720"/>
            <a:ext cx="74343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  <a:ea typeface="Tahoma"/>
              </a:rPr>
              <a:t>Processados e não processados de exercícios anteriores:  R$ 266.979,1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  <a:ea typeface="Tahoma"/>
              </a:rPr>
              <a:t>Contas a pagar do Exercício de 2017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  <a:ea typeface="Tahoma"/>
              </a:rPr>
              <a:t>        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  <a:ea typeface="Tahoma"/>
              </a:rPr>
              <a:t>Processados: R$ 497.437,2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  <a:ea typeface="Tahoma"/>
              </a:rPr>
              <a:t>        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  <a:ea typeface="Tahoma"/>
              </a:rPr>
              <a:t>A Processar: R$ 207.071,7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TOTAL:                      R$ 971.488,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ahoma"/>
                <a:ea typeface="Tahoma"/>
              </a:rPr>
              <a:t>AÇÃO SOCIAL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066320" y="1928880"/>
            <a:ext cx="73630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REPASSES FEDERAIS</a:t>
            </a: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Tahoma"/>
                <a:ea typeface="Tahoma"/>
              </a:rPr>
              <a:t>BLOCO DE PROTEÇÃO SOCIAL BASICA (SUAS) : R$ 66.000,00</a:t>
            </a: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Tahoma"/>
                <a:ea typeface="Tahoma"/>
              </a:rPr>
              <a:t> BLOCO DE PROTEÇÃO SOCIAL ESPECIAL (SUAS): R$ 668,91</a:t>
            </a: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Tahoma"/>
                <a:ea typeface="Tahoma"/>
              </a:rPr>
              <a:t>BLOCO DE CONFINAMENTO POR RESULTADO(SUAS): R$ 12.870,0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ahoma"/>
                <a:ea typeface="Tahoma"/>
              </a:rPr>
              <a:t>AÇÃO SOCIAL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066680" y="2000160"/>
            <a:ext cx="72914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DESPESAS CORRENTES:</a:t>
            </a: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Tahoma"/>
                <a:ea typeface="Tahoma"/>
              </a:rPr>
              <a:t>ENCARGOS SOCIAIS:</a:t>
            </a: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Tahoma"/>
                <a:ea typeface="Tahoma"/>
              </a:rPr>
              <a:t> R$ 216.739,72</a:t>
            </a: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Tahoma"/>
                <a:ea typeface="Tahoma"/>
              </a:rPr>
              <a:t>OUTRAS DESPEAS CORRENTES: </a:t>
            </a: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Tahoma"/>
                <a:ea typeface="Tahoma"/>
              </a:rPr>
              <a:t>R$ 138.570,83</a:t>
            </a: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ffff00"/>
                </a:solidFill>
                <a:latin typeface="Tahoma"/>
                <a:ea typeface="Tahoma"/>
              </a:rPr>
              <a:t>TOTAL : R$ 355.310,55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1285920"/>
            <a:ext cx="7086600" cy="26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ffff00"/>
                </a:solidFill>
                <a:latin typeface="Tahoma"/>
                <a:ea typeface="Tahoma"/>
              </a:rPr>
              <a:t>AUDIÊNCIA PÚBLICA DA SAÚDE</a:t>
            </a:r>
            <a:endParaRPr b="1" lang="en-US" sz="5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214200"/>
            <a:ext cx="70866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ahoma"/>
                <a:ea typeface="Tahoma"/>
              </a:rPr>
              <a:t>APLICAÇÕES  EM SAÚDE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066680" y="1857240"/>
            <a:ext cx="75772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707220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ahoma"/>
              </a:rPr>
              <a:t>Demonstrativo dos gastos em saúde pública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898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Receita de Impostos.....R$11.987.296,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Desp. Ações Saúde......R$  2.845.784,6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Aplicado...................................23,74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Desta forma foi cumprido o disposto no artigo 7º da Lei Complementar n.141/2012, que prevê para o exercício o gasto mínimo de 15%(EC Nº 29/2000 CF/8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0866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ahoma"/>
              </a:rPr>
              <a:t>Demonstrativo dos gastos em saúde pública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6680" y="1999800"/>
            <a:ext cx="76485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Arial"/>
              </a:rPr>
              <a:t>PESSOAL:                        R$ 1.145.304,6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Arial"/>
              </a:rPr>
              <a:t>OUTRAS DESPES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Arial"/>
              </a:rPr>
              <a:t>CORRENTES:                  R$ 1.248.281,3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Arial"/>
              </a:rPr>
              <a:t>INVESTIMENTOS:            R$           825,0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Arial"/>
              </a:rPr>
              <a:t>TOTAL DESPESAS:       R$  2.394.410,9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ahoma"/>
              </a:rPr>
              <a:t>Demonstrativo dos gastos em saúde pública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506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DESPESA COM SAÚDE NÃO COMPUTADAS PARA FINS DE APURAÇÃO DO PERCENTUAL MÍNIMO (15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  <a:ea typeface="Arial"/>
              </a:rPr>
              <a:t>R$1.235.830,5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4" name="Subtítulo 2" descr=""/>
          <p:cNvPicPr/>
          <p:nvPr/>
        </p:nvPicPr>
        <p:blipFill>
          <a:blip r:embed="rId1"/>
          <a:stretch/>
        </p:blipFill>
        <p:spPr>
          <a:xfrm>
            <a:off x="633240" y="420840"/>
            <a:ext cx="8199720" cy="55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ahoma"/>
              </a:rPr>
              <a:t>Objetivo da Audiência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02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 Audiência Pública é uma das formas de participação e de controle </a:t>
            </a:r>
            <a:r>
              <a:rPr b="0" lang="pt-BR" sz="3200" spc="-1" strike="noStrike" u="sng">
                <a:solidFill>
                  <a:srgbClr val="ffffff"/>
                </a:solidFill>
                <a:uFillTx/>
                <a:latin typeface="Tahoma"/>
              </a:rPr>
              <a:t>popular 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na Administração Pública no Estado Social e Democrático de Direi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É um instrumento que leva a uma decisão política ou legal com legitimidade e transparência dos atos praticados na Administraçã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34364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Parágrafo 4º do artigo 9º da Lei Complementar nº 101/2000 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1915920"/>
            <a:ext cx="789804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No  texto da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RF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determina que o Poder Executivo "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demonstrará e avaliará o cumprimento das metas fiscais de cada quadrimestre, em audiência públi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nos meses de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EMBR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-  FEVEREIR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086600" cy="116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A LC nº 101/2000 - LRF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66680" y="1989000"/>
            <a:ext cx="760896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abelece normas de finanças públicas voltadas para a responsabilidade na gestão fiscal e dá outras providência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0866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Relatórios Fiscais LRF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320" y="2060280"/>
            <a:ext cx="7898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Lei de Responsabilidade Fiscal 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(LRF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é o principal instrumento regulador das contas públicas no Brasil, estabelecendo metas, limites e condições  para gestão das Receitas e das Despesas e obrigando os Governantes a assumirem compromissos com a arrecadação e gastos públic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920" y="404640"/>
            <a:ext cx="767088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A LRF contém os Relatórios de Gestão Fiscal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66320" y="1989000"/>
            <a:ext cx="7898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RREO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- Relatório Resumido de Execução Orçamentá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RGF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– Relatório de Gestão Fis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s informações contidas nesses documentos, além de determinar parâmetros e metas para a administração pública, permitem avaliar com profundidade a gestão fiscal do Poder Execu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A LRF regulamenta o artigo 163 da CF/88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RELATORIOS FISCAI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28520"/>
            <a:ext cx="78980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ff00"/>
                </a:solidFill>
                <a:uFillTx/>
                <a:latin typeface="Arial"/>
              </a:rPr>
              <a:t>Acompanhamento das Metas de Rece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c.Prevista.............R$  29.628.573,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c.Atualizada.........R$  30.162.158,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c. Arrecadada.......R$ 17.531.487,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RELATORIOS FISCAI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ff00"/>
                </a:solidFill>
                <a:uFillTx/>
                <a:latin typeface="Arial"/>
              </a:rPr>
              <a:t>Acompanhamento das Metas de Desp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spesa Fixada........R$  28.469.542,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sp.Atualizada........R$  29.696.020,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spesa Realizada...R$  12.967.113,7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3:01:47Z</dcterms:created>
  <dc:creator>CPL</dc:creator>
  <dc:description/>
  <dc:language>en-US</dc:language>
  <cp:lastModifiedBy>USUARIO</cp:lastModifiedBy>
  <dcterms:modified xsi:type="dcterms:W3CDTF">2017-09-26T12:59:26Z</dcterms:modified>
  <cp:revision>349</cp:revision>
  <dc:subject/>
  <dc:title>2ª Audiência Pública</dc:title>
</cp:coreProperties>
</file>