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51280" y="-36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0" y="937872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51280" y="937872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52ADF4-D823-442E-9803-E6EAEBDA768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5128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5DFF60-C1E7-4D1B-B04F-3E1116332C2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Espaço Reservado para Número de Slide 3"/>
          <p:cNvSpPr/>
          <p:nvPr/>
        </p:nvSpPr>
        <p:spPr>
          <a:xfrm>
            <a:off x="385128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01D8A8-08D6-46A9-8589-9D84E1B3AF7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5128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54FC66-47C6-4AE9-A91C-B3EB698EF00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Espaço Reservado para Número de Slide 3"/>
          <p:cNvSpPr/>
          <p:nvPr/>
        </p:nvSpPr>
        <p:spPr>
          <a:xfrm>
            <a:off x="385128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FBF9D3-EC0E-48D4-9170-151EEE2439D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2623-8718-4DC8-A5AB-03AA5B9B7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ADEF-3C8F-49FE-9379-D874A889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417F-DB8C-4CC7-8F24-05B030678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8896-0D19-4971-8F45-5FE389734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3A45-CCC7-4416-8584-589F779B8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9D2A-E846-48FE-904D-A9AEA6AE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44BC-15A6-4791-A885-34D7BE64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5FCD-E000-4A61-9349-36621AF6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D9A6-DC65-4121-839A-B1A0EDC0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801E-B742-4C18-A4F7-CA8DA1E3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11B4-8DB2-44B9-8FD2-49A7E512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C536-F334-4519-9A6F-3BE30C73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76AF-7659-41DA-B7B0-A0E3CA3A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155A-F57A-4416-993E-DFE97896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3A3C-2579-47B6-A31F-5AB158BA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0283-1550-4AE7-AE7B-4EDA35C87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7905-27A7-4E43-BB7A-D220DA090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B83EC-0B4C-4B5A-9AF6-97A610524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A491F-955A-40A9-9E7B-A441F868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511E1-4762-4D0F-8C5B-0DB381D0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F8FC2-06EA-4624-B4A5-C8544BAA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86746-54F7-4107-9C06-B9A713A3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07A4-39D8-4C80-9601-E3F7C2D7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2231C-4256-4C6D-AED7-9C13EEDD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33CBC-750D-442E-A686-B8C45225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A7EE9-FDE0-474E-827B-1F56A9C6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01D88-2866-40DA-97AB-8C34BBAD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58BB9-B311-4508-8EDF-D41FA2B5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3F276-7CDB-4773-8A08-0DFD5682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7F2CB-1570-4F02-B4E3-AAA361114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3E937-CC2B-42A9-A5CD-EE472B074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2E69E-7194-40F3-B5ED-EC6CED45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4287B-DEF8-44C5-BBBA-58B0B7AE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B4B7-706B-46A7-A7AB-F3E5A1DA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93ECD-3E5D-4BD9-AA0B-7E164CF2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9C412-E127-4BF0-840F-68198E64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5DDFE-A990-4FC8-A982-5EA72C6B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6C776-CEA0-4624-83AB-382AFD96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C8F19-247D-4744-854B-462D0A4D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AC935-5320-45DE-9712-818C8A2A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16E03-ACEF-41E0-A8AF-2AB0E7B4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50DD2-B027-4C2A-8A81-D7A6F4607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CEE1D-1628-4B17-84C9-E7B92077A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15A7-3804-49FC-8445-CC1BCEE5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E62F-3CF4-4F14-B040-3E03F2DF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9D19-2922-4197-8B47-C6A2CACB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AE20-3230-4CAE-AC25-827C475A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25BF-9FA6-473C-B470-210D1EF8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EF9F09-F9B3-4153-BAC3-FBFC52303790}" type="slidenum">
              <a:rPr b="0" lang="pt-BR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0CDDE3-525E-45DF-AC7D-1F496741DBA2}" type="slidenum">
              <a:rPr b="0" lang="pt-BR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9707D3-0C37-4909-9562-0F68D07E1134}" type="slidenum">
              <a:rPr b="0" lang="pt-BR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045F5A-8C91-4141-87E1-0EEBA3DFA458}" type="slidenum">
              <a:rPr b="0" lang="pt-BR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79280" y="213840"/>
            <a:ext cx="89647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AUDIÊNCIA PÚBLICA</a:t>
            </a: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1° QUADRIMESTRE 2020</a:t>
            </a: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GESTÃO FISCAL</a:t>
            </a: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8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ELATORIOS FISCAI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480" y="1773360"/>
            <a:ext cx="763776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ompanhamento das Metas de Receita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.Prevista.............R$ 42.860.663,76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.Atualizada.........R$ 43.018.606,84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. Arrecadada.......R$  9.525.977,35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1549440" y="333360"/>
            <a:ext cx="10493280" cy="10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ELATORIOS FISCAI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ompanhamento das Metas de Despesa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Fixada...........R$  41.354.941,23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Atualizada.....R$  42.618.593,57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Empenhada...R$  10.448.561,94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Liquidada.......R$    9.203.874,17  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Realizada........R$    8.245.633,77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ELATORIOS FISCAI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2160360"/>
            <a:ext cx="7562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ompanhamento das Metas de Receita e Despesa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.Arrecadada...........R$  9.525.977,35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executadas...R$  8.245.633,77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Superávit......................R$  1.289.605,90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1412640"/>
            <a:ext cx="78487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ECEITA CORRENTE LÍQUIDA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914400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Arial"/>
                <a:ea typeface="Arial"/>
              </a:rPr>
              <a:t>R$ 28.916.678,45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85520" y="428760"/>
            <a:ext cx="8358120" cy="83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DESPESA COM PESSOAL</a:t>
            </a:r>
            <a:br>
              <a:rPr sz="5400"/>
            </a:br>
            <a:br>
              <a:rPr sz="5400"/>
            </a:b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781992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</a:t>
            </a: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º Quadrimestre/2020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eita Corr. Liquida..R$ 28.916.678,45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. Com Pessoal.. R$  14.262.084,58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ff0000"/>
                </a:solidFill>
                <a:latin typeface="Arial"/>
                <a:ea typeface="Arial"/>
              </a:rPr>
              <a:t>% aplicado..............................49,32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000" spc="-1" strike="noStrike">
                <a:solidFill>
                  <a:srgbClr val="000000"/>
                </a:solidFill>
                <a:latin typeface="Arial"/>
                <a:ea typeface="Arial"/>
              </a:rPr>
              <a:t>Desta forma, houve o cumprimento do art. 20 da LRF ( máximo de 54%)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tângulo 1"/>
          <p:cNvSpPr/>
          <p:nvPr/>
        </p:nvSpPr>
        <p:spPr>
          <a:xfrm>
            <a:off x="755640" y="333360"/>
            <a:ext cx="6985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COM EDUCAÇÃO</a:t>
            </a:r>
            <a:br>
              <a:rPr sz="2800"/>
            </a:b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Picture 12" descr="Resultado de imagem para IMAGENS RELACIONADO A EDUCAÇÃO"/>
          <p:cNvPicPr/>
          <p:nvPr/>
        </p:nvPicPr>
        <p:blipFill>
          <a:blip r:embed="rId1"/>
          <a:stretch/>
        </p:blipFill>
        <p:spPr>
          <a:xfrm>
            <a:off x="941400" y="1200240"/>
            <a:ext cx="70866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Demonstrativo dos gastos na Educação Básica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09120" y="2276640"/>
            <a:ext cx="8077320" cy="373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ceita de Impostos......R$    8.073.490,99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Desp. Educação Básica.R$       2.047.241,60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  <a:ea typeface="Arial"/>
              </a:rPr>
              <a:t>Aplicado............................................25,36%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  <a:ea typeface="Arial"/>
              </a:rPr>
              <a:t>Desta forma não foi cumprido o artigo 212 da CF/88  até 1° quadrimestre,  da aplicação mínima de 25% (art. 212 CF/1988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13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500" spc="-1" strike="noStrike">
                <a:solidFill>
                  <a:srgbClr val="000000"/>
                </a:solidFill>
                <a:latin typeface="Arial"/>
                <a:ea typeface="Arial"/>
              </a:rPr>
              <a:t>Receitas/Despesas do FUNDEB</a:t>
            </a:r>
            <a:endParaRPr b="0" lang="en-US" sz="4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480" y="2421000"/>
            <a:ext cx="7778880" cy="36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Receita Arrecadada...........R$  1.456.620,79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Rend.Aplic.Financeira......R</a:t>
            </a:r>
            <a:r>
              <a:rPr b="1" lang="pt-BR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$            992,86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Total da Receita.................R$  1.457.613,65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(-) Desp. c Remuneração...R$ 1.166.225,75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ff0000"/>
                </a:solidFill>
                <a:latin typeface="Arial"/>
                <a:ea typeface="Arial"/>
              </a:rPr>
              <a:t>% aplicado............................................39,44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Outras Despesas...............R$     307.065,01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ff0000"/>
                </a:solidFill>
                <a:latin typeface="Arial"/>
                <a:ea typeface="Arial"/>
              </a:rPr>
              <a:t>% aplicado............................................15,60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8760" y="4046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Folha Magistério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480" y="2160360"/>
            <a:ext cx="7562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Folha do magistério para cumprimento do limite mínimo de 60%</a:t>
            </a:r>
            <a:r>
              <a:rPr b="1" lang="pt-PT" sz="2500" spc="-1" strike="noStrike">
                <a:solidFill>
                  <a:srgbClr val="000000"/>
                </a:solidFill>
                <a:latin typeface="Arial"/>
                <a:ea typeface="Arial"/>
              </a:rPr>
              <a:t> (art. 212 CF/1988).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Pagamento magistério:............R$ 1.473.290,76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(-) Deduções para fins de limite do FUNDEB:                                       ....................................................R$  (113.809,89)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TOTAL:...........................................R$ 1.359.480,87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500" spc="-1" strike="noStrike">
                <a:solidFill>
                  <a:srgbClr val="ff0000"/>
                </a:solidFill>
                <a:latin typeface="Arial"/>
                <a:ea typeface="Arial"/>
              </a:rPr>
              <a:t>%......................................................................72,20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792000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"/>
              </a:rPr>
              <a:t>DESPESAS DE CAPITAL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55640" y="1773000"/>
            <a:ext cx="752472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INVESTIMENTOS:...............R$ 534.244,27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MORTIZAÇÕES:...............R$   27.905,63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TOTAL:...............................R$ 562.149,90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213840" y="285840"/>
            <a:ext cx="8643960" cy="6178320"/>
          </a:xfrm>
          <a:prstGeom prst="rect">
            <a:avLst/>
          </a:prstGeom>
          <a:noFill/>
          <a:ln w="9360">
            <a:solidFill>
              <a:srgbClr val="90c22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5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spectos Legais</a:t>
            </a: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Lei 101/2000 – Lei de Responsabilidade Fiscal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Instrução Normativa n° 149/2019 – TCE-PR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792000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"/>
              </a:rPr>
              <a:t>DÍVIDA FUNDADA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56144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RECATÓRIOS:         R$                     0,00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FB- PARC. PASEP   R$          149.067,95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INSS                            R$          212.232,76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FINISA:                       R$       5.000.000,00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TOTAL:                        R$       5.361.300,71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ESTOS A PAGAR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844640"/>
            <a:ext cx="82184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URSOS LIVRES:.........R$  1.327.116,62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URSOS VINC.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:.............R$ 1.187.248,42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TOTAL:................................R$  2.514.365,04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13124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ISPONIBILIDADE DE CAIXA</a:t>
            </a:r>
            <a:endParaRPr b="0" lang="en-US" sz="3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480680"/>
            <a:ext cx="832968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=)DISPONIBILIDADE DE CAIXA BRUTA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700" spc="-1" strike="noStrike">
                <a:solidFill>
                  <a:srgbClr val="404040"/>
                </a:solidFill>
                <a:latin typeface="Arial"/>
                <a:ea typeface="Arial"/>
              </a:rPr>
              <a:t>RECURSOS VINCULADOS:.......................................................R$  7.989.034,53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700" spc="-1" strike="noStrike">
                <a:solidFill>
                  <a:srgbClr val="404040"/>
                </a:solidFill>
                <a:latin typeface="Arial"/>
                <a:ea typeface="Arial"/>
              </a:rPr>
              <a:t>RECURSOS LIVRES:..................................................................</a:t>
            </a:r>
            <a:r>
              <a:rPr b="1" lang="pt-BR" sz="17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R$     982.276,08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700" spc="-1" strike="noStrike">
                <a:solidFill>
                  <a:srgbClr val="404040"/>
                </a:solidFill>
                <a:latin typeface="Arial"/>
                <a:ea typeface="Arial"/>
              </a:rPr>
              <a:t>TOTAL:..............................................................................................R$  8.971.310,61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-) RESTOS A PAGAR-RECURSOS LIVRES</a:t>
            </a:r>
            <a:r>
              <a:rPr b="1" lang="pt-BR" sz="1700" spc="-1" strike="noStrike">
                <a:solidFill>
                  <a:srgbClr val="404040"/>
                </a:solidFill>
                <a:latin typeface="Arial"/>
                <a:ea typeface="Arial"/>
              </a:rPr>
              <a:t>:..................................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R$  1.327.116,62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(-) RESTOS A PAGAR-RECURSOS VINCULADOS:.......................R$  1.187.248,42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-) DEMAIS OBRIGAÇÕES FINANCEIRAS:....................................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R$     199.787,79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=)DISPONIBILIDADE DE CAIXA LÍQUIDA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700" spc="-1" strike="noStrike">
                <a:solidFill>
                  <a:srgbClr val="404040"/>
                </a:solidFill>
                <a:latin typeface="Arial"/>
                <a:ea typeface="Arial"/>
              </a:rPr>
              <a:t>RECURSOS VINCULADOS:.......................................................R$  6.601.998,32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700" spc="-1" strike="noStrike">
                <a:solidFill>
                  <a:srgbClr val="404040"/>
                </a:solidFill>
                <a:latin typeface="Arial"/>
                <a:ea typeface="Arial"/>
              </a:rPr>
              <a:t>RECURSOS PRÓPIOS:...............................................................R$   -344.840,54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TOTAL:.....................................................................R$  6.601.998,32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esultado Primário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2828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sultado Primário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ALIZADO ATÉ O 1° QUADRIMESTR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$ 843.488,08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404040"/>
                </a:solidFill>
                <a:latin typeface="Arial"/>
                <a:ea typeface="Arial"/>
              </a:rPr>
              <a:t>      </a:t>
            </a:r>
            <a:r>
              <a:rPr b="1" lang="pt-BR" sz="2800" spc="-1" strike="noStrike">
                <a:solidFill>
                  <a:srgbClr val="404040"/>
                </a:solidFill>
                <a:latin typeface="Arial"/>
                <a:ea typeface="Arial"/>
              </a:rPr>
              <a:t>Corresponde ao resultado real (ou primário) das contas públicas, ou seja, </a:t>
            </a:r>
            <a:r>
              <a:rPr b="1" lang="pt-BR" sz="28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excluindo-se</a:t>
            </a:r>
            <a:r>
              <a:rPr b="1" lang="pt-BR" sz="2800" spc="-1" strike="noStrike">
                <a:solidFill>
                  <a:srgbClr val="404040"/>
                </a:solidFill>
                <a:latin typeface="Arial"/>
                <a:ea typeface="Arial"/>
              </a:rPr>
              <a:t> a despesa com juros, que o Município tem que pagar sobre as suas dívidas, e a inflação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"/>
              </a:rPr>
              <a:t>Resultado Nominal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sultado Nominal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ALIZADA ATÉ O 1° QUADRIMESTR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$ 816.184,83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600" spc="-1" strike="noStrike">
                <a:solidFill>
                  <a:srgbClr val="404040"/>
                </a:solidFill>
                <a:latin typeface="Arial"/>
                <a:ea typeface="Arial"/>
              </a:rPr>
              <a:t>      </a:t>
            </a:r>
            <a:r>
              <a:rPr b="1" lang="pt-BR" sz="2600" spc="-1" strike="noStrike">
                <a:solidFill>
                  <a:srgbClr val="404040"/>
                </a:solidFill>
                <a:latin typeface="Arial"/>
                <a:ea typeface="Arial"/>
              </a:rPr>
              <a:t>Corresponde ao resultado nominal das contas do setor público, ou seja, está </a:t>
            </a:r>
            <a:r>
              <a:rPr b="1" lang="pt-BR" sz="26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incluso</a:t>
            </a:r>
            <a:r>
              <a:rPr b="1" lang="pt-BR" sz="2600" spc="-1" strike="noStrike">
                <a:solidFill>
                  <a:srgbClr val="404040"/>
                </a:solidFill>
                <a:latin typeface="Arial"/>
                <a:ea typeface="Arial"/>
              </a:rPr>
              <a:t> o efeito da inflação e do pagamento de juros sobre o fluxo de receitas e despesas do Município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2781000"/>
            <a:ext cx="7848720" cy="32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8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pt-BR" sz="8000" spc="-1" strike="noStrike">
                <a:solidFill>
                  <a:srgbClr val="000000"/>
                </a:solidFill>
                <a:latin typeface="Arial"/>
                <a:ea typeface="Arial"/>
              </a:rPr>
              <a:t>AÇÃO SOCIAL</a:t>
            </a:r>
            <a:br>
              <a:rPr sz="8000"/>
            </a:br>
            <a:endParaRPr b="0" lang="en-US" sz="8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7858080" cy="50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PASSES FEDERAIS</a:t>
            </a:r>
            <a:br>
              <a:rPr sz="3500"/>
            </a:br>
            <a:br>
              <a:rPr sz="3500"/>
            </a:br>
            <a:r>
              <a:rPr b="1" lang="pt-BR" sz="3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FERÊNCIAS DE RECURSOS DO FUNDO NACIONAL DE ASSISTENCIA SOCIAL-FNAS</a:t>
            </a:r>
            <a:br>
              <a:rPr sz="3500"/>
            </a:br>
            <a:br>
              <a:rPr sz="3500"/>
            </a:br>
            <a:r>
              <a:rPr b="1" lang="pt-BR" sz="4000" spc="-1" strike="noStrike">
                <a:solidFill>
                  <a:srgbClr val="ff0000"/>
                </a:solidFill>
                <a:latin typeface="Arial"/>
                <a:ea typeface="Arial"/>
              </a:rPr>
              <a:t>R$ 29.076,41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813744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DESPESAS CORRENTES</a:t>
            </a: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PESSOAL E ENCARGOS:............R$  230.529,45</a:t>
            </a: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UTRAS DESP. CORRENTES:....R$  153.266,82</a:t>
            </a:r>
            <a:br>
              <a:rPr sz="2800"/>
            </a:br>
            <a:br>
              <a:rPr sz="2800"/>
            </a:br>
            <a:r>
              <a:rPr b="1" lang="pt-BR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DESPESAS DE CAPITAL</a:t>
            </a: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INVESTIMENTOS:..........................R$            0,00</a:t>
            </a:r>
            <a:br>
              <a:rPr sz="2800"/>
            </a:br>
            <a:br>
              <a:rPr sz="2800"/>
            </a:b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TOTAL:.....................................R$  383.796,27</a:t>
            </a:r>
            <a:br>
              <a:rPr sz="3000"/>
            </a:br>
            <a:endParaRPr b="0" lang="en-US" sz="3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928800" y="857160"/>
            <a:ext cx="754380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8800" spc="-1" strike="noStrike">
                <a:solidFill>
                  <a:srgbClr val="000000"/>
                </a:solidFill>
                <a:latin typeface="Trebuchet MS"/>
              </a:rPr>
              <a:t>AUDIÊNCIA PÚBLICA</a:t>
            </a:r>
            <a:endParaRPr b="0" lang="en-US" sz="88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0000" spc="-1" strike="noStrike">
                <a:solidFill>
                  <a:srgbClr val="000000"/>
                </a:solidFill>
                <a:latin typeface="Trebuchet MS"/>
                <a:ea typeface="Arial"/>
              </a:rPr>
              <a:t>SAÚDE</a:t>
            </a:r>
            <a:endParaRPr b="0" lang="en-US" sz="100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8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8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8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-255600" algn="ctr">
              <a:spcBef>
                <a:spcPts val="400"/>
              </a:spcBef>
              <a:buClr>
                <a:srgbClr val="90c226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7347240" cy="13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APLICAÇÕES EM SAÚDE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9" name="Picture 2" descr="Resultado de imagem para IMAGENS RELACIONADO A SAUDE PUBLICA"/>
          <p:cNvPicPr/>
          <p:nvPr/>
        </p:nvPicPr>
        <p:blipFill>
          <a:blip r:embed="rId1"/>
          <a:stretch/>
        </p:blipFill>
        <p:spPr>
          <a:xfrm>
            <a:off x="1116000" y="2492280"/>
            <a:ext cx="5472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Da   transparência, controle e fiscalização lei complementar nº 101/2000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80773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404040"/>
                </a:solidFill>
                <a:latin typeface="Arial"/>
                <a:ea typeface="Arial"/>
              </a:rPr>
              <a:t> 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rt. 48, Parágrafo Único- A transparência será assegurada também mediante incentivo à participação popular e realização de audiências públicas, durante os processos de elaboração e de discussão dos planos, Lei de Diretrizes Orçamentárias e Orçamentos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0581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monstrativo dos gastos em saúde pública</a:t>
            </a:r>
            <a:endParaRPr b="0" lang="en-US" sz="3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404040"/>
                </a:solidFill>
                <a:latin typeface="Arial"/>
                <a:ea typeface="Arial"/>
              </a:rPr>
              <a:t>Receita de Impostos.....R$   8.073.490,99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404040"/>
                </a:solidFill>
                <a:latin typeface="Arial"/>
                <a:ea typeface="Arial"/>
              </a:rPr>
              <a:t>Desp. Ações Saúde.......R$   1.592.102,06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ff0000"/>
                </a:solidFill>
                <a:latin typeface="Arial"/>
                <a:ea typeface="Arial"/>
              </a:rPr>
              <a:t>Aplicado...................................19,57%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000" spc="-1" strike="noStrike">
                <a:solidFill>
                  <a:srgbClr val="404040"/>
                </a:solidFill>
                <a:latin typeface="Arial"/>
                <a:ea typeface="Arial"/>
              </a:rPr>
              <a:t>      </a:t>
            </a:r>
            <a:r>
              <a:rPr b="1" lang="pt-PT" sz="3000" spc="-1" strike="noStrike">
                <a:solidFill>
                  <a:srgbClr val="404040"/>
                </a:solidFill>
                <a:latin typeface="Arial"/>
                <a:ea typeface="Arial"/>
              </a:rPr>
              <a:t>Desta forma foi cumprido o disposto no artigo 7º da Lei Complementar n.141/2012, que prevê para o exercício o gasto mínimo de 15%(EC Nº 29/2000 CF/88)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3"/>
          <p:cNvSpPr/>
          <p:nvPr/>
        </p:nvSpPr>
        <p:spPr>
          <a:xfrm>
            <a:off x="539640" y="1357200"/>
            <a:ext cx="83901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rebuchet MS"/>
                <a:ea typeface="Arial"/>
              </a:rPr>
              <a:t>DESPESAS NA SAÚDE ATÉ O QUADRIMESTR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Trebuchet MS"/>
                <a:ea typeface="Arial"/>
              </a:rPr>
              <a:t>Recursos Próprios.............R$ 1.701.567,88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Trebuchet MS"/>
                <a:ea typeface="Arial"/>
              </a:rPr>
              <a:t>Recursos do Estado e União...R$  817.335,72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500" spc="-1" strike="noStrike">
                <a:solidFill>
                  <a:srgbClr val="000000"/>
                </a:solidFill>
                <a:latin typeface="Trebuchet MS"/>
                <a:ea typeface="Arial"/>
              </a:rPr>
              <a:t>TOTAL:...................R$ 2.518.903,60</a:t>
            </a: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-255600" algn="ctr">
              <a:spcBef>
                <a:spcPts val="400"/>
              </a:spcBef>
              <a:buClr>
                <a:srgbClr val="90c226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17640" y="260280"/>
            <a:ext cx="885636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Demonstrativo dos gastos em saúde pública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09480" y="2160360"/>
            <a:ext cx="7707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404040"/>
                </a:solidFill>
                <a:latin typeface="Arial"/>
                <a:ea typeface="Arial"/>
              </a:rPr>
              <a:t>DESPESA COM SAÚDE NÃO COMPUTADAS PARA FINS DE APURAÇÃO DO PERCENTUAL MÍNIMO (15%)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ff0000"/>
                </a:solidFill>
                <a:latin typeface="Arial"/>
                <a:ea typeface="Arial"/>
              </a:rPr>
              <a:t>R$ 381.078,41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Retângulo 1" descr=""/>
          <p:cNvPicPr/>
          <p:nvPr/>
        </p:nvPicPr>
        <p:blipFill>
          <a:blip r:embed="rId1"/>
          <a:stretch/>
        </p:blipFill>
        <p:spPr>
          <a:xfrm>
            <a:off x="566640" y="1311120"/>
            <a:ext cx="807732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8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Objetivo da Audiência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480" y="2160360"/>
            <a:ext cx="8066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 Audiência Pública é uma das formas de participação e de controle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pular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na Administração Pública no Estado Social e Democrático de Direito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É um instrumento que leva a uma decisão política ou legal com legitimidade e transparência dos atos praticados na Administração</a:t>
            </a:r>
            <a:r>
              <a:rPr b="1" lang="pt-BR" sz="28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634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Parágrafo 4º do artigo 9º da Lei Complementar nº 101/2000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481040"/>
            <a:ext cx="82296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No  texto da  LRF  determina que o Poder Executivo " demonstrará e avaliará o cumprimento das metas fiscais de cada quadrimestre, em audiência pública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nos meses de :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MAIO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ETEMBRO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FEVEREIRO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8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A LC nº 101/2000 - LRF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480" y="2160360"/>
            <a:ext cx="7850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500" spc="-1" strike="noStrike">
                <a:solidFill>
                  <a:srgbClr val="404040"/>
                </a:solidFill>
                <a:latin typeface="Arial"/>
                <a:ea typeface="Arial"/>
              </a:rPr>
              <a:t>      </a:t>
            </a:r>
            <a:r>
              <a:rPr b="1" lang="pt-BR" sz="3500" spc="-1" strike="noStrike">
                <a:solidFill>
                  <a:srgbClr val="000000"/>
                </a:solidFill>
                <a:latin typeface="Arial"/>
                <a:ea typeface="Arial"/>
              </a:rPr>
              <a:t>Estabelece normas de finanças públicas voltadas para a responsabilidade na gestão fiscal e dá outras providências.</a:t>
            </a:r>
            <a:endParaRPr b="0" lang="en-US" sz="3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8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elatórios Fiscais LRF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81392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 Lei de Responsabilidade Fiscal (LRF), é o principal instrumento regulador das contas públicas no Brasil, estabelecendo metas, limites e condições  para gestão das Receitas e das Despesas e obrigando os Governantes a assumirem compromissos com a arrecadação e gastos públicos.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418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A LRF contém os Relatórios de Gestão Fiscal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9120" y="2160360"/>
            <a:ext cx="7634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RREO - Relatório Resumido de Execução Orçamentária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RGF – Relatório de Gestão Fiscal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As informações contidas nesses documentos, além de determinar parâmetros e metas para a administração pública, permitem avaliar com profundidade a gestão fiscal do Poder Executivo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A LRF regulamenta o artigo 163 da CF/88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571680" y="857160"/>
            <a:ext cx="857232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7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6700" spc="-1" strike="noStrike">
                <a:solidFill>
                  <a:srgbClr val="000000"/>
                </a:solidFill>
                <a:latin typeface="Arial"/>
                <a:ea typeface="Arial"/>
              </a:rPr>
              <a:t>PODER </a:t>
            </a:r>
            <a:endParaRPr b="0" lang="en-US" sz="67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7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6700" spc="-1" strike="noStrike">
                <a:solidFill>
                  <a:srgbClr val="000000"/>
                </a:solidFill>
                <a:latin typeface="Arial"/>
                <a:ea typeface="Arial"/>
              </a:rPr>
              <a:t>EXECUTIVO</a:t>
            </a:r>
            <a:endParaRPr b="0" lang="en-US" sz="67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20:51:43Z</dcterms:created>
  <dc:creator>.</dc:creator>
  <dc:description/>
  <dc:language>en-US</dc:language>
  <cp:lastModifiedBy>RubensMatos</cp:lastModifiedBy>
  <cp:lastPrinted>2020-05-26T14:48:50Z</cp:lastPrinted>
  <dcterms:modified xsi:type="dcterms:W3CDTF">2021-03-19T19:38:26Z</dcterms:modified>
  <cp:revision>399</cp:revision>
  <dc:subject/>
  <dc:title>JANEIRO  2005</dc:title>
</cp:coreProperties>
</file>