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778200" y="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360" rIns="90360" tIns="45000" bIns="450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4BBA86-E884-425B-88E7-49441A355DF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480D4-74BB-429F-941C-712B964A826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E4C4C6-A5A5-4241-B8CB-37B9E66FBE8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3E9B8E-2B83-48C0-BE6D-255A383FBCF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A5A163-CD2A-47FB-9244-BEAE945F156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Espaço Reservado para Número de Slide 3"/>
          <p:cNvSpPr/>
          <p:nvPr/>
        </p:nvSpPr>
        <p:spPr>
          <a:xfrm>
            <a:off x="3778200" y="9429840"/>
            <a:ext cx="288936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B9E3E6-8739-4B86-9755-48BF3D98817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BBAB-E708-41AF-8536-8E0426633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4B37-7E06-4F7E-8CEF-4E60054F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0D24-833E-4EB3-9DEC-E8138EB9F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79B7-ECC2-449C-A596-5D1D3B3EF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4BD0-421C-4B17-8D98-7BBFB8353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26CE7-B892-48CC-A636-E154D12D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7DC9C-9935-4E8E-8695-F0E73408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BC31-2104-40B5-B259-C5248252A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9119-AB95-4599-BA88-1E708296B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30FC9-A678-49A1-8F7A-8ADE0499C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EDDBB-89BE-4735-8D9B-3CBEDEB2A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3D15-65DB-4AFF-ACB1-317BD8ECF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D95A3-17AD-482C-8BC6-9DA413340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09892-F6B2-4A02-B95D-1248F2AB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1379B-E2A9-4D64-A6E8-2D5140D86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645B2-F6C2-44FC-8D45-3F180E10C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8AD2-F75A-470D-AFC2-5C863B0A7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D28A2-9305-46BB-9F02-05400E055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F7A41-0271-4CD8-9BDA-25ECCE419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EF834-2801-435A-A121-3D5573340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BDFC3-75E7-435E-B9BF-F141E0AC6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D571DE-1107-4084-953E-3E3E12A8C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007E-761F-47BA-92A2-1D7461EC8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25EDD-B833-482D-8AE6-CBA7A4EB2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D71F46-0068-420A-BF1C-8564FDA7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77CF0C-9DBC-4F64-B063-3F393A39A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197BF-163D-4E61-B019-5F5E1449C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EACCE-3721-4BDF-BC5A-C27D65943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D278F-148C-4092-8857-99BAFC4CD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479F77-E1E1-4A69-9EF8-055FD396F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1C4206-D194-4580-ADF8-F410749B7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7FC82F-3CF4-4891-A16F-E1796342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2FAF16-26EC-414E-9F6A-F4A9BA55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EDA2-AC34-4CCF-A37B-89304FD10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1B76D-5544-4F7D-9BFC-04B1693E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88FE0-B264-460B-B4AC-D8A2A110A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7093D-2116-4DE8-AB7E-295D647E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29AB1-4306-4A3B-93F1-4230B730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BA8FE-6544-439C-8D26-13552DDAB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34881-4E19-4C2E-91D4-49FBC279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1D947-26C1-4652-B2C9-F42F6BC95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C06017-5E05-4ECA-A382-0473AF07E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84DF8-ABEB-41D6-A38C-64970BB0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76AD-99B2-49A1-9DD8-3041BEFD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3FC3-755B-41D8-96C0-015E7B313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A7CA-48B5-41DB-B825-9EA7F13A5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5914-79BB-432D-A12F-A165D5D55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8E5A-C2DF-48AD-9B19-A4187A27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3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345939-6A0A-45BA-A821-95D6B0B0987C}" type="slidenum">
              <a:rPr b="0" lang="pt-BR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640" cy="569772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709F5B-080E-47BA-98FA-31203A1C3585}" type="slidenum">
              <a:rPr b="0" lang="pt-BR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7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5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44723B-4764-4B8D-B931-37E5A6E6C12D}" type="slidenum">
              <a:rPr b="0" lang="pt-BR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Freeform 6"/>
            <p:cNvSpPr/>
            <p:nvPr/>
          </p:nvSpPr>
          <p:spPr>
            <a:xfrm>
              <a:off x="-7920" y="4013280"/>
              <a:ext cx="457200" cy="2852640"/>
            </a:xfrm>
            <a:prstGeom prst="pie">
              <a:avLst/>
            </a:pr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 flipV="1">
              <a:off x="5131080" y="4175280"/>
              <a:ext cx="4022640" cy="2682720"/>
            </a:xfrm>
            <a:prstGeom prst="line">
              <a:avLst/>
            </a:prstGeom>
            <a:ln cap="rnd" w="9360">
              <a:solidFill>
                <a:srgbClr val="d9d9d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1" name="Straight Connector 8"/>
            <p:cNvSpPr/>
            <p:nvPr/>
          </p:nvSpPr>
          <p:spPr>
            <a:xfrm>
              <a:off x="7042320" y="0"/>
              <a:ext cx="1218960" cy="6858000"/>
            </a:xfrm>
            <a:prstGeom prst="line">
              <a:avLst/>
            </a:prstGeom>
            <a:ln cap="rnd" w="93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1480" y="0"/>
              <a:ext cx="2270160" cy="6865920"/>
            </a:xfrm>
            <a:prstGeom prst="pie">
              <a:avLst/>
            </a:pr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920"/>
              <a:ext cx="1947960" cy="6865920"/>
            </a:xfrm>
            <a:prstGeom prst="pie">
              <a:avLst/>
            </a:pr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9120" y="3919680"/>
              <a:ext cx="2512800" cy="2938320"/>
            </a:xfrm>
            <a:prstGeom prst="pie">
              <a:avLst/>
            </a:pr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0640" y="-7920"/>
              <a:ext cx="2143080" cy="6865920"/>
            </a:xfrm>
            <a:prstGeom prst="pie">
              <a:avLst/>
            </a:pr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560" y="-7920"/>
              <a:ext cx="857160" cy="6865920"/>
            </a:xfrm>
            <a:prstGeom prst="pie">
              <a:avLst/>
            </a:pr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320" y="-7920"/>
              <a:ext cx="1066680" cy="6865920"/>
            </a:xfrm>
            <a:prstGeom prst="pie">
              <a:avLst/>
            </a:pr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040" y="4894200"/>
              <a:ext cx="1095120" cy="1963800"/>
            </a:xfrm>
            <a:prstGeom prst="pie">
              <a:avLst/>
            </a:pr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TextBox 23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TextBox 24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8000" spc="-1" strike="noStrike">
                <a:solidFill>
                  <a:srgbClr val="c0e474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1" marL="653760" indent="-2512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2" marL="10058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3" marL="140796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4" marL="1810440" indent="-200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5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lvl="6" marL="1810440" indent="-20088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pt-BR" sz="900" spc="-1" strike="noStrike">
                <a:solidFill>
                  <a:srgbClr val="90c226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9E867F3-3997-4688-801B-309045366C3B}" type="slidenum">
              <a:rPr b="0" lang="pt-BR" sz="900" spc="-1" strike="noStrike">
                <a:solidFill>
                  <a:srgbClr val="90c226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79280" y="213840"/>
            <a:ext cx="896472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AUDIÊNCIA PÚBLICA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3° QUADRIMESTRE 2019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5000" spc="-1" strike="noStrike">
                <a:solidFill>
                  <a:srgbClr val="000000"/>
                </a:solidFill>
                <a:latin typeface="Arial"/>
                <a:ea typeface="Arial"/>
              </a:rPr>
              <a:t>GESTÃO FISCAL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ORIOS FISCAI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480" y="1773360"/>
            <a:ext cx="763776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Receita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Prevista.............R$ 37.903.352,19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Atualizada.........R$ 40.756.590,21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. Arrecadada.......R$ 34.696.042,75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1549440" y="333360"/>
            <a:ext cx="10493280" cy="10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ORIOS FISCAI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Despesa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Fixada........R$  36.480.469,89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Atualizada........R$  45.094.879,09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 Empenhada.....R$  34.958.108,28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Realizada....R$  34.325.175,80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ORIOS FISCAIS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2160360"/>
            <a:ext cx="7562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companhamento das Metas de Receita e Despesa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c.Arrecadada...........R$  34.696.042,95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espesa executadas....R$  34.325.175,80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uperávit......................R$        370.867,15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00000" y="1412640"/>
            <a:ext cx="784872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CEITA CORRENTE LÍQUIDA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0" y="2492280"/>
            <a:ext cx="914400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Arial"/>
                <a:ea typeface="Arial"/>
              </a:rPr>
              <a:t>R$ 29.119.782,36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85520" y="428760"/>
            <a:ext cx="8358120" cy="83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DESPESA COM PESSOAL</a:t>
            </a:r>
            <a:br>
              <a:rPr sz="5400"/>
            </a:br>
            <a:br>
              <a:rPr sz="5400"/>
            </a:b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95280" y="1699920"/>
            <a:ext cx="7819920" cy="47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  </a:t>
            </a:r>
            <a:r>
              <a:rPr b="1" lang="pt-BR" sz="3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3º Quadrimestre/2019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eita Corr. Liquida..R$ 29.119.782,36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. Com Pessoal.. R$  13.850.032,45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% aplicado..............................48,36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Desta forma, houve o cumprimento do art. 20 da LRF ( máximo de 54%)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indent="0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tângulo 1"/>
          <p:cNvSpPr/>
          <p:nvPr/>
        </p:nvSpPr>
        <p:spPr>
          <a:xfrm>
            <a:off x="755640" y="333360"/>
            <a:ext cx="69850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SPESA COM EDUCAÇÃO</a:t>
            </a:r>
            <a:br>
              <a:rPr sz="2800"/>
            </a:b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5" name="Picture 12" descr="Resultado de imagem para IMAGENS RELACIONADO A EDUCAÇÃO"/>
          <p:cNvPicPr/>
          <p:nvPr/>
        </p:nvPicPr>
        <p:blipFill>
          <a:blip r:embed="rId1"/>
          <a:stretch/>
        </p:blipFill>
        <p:spPr>
          <a:xfrm>
            <a:off x="941400" y="1200240"/>
            <a:ext cx="70866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emonstrativo dos gastos na Educação Básica</a:t>
            </a:r>
            <a:endParaRPr b="0" lang="en-US" sz="2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120" y="2276640"/>
            <a:ext cx="8077320" cy="373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ceita de Impostos......R$  24.372.117,72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Desp. Educação Básica.R$      6.668.502,83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ff0000"/>
                </a:solidFill>
                <a:latin typeface="Arial"/>
                <a:ea typeface="Arial"/>
              </a:rPr>
              <a:t>Aplicado........................................27,36%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Desta forma foi cumprido o artigo 212 da CF/88  até 3° quadrimestre,  da aplicação mínima de 25% (art. 212 CF/1988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500" spc="-1" strike="noStrike">
                <a:solidFill>
                  <a:srgbClr val="000000"/>
                </a:solidFill>
                <a:latin typeface="Arial"/>
                <a:ea typeface="Arial"/>
              </a:rPr>
              <a:t>Receitas/Despesas do FUNDEB</a:t>
            </a:r>
            <a:endParaRPr b="0" lang="en-US" sz="45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480" y="2421000"/>
            <a:ext cx="7778880" cy="36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Receita Arrecadada...........R$  3.795.677,04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Rend.Aplic.Financeira......R</a:t>
            </a:r>
            <a:r>
              <a:rPr b="1" lang="pt-BR" sz="2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$         4.313,76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Total da Receita.................R$  3.799.990,80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(-) Desp. c Remuneração...R$ 3.056.611,76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% aplicado....................................98,69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Outras Despesas..............R$     711.292,25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ff0000"/>
                </a:solidFill>
                <a:latin typeface="Arial"/>
                <a:ea typeface="Arial"/>
              </a:rPr>
              <a:t>% aplicado.....................................54,37%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28760" y="40464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Folha Magistério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480" y="2160360"/>
            <a:ext cx="756288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Folha do magistério para cumprimento do limite mínimo de 60%</a:t>
            </a:r>
            <a:r>
              <a:rPr b="1" lang="pt-PT" sz="2500" spc="-1" strike="noStrike">
                <a:solidFill>
                  <a:srgbClr val="000000"/>
                </a:solidFill>
                <a:latin typeface="Arial"/>
                <a:ea typeface="Arial"/>
              </a:rPr>
              <a:t> (art. 212 CF/1988).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Pagamento magistério: R$ 3.767.904,01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(-) Deduções para fins de limite do FUNDEB:                                       R$  (81.723,10)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    R$   3.686.180,91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500" spc="-1" strike="noStrike">
                <a:solidFill>
                  <a:srgbClr val="ff0000"/>
                </a:solidFill>
                <a:latin typeface="Arial"/>
                <a:ea typeface="Arial"/>
              </a:rPr>
              <a:t>PERCENTUAL                       78,29%</a:t>
            </a: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  <a:p>
            <a:pPr marL="308520" indent="-30852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692280"/>
            <a:ext cx="7920000" cy="9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DESPESAS DE CAPITAL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524720" cy="44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INVESTIMENTOS: R$ 5.809.773,58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MORTIZAÇÕES: R$   120.767,69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R$ 5.930.541,27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213840" y="285840"/>
            <a:ext cx="8643960" cy="6178320"/>
          </a:xfrm>
          <a:prstGeom prst="rect">
            <a:avLst/>
          </a:prstGeom>
          <a:noFill/>
          <a:ln w="9360">
            <a:solidFill>
              <a:srgbClr val="90c226"/>
            </a:solidFill>
            <a:miter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5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spectos Legais</a:t>
            </a: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5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Lei 101/2000 – Lei de Responsabilidade Fiscal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Instrução Normativa n° 149/2019 – TCE-PR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765000"/>
            <a:ext cx="7920000" cy="8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DÍVIDA FUNDADA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42920" y="1988640"/>
            <a:ext cx="7561440" cy="42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PRECATÓRIOS:         R$           9.600,32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FB- PARC. PASEP   R$       152.008,87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INSS                            R$        216.968,31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FINISA:                       R$     5.000.000,00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     R$    5.378.577,50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26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7920000" cy="117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"/>
              </a:rPr>
              <a:t>RESTOS A PAGAR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28400" y="1428480"/>
            <a:ext cx="871524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  <a:ea typeface="Tahoma"/>
              </a:rPr>
              <a:t>De Exercícios Anteriores: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  <a:ea typeface="Tahoma"/>
              </a:rPr>
              <a:t>Processados :               R$   92.444,70   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  <a:ea typeface="Tahoma"/>
              </a:rPr>
              <a:t>Não processados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  <a:ea typeface="Tahoma"/>
              </a:rPr>
              <a:t>:        R$   87.386,39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300" spc="-1" strike="noStrike">
                <a:solidFill>
                  <a:srgbClr val="ff0000"/>
                </a:solidFill>
                <a:latin typeface="Arial"/>
                <a:ea typeface="Arial"/>
              </a:rPr>
              <a:t>TOTAL:                              R$  179.831,09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  <a:ea typeface="Tahoma"/>
              </a:rPr>
              <a:t>Contas a pagar do Exercício de 2019: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  <a:ea typeface="Tahoma"/>
              </a:rPr>
              <a:t>Processados:                R$  471.315,56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  <a:ea typeface="Tahoma"/>
              </a:rPr>
              <a:t> </a:t>
            </a:r>
            <a:r>
              <a:rPr b="1" lang="pt-BR" sz="2300" spc="-1" strike="noStrike">
                <a:solidFill>
                  <a:srgbClr val="000000"/>
                </a:solidFill>
                <a:latin typeface="Arial"/>
                <a:ea typeface="Tahoma"/>
              </a:rPr>
              <a:t>A Processar</a:t>
            </a:r>
            <a:r>
              <a:rPr b="1" lang="pt-BR" sz="2300" spc="-1" strike="noStrike" u="sng">
                <a:solidFill>
                  <a:srgbClr val="000000"/>
                </a:solidFill>
                <a:uFillTx/>
                <a:latin typeface="Arial"/>
                <a:ea typeface="Tahoma"/>
              </a:rPr>
              <a:t>:                  R$  161.616,92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300" spc="-1" strike="noStrike">
                <a:solidFill>
                  <a:srgbClr val="ff0000"/>
                </a:solidFill>
                <a:latin typeface="Arial"/>
                <a:ea typeface="Arial"/>
              </a:rPr>
              <a:t>TOTAL:                               R$  632.932,48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Trebuchet MS"/>
              </a:rPr>
              <a:t>TOTAL GERAL:              R$  812.763,57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STOS A PAGAR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6840" y="1844640"/>
            <a:ext cx="8218440" cy="41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URSOS LIVRES:             R$ 213.762,90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RECURSOS VINCULADOS</a:t>
            </a:r>
            <a:r>
              <a:rPr b="1" lang="pt-BR" sz="3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:  R$ 599.000,67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               R$  812.763,57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13124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ISPONIBILIDADE DE CAIXA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480680"/>
            <a:ext cx="8329680" cy="49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=)DISPONIBILIDADE DE CAIXA BRUTA: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>
                <a:solidFill>
                  <a:srgbClr val="404040"/>
                </a:solidFill>
                <a:latin typeface="Arial"/>
                <a:ea typeface="Arial"/>
              </a:rPr>
              <a:t>RECURSOS VINCULADOS:         R$ 7.564.188,90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>
                <a:solidFill>
                  <a:srgbClr val="404040"/>
                </a:solidFill>
                <a:latin typeface="Arial"/>
                <a:ea typeface="Arial"/>
              </a:rPr>
              <a:t>RECURSOS PRÓPIOS:                </a:t>
            </a:r>
            <a:r>
              <a:rPr b="1" lang="pt-BR" sz="19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R$ 1.000.009,38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>
                <a:solidFill>
                  <a:srgbClr val="404040"/>
                </a:solidFill>
                <a:latin typeface="Arial"/>
                <a:ea typeface="Arial"/>
              </a:rPr>
              <a:t>TOTAL:                                              R$ 8.564.198,28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-) INSCRIÇÃO DE RESTOS A PAGAR</a:t>
            </a:r>
            <a:r>
              <a:rPr b="1" lang="pt-BR" sz="1900" spc="-1" strike="noStrike">
                <a:solidFill>
                  <a:srgbClr val="404040"/>
                </a:solidFill>
                <a:latin typeface="Arial"/>
                <a:ea typeface="Arial"/>
              </a:rPr>
              <a:t>: 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   R$    812.763,57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-) DEMAIS OBRIGAÇÕES FINANCEIRAS:</a:t>
            </a:r>
            <a:r>
              <a:rPr b="1" lang="pt-BR" sz="1900" spc="-1" strike="noStrike">
                <a:solidFill>
                  <a:srgbClr val="000000"/>
                </a:solidFill>
                <a:latin typeface="Arial"/>
                <a:ea typeface="Arial"/>
              </a:rPr>
              <a:t> R$   80.954,66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(=)DISPONIBILIDADE DE CAIXA LÍQUIDA: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>
                <a:solidFill>
                  <a:srgbClr val="404040"/>
                </a:solidFill>
                <a:latin typeface="Arial"/>
                <a:ea typeface="Arial"/>
              </a:rPr>
              <a:t>RECURSOS VINCULADOS:         R$ 6.965.746,22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1900" spc="-1" strike="noStrike">
                <a:solidFill>
                  <a:srgbClr val="404040"/>
                </a:solidFill>
                <a:latin typeface="Arial"/>
                <a:ea typeface="Arial"/>
              </a:rPr>
              <a:t>RECURSOS PRÓPIOS :                R$   704.733,83</a:t>
            </a: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3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                           R$ 7.670.480,05</a:t>
            </a: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3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8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sultado Primário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2828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sultado Primário: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EALIZADO ATÉ O 3° QUADRIMESTRE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R$ -2.718.889,48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8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1" lang="pt-BR" sz="2800" spc="-1" strike="noStrike">
                <a:solidFill>
                  <a:srgbClr val="404040"/>
                </a:solidFill>
                <a:latin typeface="Arial"/>
                <a:ea typeface="Arial"/>
              </a:rPr>
              <a:t>Corresponde ao resultado real (ou primário) das contas públicas, ou seja, </a:t>
            </a:r>
            <a:r>
              <a:rPr b="1" lang="pt-BR" sz="28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excluindo-se</a:t>
            </a:r>
            <a:r>
              <a:rPr b="1" lang="pt-BR" sz="2800" spc="-1" strike="noStrike">
                <a:solidFill>
                  <a:srgbClr val="404040"/>
                </a:solidFill>
                <a:latin typeface="Arial"/>
                <a:ea typeface="Arial"/>
              </a:rPr>
              <a:t> a despesa com juros, que o Município tem que pagar sobre as suas dívidas, e a inflação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"/>
              </a:rPr>
              <a:t>Resultado Nominal</a:t>
            </a:r>
            <a:endParaRPr b="0" lang="en-US" sz="4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sultado Nominal: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EALIZADA ATÉ O 3° QUADRIMESTRE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R$ -2.490.185,88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26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1" lang="pt-BR" sz="2600" spc="-1" strike="noStrike">
                <a:solidFill>
                  <a:srgbClr val="404040"/>
                </a:solidFill>
                <a:latin typeface="Arial"/>
                <a:ea typeface="Arial"/>
              </a:rPr>
              <a:t>Corresponde ao resultado nominal das contas do setor público, ou seja, está </a:t>
            </a:r>
            <a:r>
              <a:rPr b="1" lang="pt-BR" sz="2600" spc="-1" strike="noStrike" u="sng">
                <a:solidFill>
                  <a:srgbClr val="404040"/>
                </a:solidFill>
                <a:uFillTx/>
                <a:latin typeface="Arial"/>
                <a:ea typeface="Arial"/>
              </a:rPr>
              <a:t>incluso</a:t>
            </a:r>
            <a:r>
              <a:rPr b="1" lang="pt-BR" sz="2600" spc="-1" strike="noStrike">
                <a:solidFill>
                  <a:srgbClr val="404040"/>
                </a:solidFill>
                <a:latin typeface="Arial"/>
                <a:ea typeface="Arial"/>
              </a:rPr>
              <a:t> o efeito da inflação e do pagamento de juros sobre o fluxo de receitas e despesas do Município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3"/>
          <p:cNvSpPr/>
          <p:nvPr/>
        </p:nvSpPr>
        <p:spPr>
          <a:xfrm>
            <a:off x="928800" y="857160"/>
            <a:ext cx="7543800" cy="60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8800" spc="-1" strike="noStrike">
                <a:solidFill>
                  <a:srgbClr val="000000"/>
                </a:solidFill>
                <a:latin typeface="Trebuchet MS"/>
              </a:rPr>
              <a:t>AUDIÊNCIA PÚBLICA</a:t>
            </a: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10000" spc="-1" strike="noStrike">
                <a:solidFill>
                  <a:srgbClr val="000000"/>
                </a:solidFill>
                <a:latin typeface="Trebuchet MS"/>
                <a:ea typeface="Arial"/>
              </a:rPr>
              <a:t>SAÚDE</a:t>
            </a:r>
            <a:endParaRPr b="0" lang="en-US" sz="100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 algn="ctr">
              <a:spcBef>
                <a:spcPts val="400"/>
              </a:spcBef>
              <a:buClr>
                <a:srgbClr val="90c226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7347240" cy="13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4000"/>
            </a:b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APLICAÇÕES EM SAÚDE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68" name="Picture 2" descr="Resultado de imagem para IMAGENS RELACIONADO A SAUDE PUBLICA"/>
          <p:cNvPicPr/>
          <p:nvPr/>
        </p:nvPicPr>
        <p:blipFill>
          <a:blip r:embed="rId1"/>
          <a:stretch/>
        </p:blipFill>
        <p:spPr>
          <a:xfrm>
            <a:off x="1116000" y="2492280"/>
            <a:ext cx="547200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05816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Demonstrativo dos gastos em saúde pública</a:t>
            </a: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930320"/>
            <a:ext cx="822960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Receita de Impostos.....R$ 23.570.460,48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Desp. Ações Saúde......R$   6.263.589,30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Aplicado...................................26,65%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PT" sz="30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1" lang="pt-PT" sz="3000" spc="-1" strike="noStrike">
                <a:solidFill>
                  <a:srgbClr val="404040"/>
                </a:solidFill>
                <a:latin typeface="Arial"/>
                <a:ea typeface="Arial"/>
              </a:rPr>
              <a:t>Desta forma foi cumprido o disposto no artigo 7º da Lei Complementar n.141/2012, que prevê para o exercício o gasto mínimo de 15%(EC Nº 29/2000 CF/88)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539640" y="1357200"/>
            <a:ext cx="8390160" cy="51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rebuchet MS"/>
                <a:ea typeface="Arial"/>
              </a:rPr>
              <a:t>PESSOAL: R$ 4.080.585,28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rebuchet MS"/>
                <a:ea typeface="Arial"/>
              </a:rPr>
              <a:t>OUTRAS DESPESAS CORRENTES:                        R$  4.687.668,28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Trebuchet MS"/>
                <a:ea typeface="Arial"/>
              </a:rPr>
              <a:t>INVESTIMENTOS: R$ 1.057.406,95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500" spc="-1" strike="noStrike">
                <a:solidFill>
                  <a:srgbClr val="000000"/>
                </a:solidFill>
                <a:latin typeface="Trebuchet MS"/>
                <a:ea typeface="Arial"/>
              </a:rPr>
              <a:t>TOTAL:                R$ 9.825.660,51</a:t>
            </a:r>
            <a:endParaRPr b="0" lang="en-US" sz="35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  <a:p>
            <a:pPr marL="365040" indent="-255600" algn="ctr">
              <a:spcBef>
                <a:spcPts val="400"/>
              </a:spcBef>
              <a:buClr>
                <a:srgbClr val="90c226"/>
              </a:buClr>
              <a:buSzPct val="68000"/>
              <a:buFont typeface="Wingdings 3" charset="2"/>
              <a:buChar char="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2" name="Rectangle 2" descr=""/>
          <p:cNvPicPr/>
          <p:nvPr/>
        </p:nvPicPr>
        <p:blipFill>
          <a:blip r:embed="rId1"/>
          <a:stretch/>
        </p:blipFill>
        <p:spPr>
          <a:xfrm>
            <a:off x="12600" y="208080"/>
            <a:ext cx="8869320" cy="124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Da   transparência, controle e fiscalização lei complementar nº 101/2000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80773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rt. 48, Parágrafo Único- A transparência será assegurada também mediante incentivo à participação popular e realização de audiências públicas, durante os processos de elaboração e de discussão dos planos, Lei de Diretrizes Orçamentárias e Orçamentos.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39480" indent="-3394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Demonstrativo dos gastos em saúde pública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609480" y="2160360"/>
            <a:ext cx="7707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404040"/>
                </a:solidFill>
                <a:latin typeface="Arial"/>
                <a:ea typeface="Arial"/>
              </a:rPr>
              <a:t>DESPESA COM SAÚDE NÃO COMPUTADAS PARA FINS DE APURAÇÃO DO PERCENTUAL MÍNIMO (15%)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ff0000"/>
                </a:solidFill>
                <a:latin typeface="Arial"/>
                <a:ea typeface="Arial"/>
              </a:rPr>
              <a:t>R$ 2.745.314,15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0" y="2781000"/>
            <a:ext cx="7848720" cy="32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80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1" lang="pt-BR" sz="8000" spc="-1" strike="noStrike">
                <a:solidFill>
                  <a:srgbClr val="000000"/>
                </a:solidFill>
                <a:latin typeface="Arial"/>
                <a:ea typeface="Arial"/>
              </a:rPr>
              <a:t>AÇÃO SOCIAL</a:t>
            </a:r>
            <a:br>
              <a:rPr sz="8000"/>
            </a:br>
            <a:endParaRPr b="0" lang="en-US" sz="8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1268280"/>
            <a:ext cx="7858080" cy="501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EPASSES FEDERAIS</a:t>
            </a:r>
            <a:br>
              <a:rPr sz="3500"/>
            </a:br>
            <a:br>
              <a:rPr sz="3500"/>
            </a:br>
            <a:r>
              <a:rPr b="1" lang="pt-BR" sz="35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RANSFERÊNCIAS DE RECURSOS DO FUNDO NACIONAL DE ASSISTENCIA SOCIAL-FNAS</a:t>
            </a:r>
            <a:br>
              <a:rPr sz="3500"/>
            </a:br>
            <a:br>
              <a:rPr sz="3500"/>
            </a:br>
            <a:r>
              <a:rPr b="1" lang="pt-BR" sz="4000" spc="-1" strike="noStrike">
                <a:solidFill>
                  <a:srgbClr val="ff0000"/>
                </a:solidFill>
                <a:latin typeface="Arial"/>
                <a:ea typeface="Arial"/>
              </a:rPr>
              <a:t>R$ 307.437,43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8137440" cy="56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ESPESAS CORRENTES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ENCARGOS SOCIAIS:</a:t>
            </a: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R$ 705.934,49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OUTRAS DESP. CORRENTES: R$ 513.106,16</a:t>
            </a:r>
            <a:br>
              <a:rPr sz="2800"/>
            </a:br>
            <a:br>
              <a:rPr sz="2800"/>
            </a:br>
            <a:r>
              <a:rPr b="1" lang="pt-BR" sz="28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ESPESAS DE CAPITAL</a:t>
            </a:r>
            <a:br>
              <a:rPr sz="2800"/>
            </a:br>
            <a:br>
              <a:rPr sz="2800"/>
            </a:b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INVESTIMENTOS: R$ 349.111,31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TOTAL:                       R$ 1.568.151,96</a:t>
            </a:r>
            <a:br>
              <a:rPr sz="3000"/>
            </a:br>
            <a:endParaRPr b="0" lang="en-US" sz="3000" spc="-1" strike="noStrike">
              <a:solidFill>
                <a:srgbClr val="90c226"/>
              </a:solidFill>
              <a:latin typeface="Trebuchet M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Retângulo 1" descr=""/>
          <p:cNvPicPr/>
          <p:nvPr/>
        </p:nvPicPr>
        <p:blipFill>
          <a:blip r:embed="rId1"/>
          <a:stretch/>
        </p:blipFill>
        <p:spPr>
          <a:xfrm>
            <a:off x="566640" y="1311120"/>
            <a:ext cx="8077320" cy="45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0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Objetivo da Audiência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480" y="2160360"/>
            <a:ext cx="8066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A Audiência Pública é uma das formas de participação e de controle </a:t>
            </a:r>
            <a:r>
              <a:rPr b="1" lang="pt-BR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opular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a Administração Pública no Estado Social e Democrático de Direito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É um instrumento que leva a uma decisão política ou legal com legitimidade e transparência dos atos praticados na Administração</a:t>
            </a:r>
            <a:r>
              <a:rPr b="1" lang="pt-BR" sz="2800" spc="-1" strike="noStrike">
                <a:solidFill>
                  <a:srgbClr val="40404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634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  <a:ea typeface="Arial"/>
              </a:rPr>
              <a:t>Parágrafo 4º do artigo 9º da Lei Complementar nº 101/2000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481040"/>
            <a:ext cx="822960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  texto da  LRF  determina que o Poder Executivo " demonstrará e avaliará o cumprimento das metas fiscais de cada quadrimestre, em audiência pública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nos meses de :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MAI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SETEMBRO 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Arial"/>
              </a:rPr>
              <a:t>FEVEREIRO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A LC nº 101/2000 - LRF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480" y="2160360"/>
            <a:ext cx="785016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500" spc="-1" strike="noStrike">
                <a:solidFill>
                  <a:srgbClr val="404040"/>
                </a:solidFill>
                <a:latin typeface="Arial"/>
                <a:ea typeface="Arial"/>
              </a:rPr>
              <a:t>      </a:t>
            </a:r>
            <a:r>
              <a:rPr b="1" lang="pt-BR" sz="3500" spc="-1" strike="noStrike">
                <a:solidFill>
                  <a:srgbClr val="000000"/>
                </a:solidFill>
                <a:latin typeface="Arial"/>
                <a:ea typeface="Arial"/>
              </a:rPr>
              <a:t>Estabelece normas de finanças públicas voltadas para a responsabilidade na gestão fiscal e dá outras providências.</a:t>
            </a: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5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480"/>
            <a:ext cx="6348600" cy="87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Relatórios Fiscais LRF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609120" y="2160360"/>
            <a:ext cx="813924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pt-BR" sz="3000" spc="-1" strike="noStrike">
                <a:solidFill>
                  <a:srgbClr val="000000"/>
                </a:solidFill>
                <a:latin typeface="Arial"/>
                <a:ea typeface="Arial"/>
              </a:rPr>
              <a:t>A Lei de Responsabilidade Fiscal (LRF), é o principal instrumento regulador das contas públicas no Brasil, estabelecendo metas, limites e condições  para gestão das Receitas e das Despesas e obrigando os Governantes a assumirem compromissos com a arrecadação e gastos públicos. </a:t>
            </a: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41852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4000" spc="-1" strike="noStrike">
                <a:solidFill>
                  <a:srgbClr val="000000"/>
                </a:solidFill>
                <a:latin typeface="Arial"/>
                <a:ea typeface="Arial"/>
              </a:rPr>
              <a:t>A LRF contém os Relatórios de Gestão Fiscal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763452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RREO - Relatório Resumido de Execução Orçamentária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RGF – Relatório de Gestão Fiscal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As informações contidas nesses documentos, além de determinar parâmetros e metas para a administração pública, permitem avaliar com profundidade a gestão fiscal do Poder Executivo.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Arial"/>
              </a:rPr>
              <a:t>A LRF regulamenta o artigo 163 da CF/88. </a:t>
            </a: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571680" y="857160"/>
            <a:ext cx="857232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6700" spc="-1" strike="noStrike">
                <a:solidFill>
                  <a:srgbClr val="000000"/>
                </a:solidFill>
                <a:latin typeface="Arial"/>
                <a:ea typeface="Arial"/>
              </a:rPr>
              <a:t>PODER 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pt-BR" sz="6700" spc="-1" strike="noStrike">
                <a:solidFill>
                  <a:srgbClr val="000000"/>
                </a:solidFill>
                <a:latin typeface="Arial"/>
                <a:ea typeface="Arial"/>
              </a:rPr>
              <a:t>EXECUTIVO</a:t>
            </a: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  <a:p>
            <a:pPr marL="365040"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7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9T20:51:43Z</dcterms:created>
  <dc:creator>.</dc:creator>
  <dc:description/>
  <dc:language>en-US</dc:language>
  <cp:lastModifiedBy>RubensMatos</cp:lastModifiedBy>
  <cp:lastPrinted>2020-02-19T11:22:49Z</cp:lastPrinted>
  <dcterms:modified xsi:type="dcterms:W3CDTF">2020-02-26T17:39:23Z</dcterms:modified>
  <cp:revision>361</cp:revision>
  <dc:subject/>
  <dc:title>JANEIRO  2005</dc:title>
</cp:coreProperties>
</file>