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51280" y="-360"/>
            <a:ext cx="2944800" cy="49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0" y="9378720"/>
            <a:ext cx="2944800" cy="49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51280" y="9378720"/>
            <a:ext cx="2944800" cy="49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975D75-EAC4-48CA-AD71-B1FD8366847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Espaço Reservado para Número de Slide 3"/>
          <p:cNvSpPr/>
          <p:nvPr/>
        </p:nvSpPr>
        <p:spPr>
          <a:xfrm>
            <a:off x="385128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924E24-58FC-47D6-9CCE-F607C2A4ABE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Espaço Reservado para Número de Slide 3"/>
          <p:cNvSpPr/>
          <p:nvPr/>
        </p:nvSpPr>
        <p:spPr>
          <a:xfrm>
            <a:off x="385128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E4565A-9407-458F-8411-9037A8BF3EC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Espaço Reservado para Número de Slide 3"/>
          <p:cNvSpPr/>
          <p:nvPr/>
        </p:nvSpPr>
        <p:spPr>
          <a:xfrm>
            <a:off x="385128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ADBA34-E687-41E2-9C85-42557801711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Espaço Reservado para Número de Slide 3"/>
          <p:cNvSpPr/>
          <p:nvPr/>
        </p:nvSpPr>
        <p:spPr>
          <a:xfrm>
            <a:off x="385128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224AC5-70D3-4A58-81D9-303F803FD29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Espaço Reservado para Número de Slide 3"/>
          <p:cNvSpPr/>
          <p:nvPr/>
        </p:nvSpPr>
        <p:spPr>
          <a:xfrm>
            <a:off x="385128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5695A1-1116-46CF-B244-E0673D9F68B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25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Espaço Reservado para Número de Slide 3"/>
          <p:cNvSpPr/>
          <p:nvPr/>
        </p:nvSpPr>
        <p:spPr>
          <a:xfrm>
            <a:off x="385128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10A345-B47C-4C78-BD09-B60143EE5DB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Espaço Reservado para Número de Slide 3"/>
          <p:cNvSpPr/>
          <p:nvPr/>
        </p:nvSpPr>
        <p:spPr>
          <a:xfrm>
            <a:off x="385128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64205A-5C1B-4726-85C4-B6845D72A6C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Espaço Reservado para Número de Slide 3"/>
          <p:cNvSpPr/>
          <p:nvPr/>
        </p:nvSpPr>
        <p:spPr>
          <a:xfrm>
            <a:off x="385128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C5F367-B0B6-472D-8759-75980C6D937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Espaço Reservado para Número de Slide 3"/>
          <p:cNvSpPr/>
          <p:nvPr/>
        </p:nvSpPr>
        <p:spPr>
          <a:xfrm>
            <a:off x="385128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2FE620-04E2-4A50-B641-3A3BFB8DBA9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Espaço Reservado para Número de Slide 3"/>
          <p:cNvSpPr/>
          <p:nvPr/>
        </p:nvSpPr>
        <p:spPr>
          <a:xfrm>
            <a:off x="385128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A977ED-AAD9-447C-A116-244971C6F99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Espaço Reservado para Número de Slide 3"/>
          <p:cNvSpPr/>
          <p:nvPr/>
        </p:nvSpPr>
        <p:spPr>
          <a:xfrm>
            <a:off x="385128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B5F7F4-5936-449F-836E-F86C5F5B6F0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Espaço Reservado para Número de Slide 3"/>
          <p:cNvSpPr/>
          <p:nvPr/>
        </p:nvSpPr>
        <p:spPr>
          <a:xfrm>
            <a:off x="385128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5E0CD6-D56F-4829-8EB8-455DA80468F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Espaço Reservado para Número de Slide 3"/>
          <p:cNvSpPr/>
          <p:nvPr/>
        </p:nvSpPr>
        <p:spPr>
          <a:xfrm>
            <a:off x="385128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6A5BFE-9D31-48E6-A45E-7D314A23396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Espaço Reservado para Número de Slide 3"/>
          <p:cNvSpPr/>
          <p:nvPr/>
        </p:nvSpPr>
        <p:spPr>
          <a:xfrm>
            <a:off x="385128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4B1F1F-B26F-4DDB-8F7D-48CAD65E0F9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Espaço Reservado para Número de Slide 3"/>
          <p:cNvSpPr/>
          <p:nvPr/>
        </p:nvSpPr>
        <p:spPr>
          <a:xfrm>
            <a:off x="385128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E35375-DA91-4F37-A5FB-722E403E282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Espaço Reservado para Número de Slide 3"/>
          <p:cNvSpPr/>
          <p:nvPr/>
        </p:nvSpPr>
        <p:spPr>
          <a:xfrm>
            <a:off x="385128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DABF11-7D63-406E-80F5-B0A57EAC38D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Espaço Reservado para Número de Slide 3"/>
          <p:cNvSpPr/>
          <p:nvPr/>
        </p:nvSpPr>
        <p:spPr>
          <a:xfrm>
            <a:off x="385128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27C85E-0308-4627-9C10-E0EA0678087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2CE2-C85C-49BE-8631-8C17DC6C0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9E5F-E637-4E21-99B0-14B46ADD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9595A5-6296-4001-B03A-9C1ED28B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798D5C-4F4E-4DB9-9987-E9018A8A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054DC7-8056-49A1-A989-A13ECC7A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3DF0BA-5C14-4C8D-AB1D-3EA5FF87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C3E3F8-D407-47CC-B4AE-4C836AF4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E6C12B-48A9-4E53-8B59-21B0D684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CD667-734E-459F-B00C-E6B1E96A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46070-01B0-4B26-A54E-F7B9673EB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4E47DD-298C-4608-B11D-F4A485D85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1043C-DED9-4834-8D2E-1538CD61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18CF-1B90-444C-B4B8-74F305E77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3255F-1666-484D-86C3-2193D8DB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85EAAB-BEF5-4A4C-81C1-97C49ED4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50CFC0-BC96-4471-A0E3-B53DE1DC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F44D28-3BB9-4DBE-83EB-A089758B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72167C-9A9C-4BCD-A90E-9E273B75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645E0C-5F5A-4A55-B216-2D682C25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CFC9AA-C5AE-48C7-B26C-C049DE85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8F2DD1-3CC5-40FF-BF75-9896E612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9C1562-2C83-4C1A-BF22-8CD05FFB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79F556-A568-4212-ABB0-22E7A30D7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6C62-D74F-4839-A7D7-752839D84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06B97-57DD-4C9F-BF6C-DCE7FC99C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C1C6C-E907-4871-ACBF-F364994BE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75DCF-F3AC-4A45-8D7F-6FFC9A3B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B6DC2-EA08-4424-85D9-FBCE14B8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0D535-CA4D-43DE-9E9A-D8A8E32E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A137D-FB1D-4773-8C95-E856347C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87222-8221-4C73-80B6-BA63BE5F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473BA-25E5-46D6-945D-D82D954F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F8635-BD71-46D3-8D63-720CE675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038CA-11D4-4144-9279-B91A223B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90CC-F3A5-4B41-887A-5B4A57234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2A2EA-CD6E-4C44-8565-93AB7BD2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AF3E7-0719-47B6-B347-D641AF2C5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EF61DE-3FAA-4C32-A708-3AEBE49A0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AF8577-3E70-4937-B1D8-6D6828FF5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96A6DF-E6FD-48CF-B86E-CD8871DB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44A0C8-29D0-43BC-B1CF-7111996B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B69796-EC42-4711-82FE-AD66CE24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E14CC2-07C8-4EEE-8A42-E9D923D0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F562DF-F868-4E87-89EE-CCDC6D35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33D943-EBC1-48A6-AA72-986D82B6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BF514-2481-4AE3-B934-E8C6D5A1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CAAEDB-2BF9-4358-AB00-38A81A11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FB2ED8-996F-4E02-A00F-28AC29DC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71E346-C5BF-4568-A31A-96DB66EA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6994CF-04E2-49C0-808E-884BFEC90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19A2DE-2550-49E3-8B34-48A6FA73D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B6B1F2-FE1B-4056-8FEB-6C2A7CEC5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066F27-21BF-432F-93AB-CD072D02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BB1984-D328-43E6-9A12-85376CA9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C15C9C-CFE0-4233-8439-522CB144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491A2A-B030-4762-8CB7-62BF44AC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A591-8C79-4DD1-90C9-0F7772D7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DFEE0F-6C5F-4C29-8651-D6B2530E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1497D2-D0EF-4AB4-A849-3C045457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F77D66-B32F-4C4A-AC18-B54FDDFF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DDF137-050E-479D-AF2B-5734697E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E07E90-5951-42C5-B86C-0804DB2C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518D4A-DF47-4D42-81F4-038CD3D75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039921-7EBA-4160-8969-F94244F40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44A449-92AD-446B-B196-F364DA2BF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7CA9C2-DA06-44AE-BAD8-E7232E1E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E5B2B5-E294-487E-A0C6-4C74A3F7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05A9-A753-42C0-AA20-ADBE45EA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3CC4F7-473F-43B0-98B4-77717C60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1B0392-BC24-4ED7-A25A-39B97A59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B3B1CF-D584-48B9-9A92-330DD16D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EA24CD-57D5-449B-A80D-957A0F16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9CA23C-A44B-4624-938C-1D37987D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3A4917-5DB5-4C2D-AAB9-64A12EAB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9F44B4-58FC-4022-AE65-46BF3564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68DBE1-4825-4E5E-9619-9C462FEFF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D1CA22-4B45-438F-932F-030C4CD75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C858B7-E4FD-488D-86A0-7A20EC499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CBE8-C1F9-492F-AA57-7B7E2148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8CD824-2206-4650-B961-9F92F062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B58202-1015-496E-B460-D65360C8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E98833-FF9E-42F7-8CB1-D0477662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E9FBC7-7C5F-40E0-ACF7-F3FE26FF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7BD0FE-0B0D-4CC3-B1BD-D93B9FE6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920C0D-661D-4CD6-AD09-12A6B946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B3EE77-9DA1-4180-A856-4ECEB341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2C7214-4A78-4B0E-86EE-D61857D2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C3A712-CCE0-45E5-B814-8C0885D1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ADF775-2556-4344-9209-078F07045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6AC3-5D8B-4F9F-B86D-7792ECBD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295C92-70F8-44F3-B7FD-3AA2D100D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A11B5D-867E-4583-A06A-3A7EAF0E6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B7034F-B56C-40EC-88E5-8E4543F0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FB2EF7-63A5-4FEF-9296-CB1D4B54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969643-9CCC-41B6-8325-2128FCF4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D92459-C9DB-4BC7-9863-50485FAA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8D1A59-6ED4-4E9C-A23C-EAD72A0E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B1B571-97B2-43A1-8213-07E3AF6E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243C6F-D5F3-4F72-9B1D-DC8D8083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36AB24-8D59-4BCE-A079-95AACF25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4656-EA35-4213-9A44-267C4408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35FA0B-4E04-429C-B53E-097DF166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7AE3D4-C1D6-4B24-AF87-705656CB3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C87389-B01D-4174-84E0-CA76A24FA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BF43D7-A31F-4832-868B-D81B34541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512D9B-9D64-4342-BEBF-7397C35C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A6FB34-913F-495B-B8E3-94CE3D63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1FDE5C-4624-48F2-96BE-AAEAF3E2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C728FA-EFEE-4646-8BEC-83574235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1EE71D-EDFB-4123-9CEE-DC3AE931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9D3E79-4721-4CC5-95EE-F797DDAE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AEA0-589A-41D9-A5B5-B3E95374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D0C0-A9F6-4B46-BA5C-D05E7316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DFB1D7-BF77-42FF-BD1A-97F58914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DD7821-B5A5-4BC3-AA5F-BB098932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94E975-16EC-46AF-AB7A-2A5DE7C4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E0DD09-4306-4E41-BCCB-2CAD20F80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568B4C-6512-4472-A032-F24D13E67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87E7-FA22-4908-8E4D-DC1C9905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BAAC-2F06-4711-93AE-39E623AE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EB08-CF55-48AC-831E-7EB534E70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8842-A867-4E66-B6FD-08E47BBAE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A3C74-58A7-42CC-A98D-5C8055C1D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C43CB-4802-4814-9628-64AD25E2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9A4FB-A0E7-48E9-BF46-016CE832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997C8-813C-456D-9D8A-BDF3FAF7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D0F93-F0E4-4FBA-8B6D-26A3B70D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3EC2-0E29-4383-A0FA-0030B579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12BD8-7F78-4336-B148-ED512A5E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43053-D941-4796-AF38-C121197A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AA463-78AE-4F02-986F-C9E784B4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C887F-C243-4B1A-87FB-30E72749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E85E4-FE9A-4129-9FFF-F774450F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BBACF-C7AD-41AD-A28A-0DCF46BD3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46700-BD54-43AA-86C3-48CD178D3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8999B-BF04-4704-A24C-CC83440AE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EB3EF-9842-44D0-8BBC-50B86E21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641CC-5703-4D79-A6D2-5081E889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2FEE-E244-43B2-8AE7-E67D8C87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D43ED-EBD3-4FB6-944B-1D07C860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DA702-1E2C-4D54-9C3B-95537715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DD008-DB42-44EF-B951-53446919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CD9B3-582F-4800-8A94-F08BEA8A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B7DA8-3485-4EB3-8247-AAF09C1F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2363C-E0CD-4963-81C3-13229218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FB4BC-0DB7-4628-A884-040B5234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EBD84-8260-449E-AAF4-D722173D7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6B2B6-B131-4A42-A7FF-FEB379CBE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FAFE7-E049-47AD-B94E-7C529710E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B35F-78D8-4E6C-AA66-BFD04B0C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71BB2-DEFB-4669-910C-74F9584D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353B0-6B02-4CC7-8A87-50EEF4CA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C94E6-23B7-4CDB-A97F-3D1EA4E7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D38F8-6759-475A-A34A-32002857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B345F-E0C3-4986-89FA-58B7167E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1729E-5F40-444A-905C-32668E1F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B573C-7176-4B00-A0C0-2184A4DD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F9F0C-E803-44A3-AC24-43FE0A57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4E380-D8F2-4FAA-9352-2656FFD5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36F84-EA1B-4048-B6D1-D145316B9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9B77-37D4-42C6-8572-32EECC42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37492-627F-4F20-B50F-FF88B9ED0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257E7-6067-4856-8FC0-7F6143C46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7CEAC-EB02-48CE-8D86-0FABEC02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0964C-B0DD-4743-8827-6A60FF95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8B566-0D90-44AB-BFAE-9BFDDB9C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CFB32-D5E8-4250-9746-BDF0204B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7665F-45D4-44D6-BC72-81D6575F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7D190-1519-48D3-968B-D6AA40A2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07105-33FF-416F-BA6E-E0E06882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67B68-E220-4E7D-ABDB-4167069B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624F-B183-4B57-91B8-7F1200D5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1921A-D957-47A5-AC5F-F6A8BFD3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225BC-4A9F-47F8-A341-7D314731B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2665B-D779-43D6-B9A1-FDE0411DA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D9CFE-7E28-4C90-9E7F-BDD8C6C00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A2FBA-1E82-4D1D-B498-0B2B261C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7895B-8905-4378-AE9C-775934B3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B30C0-B710-4444-9E38-0AC357FB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7C8D9-728C-45D2-8158-5A1A7E47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7D3B1-6F05-41B7-BC16-14FC5CD2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D3C35-E9D0-4C9D-B5E4-5A130DA5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2270-0D3E-42F7-B05B-C8DBCFBE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F21B0-0E0A-4FA5-BF96-F27437C7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37069-E7F0-419D-983F-9C2EE915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8793C-D97C-429A-B983-856A3A4F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D92F4-240C-489B-A1C4-4CB21EE8E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E60EC-BE08-46EF-89C2-F7B9D045E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CADE5-1B24-43E9-A4A2-6961C055C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E11CF-002B-4955-9541-0E476649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A0439-DF60-4745-BBE0-C37E8136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83AFF-2357-46B1-8AE8-D94AC2FF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C3286-C813-42A6-BF3E-C6B4B50C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B2D4-6C8A-46F0-AC24-D5C7B7B6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834A0-6DD8-432B-819E-FBFEEB3D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9AEED-8DC1-4F05-B10B-151FD52A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583ED-0F9B-4ECC-B441-A797AA49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D7587-5294-425F-AAF8-4323E405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364D5-8A35-479E-BA58-6A6F2A6C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C0092-B2CF-47B9-A629-92550D8ED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8EBCD-700C-410D-B825-069105786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130D67-99C4-4AA7-AB6E-4A9D0EB49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84832-873D-43A1-B9D5-93DA5ABC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C0B09-D34E-4989-93EC-EAF49AE0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D007F4-B674-4404-86F3-28B9A2624114}" type="slidenum">
              <a:rPr b="0" lang="pt-B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2C6719-1181-4437-9BCC-961946AFE2EC}" type="slidenum">
              <a:rPr b="0" lang="pt-B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>
              <a:gd name="textAreaLeft" fmla="*/ 0 w 1359000"/>
              <a:gd name="textAreaRight" fmla="*/ 1359360 w 1359000"/>
              <a:gd name="textAreaTop" fmla="*/ 360 h 508320"/>
              <a:gd name="textAreaBottom" fmla="*/ 509040 h 50832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6C964A-3D64-4A95-A376-EB8293C406A6}" type="slidenum">
              <a:rPr b="0" lang="pt-B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>
              <a:gd name="textAreaLeft" fmla="*/ 0 w 1359000"/>
              <a:gd name="textAreaRight" fmla="*/ 1359360 w 1359000"/>
              <a:gd name="textAreaTop" fmla="*/ 360 h 508320"/>
              <a:gd name="textAreaBottom" fmla="*/ 509040 h 50832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14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B08A6C-C9C6-4F98-A1C9-AC9A127FEB54}" type="slidenum">
              <a:rPr b="0" lang="pt-B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7672D0-96AA-42C8-9E2E-9A367606C07A}" type="slidenum">
              <a:rPr b="0" lang="pt-B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10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11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B68176-DEF1-4EE8-B60E-9BE1DAF62D71}" type="slidenum">
              <a:rPr b="0" lang="pt-B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67B4FF-75D7-4EDE-8DC1-7D3D04338F0E}" type="slidenum">
              <a:rPr b="0" lang="pt-B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F88150-332A-4F58-8007-991CBC4D5628}" type="slidenum">
              <a:rPr b="0" lang="pt-B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5547B2-9570-4863-A4D5-8A1FD5C59299}" type="slidenum">
              <a:rPr b="0" lang="pt-B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>
              <a:gd name="textAreaLeft" fmla="*/ 0 w 1395360"/>
              <a:gd name="textAreaRight" fmla="*/ 1395720 w 1395360"/>
              <a:gd name="textAreaTop" fmla="*/ 0 h 781200"/>
              <a:gd name="textAreaBottom" fmla="*/ 781560 h 781200"/>
            </a:gdLst>
            <a:ahLst/>
            <a:rect l="textAreaLeft" t="textAreaTop" r="textAreaRight" b="textAreaBottom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05B1BD-E03F-4028-97C4-BBB693FB2343}" type="slidenum">
              <a:rPr b="0" lang="pt-B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8FE1B7-F79C-4E9E-83A2-3F79A11D95C1}" type="slidenum">
              <a:rPr b="0" lang="pt-B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>
              <a:gd name="textAreaLeft" fmla="*/ 0 w 1359000"/>
              <a:gd name="textAreaRight" fmla="*/ 1359360 w 1359000"/>
              <a:gd name="textAreaTop" fmla="*/ 360 h 508320"/>
              <a:gd name="textAreaBottom" fmla="*/ 509040 h 50832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6E4946-EC64-4BC8-BB64-338DD570109D}" type="slidenum">
              <a:rPr b="0" lang="pt-B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D789E4-01A9-4115-ACFF-A01CEABEF97B}" type="slidenum">
              <a:rPr b="0" lang="pt-B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C7A257-2955-425F-B67D-764732D13465}" type="slidenum">
              <a:rPr b="0" lang="pt-B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E40B9E-638D-4FF8-9995-273B7CF89E65}" type="slidenum">
              <a:rPr b="0" lang="pt-B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A9BC81-0A0C-496E-ACEF-810F8C6E26BA}" type="slidenum">
              <a:rPr b="0" lang="pt-B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60B262-FB83-4372-B639-4789B0494AB9}" type="slidenum">
              <a:rPr b="0" lang="pt-B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320240" cy="553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pt-BR" sz="3600" spc="-1" strike="noStrike">
                <a:solidFill>
                  <a:srgbClr val="262626"/>
                </a:solidFill>
                <a:latin typeface="Century Gothic"/>
              </a:rPr>
              <a:t>MUNICIPIO DE TUNEIRAS DO OESTE -PR</a:t>
            </a:r>
            <a:br>
              <a:rPr sz="3600"/>
            </a:b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Century Gothic"/>
              </a:rPr>
              <a:t>AUDIÊNCIA PÚBLICA DA SAÚDE 3º QUADRIMESTRE 2021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84" name="Picture 2" descr="Brasão2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2928960" y="500040"/>
            <a:ext cx="20718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t-BR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02" name=""/>
          <p:cNvGraphicFramePr/>
          <p:nvPr/>
        </p:nvGraphicFramePr>
        <p:xfrm>
          <a:off x="468360" y="692280"/>
          <a:ext cx="8413560" cy="5472000"/>
        </p:xfrm>
        <a:graphic>
          <a:graphicData uri="http://schemas.openxmlformats.org/drawingml/2006/table">
            <a:tbl>
              <a:tblPr/>
              <a:tblGrid>
                <a:gridCol w="1550880"/>
                <a:gridCol w="1116000"/>
                <a:gridCol w="933480"/>
                <a:gridCol w="1557360"/>
                <a:gridCol w="1486080"/>
                <a:gridCol w="1769760"/>
              </a:tblGrid>
              <a:tr h="1049040">
                <a:tc grid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S SAÚDE –RECURSO ESTADU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8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SCRIÇÃO/BLO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ON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NT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LDO QUADRIMESTRE ANTERIO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RRECADADO ATE 31/08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ARRECADADO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11080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OCO DE INVESTIMENT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--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70.146,8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6.403,9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76.550,7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1057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ISTENCIA FARMACEUTICA INVESTIMEN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64-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0.530,7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72,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0.703,7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114948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424.616,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212.320,6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636.936,6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t-BR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04" name=""/>
          <p:cNvGraphicFramePr/>
          <p:nvPr/>
        </p:nvGraphicFramePr>
        <p:xfrm>
          <a:off x="357120" y="476280"/>
          <a:ext cx="8607600" cy="6121440"/>
        </p:xfrm>
        <a:graphic>
          <a:graphicData uri="http://schemas.openxmlformats.org/drawingml/2006/table">
            <a:tbl>
              <a:tblPr/>
              <a:tblGrid>
                <a:gridCol w="1693800"/>
                <a:gridCol w="930240"/>
                <a:gridCol w="1182960"/>
                <a:gridCol w="1550880"/>
                <a:gridCol w="1476360"/>
                <a:gridCol w="1773360"/>
              </a:tblGrid>
              <a:tr h="1039680">
                <a:tc grid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S SAÚDE –RECURSO PRÓPRI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47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/BLO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N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DO QUADRIMESTRE ANTERIO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RECADADO ATE 31/08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ARRECADADO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1123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S VINCULADAS (EC 29/00 - 15%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33-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26.355,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2.121.292,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2.147.647,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870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XAS PODER DE POLIC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81-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6.211,8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41.531,4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57.743,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869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VARA DE LICENÇ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-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3.927,7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60,0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3.987,8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870120"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46.494,7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2.162.883,6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2.209.378,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332000" y="115560"/>
            <a:ext cx="7488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ESPESAS SAÚDE - 3° QUADRIMESTRE DE 2021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539640" y="692280"/>
          <a:ext cx="8209080" cy="5903640"/>
        </p:xfrm>
        <a:graphic>
          <a:graphicData uri="http://schemas.openxmlformats.org/drawingml/2006/table">
            <a:tbl>
              <a:tblPr/>
              <a:tblGrid>
                <a:gridCol w="5699160"/>
                <a:gridCol w="2509920"/>
              </a:tblGrid>
              <a:tr h="517320"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ÇÃ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PESAS NO QUADRIMES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</a:tr>
              <a:tr h="595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ual 15% do Município - conta bancaria 6933-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2.096.921,24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51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 Federal/Estadual- conta bancaria  7176-5, 9704-7 e 10468-x,10-1, 19-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9.450,0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511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 Federal e Estadual(Aih, Teto e mac)-conta bancaria 6942-6, 9560-5 e 10464-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127.587,51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511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 Estadual (Programa Vigiasus)-conta bancaria  00000019-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17.942,12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731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loco de Custeio Serviços de Saúde – Federal  (11709-9) E (624.001-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1.438.491,48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671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oco de Custeio Serviços de Saúde -Federal-conta bancaria 00000016-0, 16-00, 0016-0, 16-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256.801,63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523800">
                <a:tc>
                  <a:txBody>
                    <a:bodyPr lIns="0" rIns="0" tIns="0" bIns="0" anchor="b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xilio Financeiro ações saude-Covid -(00104790-6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35.331,0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544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 Recursos livres -conta bancaria 12081-2 e 6-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56.368,24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784080">
                <a:tc>
                  <a:txBody>
                    <a:bodyPr lIns="0" rIns="0" tIns="0" bIns="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38.893,2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1942920" y="1844280"/>
            <a:ext cx="6599160" cy="352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900" spc="-1" strike="noStrike">
                <a:solidFill>
                  <a:srgbClr val="262626"/>
                </a:solidFill>
                <a:latin typeface="Arial"/>
                <a:ea typeface="Arial"/>
              </a:rPr>
              <a:t>DEMONSTRATIVO RESUMIDO RECEITA/DESPESA E SALDO BANCÁRIO</a:t>
            </a:r>
            <a:endParaRPr b="0" lang="en-US" sz="4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 type="subTitle"/>
          </p:nvPr>
        </p:nvSpPr>
        <p:spPr>
          <a:xfrm>
            <a:off x="1942920" y="4869000"/>
            <a:ext cx="6599160" cy="12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t-BR" sz="18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9" name=""/>
          <p:cNvGraphicFramePr/>
          <p:nvPr/>
        </p:nvGraphicFramePr>
        <p:xfrm>
          <a:off x="395280" y="333360"/>
          <a:ext cx="8569440" cy="6291360"/>
        </p:xfrm>
        <a:graphic>
          <a:graphicData uri="http://schemas.openxmlformats.org/drawingml/2006/table">
            <a:tbl>
              <a:tblPr/>
              <a:tblGrid>
                <a:gridCol w="1714680"/>
                <a:gridCol w="1712880"/>
                <a:gridCol w="1714320"/>
                <a:gridCol w="1712880"/>
                <a:gridCol w="1714680"/>
              </a:tblGrid>
              <a:tr h="685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ÇÃ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DO DO QUADRIMESTRE  ANTERI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ECADADO QUADRIMES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PESAS QUADRIMES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DO PARA O QUADRIMESTRE SEGUIN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</a:tr>
              <a:tr h="531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ual 15% do Município - conta bancaria 6933-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26.355,1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2.121.292,15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2.096.921,24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  50.726,01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669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 Federal -Atenção Básica-conta bancaria 7175-7 E 11065-5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203.193,69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3.337,77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         -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 206.531,46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881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 Federal/Estadual- conta bancaria  7176-5, 9704-7 e 10468-x, 10-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87.907,61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1.296,9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9.450,0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  79.754,51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703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 Estadual- Assistência Farmaceutica-conta bancaria 9437-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     124,63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    2,05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         -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       126,68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531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 Estadual -Atenção Básica-conta bancaria 410-7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     844,41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  12,91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         -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       857,32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703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 de Requalificação de UBS - Construção -conta bancaria10080-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     645,4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  10,6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         -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       656,0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704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ção Unidade Saúde da Familia-Construção -conta bancaria10153-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     815,64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  13,4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         -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       829,04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879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 Federal e Estadual(Aih, Teto e mac)-conta bancaria 6942-6, 9560-5 e 10464-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19.605,49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142.675,6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127.587,51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  34.693,58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0" name=""/>
          <p:cNvGraphicFramePr/>
          <p:nvPr/>
        </p:nvGraphicFramePr>
        <p:xfrm>
          <a:off x="179280" y="189000"/>
          <a:ext cx="8785440" cy="663732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744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ÇÃ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DO DO QUADRIMESTRE  ANTERI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ECADADO QUADRIMES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PESAS QUADRIMES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DO PARA O QUADRIMESTRE SEGUIN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</a:tr>
              <a:tr h="560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 Federal (Gestão do SUS)-conta bancaria 8258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  8.623,87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141,66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         -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    8.765,53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747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 Estadual (Assistência Farmaceutica/Invest.)-conta bancaria  10164-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10.530,73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172,99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         -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  10.703,72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838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 Estadual (Programa Vigiasus)-conta bancaria  00000019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170.146,82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6.403,94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17.942,12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 158.608,64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733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 Federal (Equip. Unidades de Saúde)-conta bancaria 10644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34.567,8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567,83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         -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  35.135,63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747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 Estaual de Qualificação dos Conselheiros Municipais-conta bancaria 015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  1.490,69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  22,78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         -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    1.513,47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749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oco de Investimento Serviços de Saúde - Federal -conta bancaria 11718-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33.317,13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547,29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         -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  33.864,42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747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oco de Custeio Serviços de Saúde Federal-conta bancaria 11709-9 e 624.001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1.351.209,55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816.102,77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1.438.491,48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 728.820,84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7682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oco de Custeio Serviços de Saúde -Federal-conta bancaria 00000016-0, 16-00, 0016-0, 16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152.780,66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204.396,03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256.801,63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 100.375,06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1" name=""/>
          <p:cNvGraphicFramePr/>
          <p:nvPr/>
        </p:nvGraphicFramePr>
        <p:xfrm>
          <a:off x="395280" y="404640"/>
          <a:ext cx="8497800" cy="6121440"/>
        </p:xfrm>
        <a:graphic>
          <a:graphicData uri="http://schemas.openxmlformats.org/drawingml/2006/table">
            <a:tbl>
              <a:tblPr/>
              <a:tblGrid>
                <a:gridCol w="1944720"/>
                <a:gridCol w="1584360"/>
                <a:gridCol w="1439640"/>
                <a:gridCol w="1656000"/>
                <a:gridCol w="1873080"/>
              </a:tblGrid>
              <a:tr h="93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ÇÃ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DO DO QUADRIMESTRE  ANTERI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ECADADO QUADRIMEST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PESAS QUADRIMEST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DO PARA O QUADRIMESTRE SEGUIN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</a:tr>
              <a:tr h="1079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xilio Financeiro ações saude-Covid -conta bancaria 00104790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35.409,76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       -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35.331,0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         78,76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77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pliação UBS Aparecida do Oeste-conta bancaria 11777-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  8.258,45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135,66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         -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    8.394,11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971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ademia de saúde-conta bancaria-conta bancaria 624002-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136.529,89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2.087,19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         -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 138.617,08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776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amentos para UBS -conta bancaria 11455-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11.259,52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184,96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         -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  11.444,48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808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ta Recursos livres -conta bancaria 12081-2 e 6-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20.139,64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41.591,51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56.368,24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    5.362,91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776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13.756,48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40.995,99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38.893,22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15.859,25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609120" y="549000"/>
            <a:ext cx="821052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RESTOS A PAGAR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13" name=""/>
          <p:cNvGraphicFramePr/>
          <p:nvPr/>
        </p:nvGraphicFramePr>
        <p:xfrm>
          <a:off x="324000" y="1268280"/>
          <a:ext cx="8569080" cy="5256360"/>
        </p:xfrm>
        <a:graphic>
          <a:graphicData uri="http://schemas.openxmlformats.org/drawingml/2006/table">
            <a:tbl>
              <a:tblPr/>
              <a:tblGrid>
                <a:gridCol w="5040000"/>
                <a:gridCol w="3529080"/>
              </a:tblGrid>
              <a:tr h="67788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OS A PAGAR  INSCRITOS EM 2021 PAGOS ATE 31/12/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64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O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A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677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ÚDE 15% - FONTE 10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245,00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1525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OCO DE CUSTEIO DAS AÇÕES E SERVIÇOS PÚBLICOS DE SAÚDE – FEDERAL – FONTE 4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.751,50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1022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XAS PODER POLICIA E SERVIÇOS –FONTE 11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83,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676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2.179,52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539280" y="907560"/>
            <a:ext cx="8425080" cy="331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Arial"/>
                <a:ea typeface="Arial"/>
              </a:rPr>
              <a:t>APLICAÇÕES EM SAÚDE</a:t>
            </a:r>
            <a:endParaRPr b="0" lang="en-US" sz="6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subTitle"/>
          </p:nvPr>
        </p:nvSpPr>
        <p:spPr>
          <a:xfrm>
            <a:off x="1942920" y="4776480"/>
            <a:ext cx="6599160" cy="11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t-BR" sz="18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5628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DEMONSTRATIVO DOS GASTOS EM SAÚDE PÚBLICA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188" name=""/>
          <p:cNvGraphicFramePr/>
          <p:nvPr/>
        </p:nvGraphicFramePr>
        <p:xfrm>
          <a:off x="609480" y="1700280"/>
          <a:ext cx="8066160" cy="4968720"/>
        </p:xfrm>
        <a:graphic>
          <a:graphicData uri="http://schemas.openxmlformats.org/drawingml/2006/table">
            <a:tbl>
              <a:tblPr/>
              <a:tblGrid>
                <a:gridCol w="4249800"/>
                <a:gridCol w="3816360"/>
              </a:tblGrid>
              <a:tr h="693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MITES CONSTITUCIONA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APLI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</a:tr>
              <a:tr h="693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OR APLI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6.227.310,42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693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PESA MINIMA A SER APLIC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4.171.310,23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1728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ERENÇA ENTRE O VALOR APLICADO E DESPESA SER APLIC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 2.056.000,19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1158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IMO DE 15% DAS RECEITAS DE IMPOSTOS EC- 29/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,3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1331640" y="691920"/>
            <a:ext cx="756108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262626"/>
                </a:solidFill>
                <a:latin typeface="Arial"/>
                <a:ea typeface="Arial"/>
              </a:rPr>
              <a:t>MONTANTE DOS RECURSOS RECEBIDOS ATÉ 31/12/2021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539640" y="2205000"/>
            <a:ext cx="8353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SALDO QUADRIMESTRE ANTERIOR + ARRECADADO ATE 31/12 =MONTANTE TOTA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REPASSE FEDERAL:                                           R$  2.808.437,39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REPASSE ESTADUAL:                                         R$     636.936,68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RECURSOS PROPRIOS MUNICIPIO:                  R$  2.209.378,40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TOTAL REPASSES:                            R$ 5.654.752,47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t-BR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192" name=""/>
          <p:cNvGraphicFramePr/>
          <p:nvPr/>
        </p:nvGraphicFramePr>
        <p:xfrm>
          <a:off x="324000" y="320760"/>
          <a:ext cx="8712000" cy="6203880"/>
        </p:xfrm>
        <a:graphic>
          <a:graphicData uri="http://schemas.openxmlformats.org/drawingml/2006/table">
            <a:tbl>
              <a:tblPr/>
              <a:tblGrid>
                <a:gridCol w="3187440"/>
                <a:gridCol w="878040"/>
                <a:gridCol w="1089000"/>
                <a:gridCol w="1235160"/>
                <a:gridCol w="1015920"/>
                <a:gridCol w="1306440"/>
              </a:tblGrid>
              <a:tr h="995400">
                <a:tc grid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S SAÚDE -</a:t>
                      </a:r>
                      <a:r>
                        <a:rPr b="1" lang="pt-BR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 FEDER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8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/BLO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N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DO QUADRIMESTRE ANTERIO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RECADADO ATE 31/08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ARRECADADO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887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XILIO FINANCEIRO-COVID19(AÇÃO SOCIAL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04790-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35.409,7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0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35.409,7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7002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ÃO DO SU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58-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8.623,8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41,6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8.765,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5382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QUALIFICAÇÃO DA UBS-CONSTRUÇÃ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48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80-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645,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0,6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656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5382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S/FNS/ATENÇÃO BASIC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49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75-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21.835,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358,6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22.193,8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5382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AMENTOS ATENÇÃO BAS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49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65-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81.358,5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2.979,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84.337,6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5382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I/AIH HOSPITALAR (ALTA E MEDIA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4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42-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8.611,2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42.659,2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61.270,5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539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TA E MEDIA COMPLEXIDADE-MA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4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60-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603,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9,9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613,4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t-BR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194" name=""/>
          <p:cNvGraphicFramePr/>
          <p:nvPr/>
        </p:nvGraphicFramePr>
        <p:xfrm>
          <a:off x="324000" y="260280"/>
          <a:ext cx="8640720" cy="6264360"/>
        </p:xfrm>
        <a:graphic>
          <a:graphicData uri="http://schemas.openxmlformats.org/drawingml/2006/table">
            <a:tbl>
              <a:tblPr/>
              <a:tblGrid>
                <a:gridCol w="3160440"/>
                <a:gridCol w="871560"/>
                <a:gridCol w="1008000"/>
                <a:gridCol w="1224000"/>
                <a:gridCol w="1224000"/>
                <a:gridCol w="1152720"/>
              </a:tblGrid>
              <a:tr h="1152720">
                <a:tc grid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S SAÚDE -</a:t>
                      </a:r>
                      <a:r>
                        <a:rPr b="1" lang="pt-BR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 FEDER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1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/BLO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N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DO QUADRIMESTRE ANTERIO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RECADADO ATE 31/08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ARRECADADO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860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OCO VIGILANCIA SANITARI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4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76-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8.674,2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42,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8.816,7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6094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QUISIÇÃO UNIDADE MOVEL DE SAUD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718-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33.317,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547,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33.864,4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5209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AMENTOS PARA A UB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55-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1.259,5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84,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1.444,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5223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AMENTOS UNIDADE BASICA DE SAUD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44-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34.567,8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567,8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35.135,6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522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OCO DE CUSTEIO FEDER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709-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50.346,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558.376,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608.722,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5223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OCO DE CUSTEIO FEDER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4001-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91.697,3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7.726,5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99.423,9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5223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ENDAS PARLAMENTARES-CUSTEIO FEDERAL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0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4001-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59.533,4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0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59.533,4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t-BR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196" name=""/>
          <p:cNvGraphicFramePr/>
          <p:nvPr/>
        </p:nvGraphicFramePr>
        <p:xfrm>
          <a:off x="324000" y="404640"/>
          <a:ext cx="8640720" cy="6118560"/>
        </p:xfrm>
        <a:graphic>
          <a:graphicData uri="http://schemas.openxmlformats.org/drawingml/2006/table">
            <a:tbl>
              <a:tblPr/>
              <a:tblGrid>
                <a:gridCol w="2879640"/>
                <a:gridCol w="720720"/>
                <a:gridCol w="1008000"/>
                <a:gridCol w="1368360"/>
                <a:gridCol w="1295640"/>
                <a:gridCol w="1368360"/>
              </a:tblGrid>
              <a:tr h="1521000">
                <a:tc grid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S SAÚDE -</a:t>
                      </a:r>
                      <a:r>
                        <a:rPr b="1" lang="pt-BR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 FEDER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/BLO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N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DO QUADRIMESTRE ANTERIO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RECADADO ATE 31/08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ARRECADADO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944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ENDAS PARLAMENTARES-CUSTEIO FEDERAL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0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709-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530.000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250.000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780.000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11350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STEIO DE AÇOES -COVI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0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24001-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519.632,7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0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519.632,7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689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ADEMIA DE SAUDE (624002-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4002-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36.529,8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2.087,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38.617,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885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.842.645,6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965.791,7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2.808.437,3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t-BR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198" name=""/>
          <p:cNvGraphicFramePr/>
          <p:nvPr/>
        </p:nvGraphicFramePr>
        <p:xfrm>
          <a:off x="406440" y="554040"/>
          <a:ext cx="8413560" cy="5970600"/>
        </p:xfrm>
        <a:graphic>
          <a:graphicData uri="http://schemas.openxmlformats.org/drawingml/2006/table">
            <a:tbl>
              <a:tblPr/>
              <a:tblGrid>
                <a:gridCol w="1717560"/>
                <a:gridCol w="935280"/>
                <a:gridCol w="1368360"/>
                <a:gridCol w="1587240"/>
                <a:gridCol w="1403640"/>
                <a:gridCol w="1401480"/>
              </a:tblGrid>
              <a:tr h="731880">
                <a:tc grid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S SAÚDE –RECURSO ESTADU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8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SCRIÇÃO/BLO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ON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NT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LDO QUADRIMESTRE ANTERIO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RRECADADO ATE 31/08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ARRECADADO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4572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SSISTENCIA FARMACEUT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437-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24,6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2,0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26,6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685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RONAVIRUS RESOLUÇÃO 356/20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0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--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4.828,4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0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4.828,4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685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ÇÕES DO CORONAVÍRUS (COVID-19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02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-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R$ 2.232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R$ 0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2.232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685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SSISTENCIA FARMACEUTICA ESTADU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49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16-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.330,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0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.330,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593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OCO DE CUSTEIO FEDER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9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--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34.389,3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204.396,0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338.785,3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685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NSTRUÇÃO UNIDADE DE SAUDE DA FAMIL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4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153-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815,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3,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829,0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685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UNDO MUNICIPAL DE SAUDE (ATENÇÃO BASICA ESTADUAL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49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00000410-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844,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2,9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857,3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t-BR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00" name=""/>
          <p:cNvGraphicFramePr/>
          <p:nvPr/>
        </p:nvGraphicFramePr>
        <p:xfrm>
          <a:off x="406440" y="260280"/>
          <a:ext cx="8413560" cy="6340680"/>
        </p:xfrm>
        <a:graphic>
          <a:graphicData uri="http://schemas.openxmlformats.org/drawingml/2006/table">
            <a:tbl>
              <a:tblPr/>
              <a:tblGrid>
                <a:gridCol w="1550880"/>
                <a:gridCol w="1116000"/>
                <a:gridCol w="933480"/>
                <a:gridCol w="1557360"/>
                <a:gridCol w="1486080"/>
                <a:gridCol w="1769760"/>
              </a:tblGrid>
              <a:tr h="681120">
                <a:tc grid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S SAÚDE –RECURSO ESTADU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9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SCRIÇÃO/BLO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ON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NT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LDO QUADRIMESTRE ANTERIO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RRECADADO ATE 31/08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ARRECADADO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7189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UNDO MUNICIPAL DE SAUDE-MA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4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464-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390,6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6,4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397,0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685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PLIAÇÃO DA UBS DE APARECIDA DO OES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777-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8.258,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35,6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8.394,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623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GIA/SUS CUSTE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4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68-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8.339,7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36,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8.476,7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625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S-VIGIA/SU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04-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44.858,8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736,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45.595,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914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 ESTADUAL DE QUALIICAÇÃO DOS CONSELH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-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.490,6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22,7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.513,4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685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GIA/SUS CUSTEIO (VIGILANCIA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--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24.996,9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280,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25.277,4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685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O DE INVESTIMENTO VIGIA SU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--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.037,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0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.037,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9T20:51:43Z</dcterms:created>
  <dc:creator>.</dc:creator>
  <dc:description/>
  <dc:language>en-US</dc:language>
  <cp:lastModifiedBy>AndreaOliveira</cp:lastModifiedBy>
  <cp:lastPrinted>2021-09-29T18:47:02Z</cp:lastPrinted>
  <dcterms:modified xsi:type="dcterms:W3CDTF">2022-02-24T14:54:54Z</dcterms:modified>
  <cp:revision>603</cp:revision>
  <dc:subject/>
  <dc:title>JANEIRO  2005</dc:title>
</cp:coreProperties>
</file>