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28588-A249-43C4-BA3C-6619656EE4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4C679-3AE9-47A8-A83C-A9CE3DB4AD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EC060-21EC-40C0-B906-24AE90FA92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2A186-0B21-43F4-BCE0-A14415513C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A5665-B2CD-4164-B5C9-3CAD26BE80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5C1D6-E00B-4817-B28D-C076623B01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C02-6BE7-4955-9923-ECFB1963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585-70C3-477C-ACB6-BA9CFA97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C1C-7545-468C-8BDA-D9341B74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1CF-810B-4BBD-A08C-7EE6A0F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A12E-222F-4592-9C3D-ABAD92CD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232-613B-40B6-82CA-140089C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FA4-F934-4ABA-9A16-0D10AA7E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42C-8861-4A4B-9649-3F06B68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C27B-AEDF-4371-9FD6-A6A1D88E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EA8-E3FC-4692-8CE6-98ACD4E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825-D658-42E8-8DF1-01D04A6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887-7AC3-47F0-A662-DE00F96C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9FB0-3D76-491C-9DDF-EE9C293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9EE3-DCF2-4438-995E-DA52141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50E6-8ADF-4427-8407-92318187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7A1-908B-424C-BB8B-C5E30AED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202-99DE-40F6-BE92-5C382B5E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DFBAE-6B71-4A9F-957F-39D7602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F61E4-8552-4965-BC4E-D1F8D42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F9B2E-5EE2-42C9-9853-C013171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DA4FE-7CA8-4E43-A961-7722306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304AD-E746-41D3-BDC5-19FC631B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344-B439-436F-B5F9-31E3B32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377BD-A25B-4750-87AC-45FDD230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890CD-FB7B-4FB5-A62B-A437E26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F3823-7989-4352-A422-1EFDE0B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B9D0F-56C3-40C9-8967-2428818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E434E-C2DB-4F4F-BE03-B48315DB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AE37A-067F-41D2-A2D4-0812E39B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62E2E-04D8-43A2-9DED-2C8DB27B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E559-8912-4B1E-BEBD-BEE74D5C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E336-5A62-4FD8-B212-BFD5893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1433-4DF6-4EF8-85BC-B96F208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12D-4FA0-4FEC-840A-EA704E5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F37E-2C9C-4457-8D40-C9BC592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414D-73BB-48BD-A3FF-DD7B4C28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B472-AE02-461A-8694-0928291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3B01-D76E-4F90-9879-2DD9B78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4E23-E8D5-4028-A016-FE9270F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3DD7-6509-4094-9505-03838645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6F4E-8C54-4C35-BF5C-03D12F72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4FB6-6446-4FA9-96AE-84507CE8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994B-22BA-44C6-912E-869F537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5960D-99E1-4119-B0A6-1D96BCBC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41C-FA20-48D2-B739-D110E4A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72128-E3D7-4C83-994B-FAFDDA12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083DB-6E77-4FEE-94E3-23AF4FE2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4A7D7-072D-47D1-8729-6230698C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7C578-6591-4FBD-9A8F-50DE48E5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9DAC9-33B9-4CEA-8944-B1AC733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C9215-20B2-4C8A-9C21-437FA78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F9838-9614-4849-A908-3D44554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6C3BD-6B04-4A17-995D-42E5F81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EE858-C386-482D-BC40-82E009F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0E2F4-A971-45ED-A628-5F850532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671-FF98-442B-84F7-7FC22835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88959-16FA-437E-8462-BBCAE108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D8D8D-F8B4-4328-8656-D2989110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4DBE4-E9F5-4412-A227-065EE24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BF7A1-B850-4311-8511-DD03286C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AF250-89F1-48BB-9E0C-4D78FE24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81304-E3DF-4ADC-867D-C215732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96CD6-7534-44CF-9B5A-DE6BEA8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5695D-5C2A-41AD-B2B7-ED933EF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26DE2-48DA-4292-8CDB-F42120D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33845-3F87-483F-966C-5ADD550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B8F-4FE3-4B0C-AA34-BB8EB4A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C52F9-E306-4A22-B5A1-4F0D207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BCC9A-66C0-4C0A-AD41-17735F7D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D2901-013A-4B39-8CB6-5B9B62E6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601BC-8763-4636-89FB-49DC64CF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2EAA5-5022-4944-8803-1A8E9BE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7F9CE-9665-4D88-B22B-D994B9C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1D080-F042-4A98-9224-3E38532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4D629-C75B-4F45-B693-BEBDE68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4126F-67E6-4811-A072-4E4BF4A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FB54F-F2B4-4C71-9D1C-217728D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9AC-24B7-4D20-B3E4-049B811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1A428-4391-42FC-B93F-D013DB1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16DE0-8597-4992-9B4D-002BB2D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1F68B-0634-4992-BFA2-E9B9232F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4AC52-9FF6-4F51-A86F-97B5A798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23FF9-5E72-43E1-AB90-A120379B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BF4-BC5D-4452-B819-4B42CCA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1E99A-D037-42CB-AFD5-1B264EDA3E3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75EF8-9A54-4256-8690-698D7BE2A2D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90671-E948-407D-8932-B03CCBADDC4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B25E7-E395-4DAB-B03D-795D10526B9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857CA-6A7D-40AB-901F-839DF75FEA0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8E0CF-9CF5-4330-B46B-DE246788F9F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C559A-2CA1-471E-8985-0174E25C291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692280"/>
            <a:ext cx="7358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575f6d"/>
                </a:solidFill>
                <a:latin typeface="Arial"/>
                <a:ea typeface="Arial"/>
              </a:rPr>
              <a:t>MUNICIPIO DE TUNEIRAS DO OESTE -PR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130040" y="4076640"/>
            <a:ext cx="7442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AUDIÊNCIA PÚBLICA  3º QUADRIMESTRE 202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28800" y="0"/>
            <a:ext cx="1411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56760"/>
            <a:ext cx="7677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3840" y="2276640"/>
            <a:ext cx="8472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........R$   28.787.664,7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........R$    7.322.527,28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.............25,44%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Valor Exigido..............................R$   7.196.916,1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(mín. 25% s/ Receita de Imposto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Valor Aplicado............................R$  7.322.527,2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(-)Diferença..................................R$     125.611,0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RECEITAS EDUCAÇÃ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S FUNDEB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RECEITAS RECEBIDAS DO FUNDEB..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......R$5.128.259,41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RECURSOS RECEBIDOS EXERCICIOS ANTERIORES (FUNDEB) ............................................................R$  130.727,95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E RECURSOS DO FUNDEB DISPONIVEL PARA UTILIZAÇÃO...........................R$ 5.258.987,36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DESPESAS EDUCAÇÃ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42680"/>
            <a:ext cx="8115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S FUNDEB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FISSIONAIS DA EDUCAÇÃO BASICA:........R$ 3.538.853,8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ducação infantil ...............................................R$    525.313,5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sino Fundamental..........................................R$ 3.013.540,3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 ...........................................R$ 1.260.883,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DESPESAS..............R$ 4.799.736,8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75f6d"/>
                </a:solidFill>
                <a:latin typeface="Arial"/>
                <a:ea typeface="Arial"/>
              </a:rPr>
              <a:t>RECEITAS ADICIONAIS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2356920"/>
            <a:ext cx="80438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ALÁRIO EDUCAÇÃO..........................R$  355.358,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NAE........................................................R$ 122.029,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NATE......................................................R$   20.786,8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UTRAS TRANSF. DO FNDE................R$      1.012,9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CEITA DE TRANSF. DE CONV.:         R$  10.205,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UTRAS RECEITAS FINC. ENSINO       R$  67.628,2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AS RECEITAS ADICIONAIS   R$ 577.021,09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85816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O MUNICÍPIO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7120" y="242892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R$ 4.508.818,0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RSÕES:..................R$               0,0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..........R$    190.782,95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R$   3.405.950,9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71524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85840" y="1988640"/>
            <a:ext cx="885816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          R$ 1.330.224,3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          R$    134.414,2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          R$    182.403,7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          R$  4.791.666,67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GENCIA DE FOMENTO      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    974.242,62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 R$   7.412.951,5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462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4920" y="2565000"/>
            <a:ext cx="821844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.........R$  4.121.182,5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.:.............R$  3.523.752,5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AIS OBRIGAÇÕES:.....R$    83.709,5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R$  7.728.644,6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TOS A PAGAR PROCESSADOS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121.741,5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TOS A PAGAR NÃO PROCESSADOS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176.435,45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RESTOS  A PAGAR ....................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298.176,9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1056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3° QUADRIMEST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s Primárias: R$ 36.285.601,3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esas Primárias: R$ 4.191.589,5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 R$ 3.474.300,3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714680"/>
            <a:ext cx="7467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3° QUADRIMEST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3.039.267,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79280" y="642960"/>
            <a:ext cx="8964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3° QUADRIMESTRE 2021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L-ESTADUAL</a:t>
            </a:r>
            <a:endParaRPr b="0" lang="en-US" sz="3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714680"/>
            <a:ext cx="7859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DE RECURSOS DO FUNDO NACIONAL DE ASSISTENCIA SOCIAL-FNA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3° QUADRIMESTRE............. R$   39.345,32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JAN A DEZ/2021............       R$ 100.220,4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S QUADRIMEST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95280" y="1181160"/>
          <a:ext cx="8318520" cy="5419800"/>
        </p:xfrm>
        <a:graphic>
          <a:graphicData uri="http://schemas.openxmlformats.org/drawingml/2006/table">
            <a:tbl>
              <a:tblPr/>
              <a:tblGrid>
                <a:gridCol w="4159080"/>
                <a:gridCol w="41594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080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DE PROTEÇÃO SOCIAL BASICA  (FONTE 9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8.836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920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O FIXO MEDIA COMPLEXIDADE MAC FN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NTE 9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55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67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GESTÃO DO SU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NTE 9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4.106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24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DE GESTÃO DO PROGRAMA BOLSA FAMILIA E DO CADASTRO ÚNIC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NTE 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5.8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52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39.345,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S QUADRIMEST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4200" y="1484280"/>
            <a:ext cx="8429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..................................... R$ 277.807,3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UBVENÇOES SOCIAIS:........................................R$ 31.852,2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 DE CONSUMO:.....................................R$ 96.373,9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 TERCEIRO PF:.................................... R$ 17.261,0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 TERCEITOS PJ:.................................. R$ 48.150,5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RIGAÇOES TRIBUTARIAS: ...................................R$ 778,5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XILIOS FINANCEIROS, PASSAGENS: ..................R$ 522,1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 PERMANENTE E EQUIPAMENTOS...... R$ 1.198,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.......................................R$ 473.943,8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5640" y="1557000"/>
            <a:ext cx="6172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Century Schoolbook"/>
              </a:rPr>
              <a:t>AGRADECEMOS A PRESENÇA DE TODOS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575f6d"/>
                </a:solidFill>
                <a:latin typeface="Century Schoolbook"/>
              </a:rPr>
              <a:t> ABERTO A PERGUNTAS....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575f6d"/>
                </a:solidFill>
                <a:latin typeface="Century Schoolbook"/>
              </a:rPr>
              <a:t>FIM!!!!!!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66/2021 – TCE-P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714680"/>
            <a:ext cx="8077320" cy="43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677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49080" y="2000160"/>
            <a:ext cx="7954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IODO: JAN A DEZ/20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42.082.371,87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4.359.733,8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R$ 37.851.256,14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REALIZAD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3°QUADRIMESTRE:.........R$ 14.205.908,4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760" y="141300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IODO: JAN A DEZ/20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...R$   40.585.523,87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pesa Atualizada.....R$   46.722.780,47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pesa Empenhada...R$   35.075.064,84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pesa Liquidada.......R$  34.093.961,98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....R$  33.429.968,76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PESAS 3°QUADRIMESTRE : R$ 12.821.033,41(LIQUIDADAS)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 (QUADRIMESTRAL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R$ 14.205.908,49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R$ 12.821.033,41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R$   1.384.875,08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0308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8748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  <a:ea typeface="Arial"/>
              </a:rPr>
              <a:t>EXERCÍCIO MÓVEL (01/2021 À 12/2021)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700" spc="-1" strike="noStrike">
                <a:solidFill>
                  <a:srgbClr val="000000"/>
                </a:solidFill>
                <a:latin typeface="Arial"/>
                <a:ea typeface="Arial"/>
              </a:rPr>
              <a:t>R$ 33.747.281,20</a:t>
            </a:r>
            <a:endParaRPr b="0" lang="en-US" sz="5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673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03268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º Quadrimestre/2021 – ULTIMOS 12 MESE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 ajustada..........................R$ 33.747.281,20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.....R$ 15.331.095,9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..........................45,43%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LIMITE MAXIMO:.......................................................... 54%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LIMITE PRUDENCIAL:................................................. 51,30%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LIMITE DE ALERTA:.................................................... 48,60% (90% LIM, MAX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Contabilidade</cp:lastModifiedBy>
  <cp:lastPrinted>2021-09-29T12:18:59Z</cp:lastPrinted>
  <dcterms:modified xsi:type="dcterms:W3CDTF">2022-02-25T11:21:18Z</dcterms:modified>
  <cp:revision>796</cp:revision>
  <dc:subject/>
  <dc:title>JANEIRO  2005</dc:title>
</cp:coreProperties>
</file>