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4A7E-5415-4C87-A172-97B92A5A66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CB14-7E4B-409D-9FC1-EB007C553FE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Espaço Reservado para Número de Slide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C837-A024-457E-BEFD-29DE8EAAA0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BBFC-347D-4629-8823-070370A97B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C0D-BD5E-4632-B3DE-6649BCBC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48C-2B26-4B78-BBD1-5BFC35BB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FF1-F292-484C-9D12-32F01AC7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D25-AFA5-46C0-A496-E58AA239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993C-B7A0-4B91-A14B-02A5EE7B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95B-3BF4-42C8-B0CB-19956AA3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02FE-F478-42BC-901D-9ABBB9FA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0BA2-A610-4DA4-A9E6-B23089B9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C414-32E5-46DA-86D5-B4F9D9D9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ABB0-7596-4271-BBF9-305151F4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E2B6-D9A0-4AFE-A2D2-4792301E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A29-F4E1-406B-9203-7CD0B396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00AE-701D-4627-83A5-E93A050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3D98-9C71-4FAB-BE07-E520204F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1E92-C507-4979-A65E-79576A37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B0A7-8A2C-4932-A9E4-BEFC9A55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61F9-5289-4FCF-B838-99852C5B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339F-0055-4021-817D-64F13959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7B22-4748-4B80-BF99-095072E3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F8E6-4BA6-4DA4-AEEA-AA7A6936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9677-5F84-4EE4-A5F2-820C74B6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46E7-402E-437F-81CC-7F803FFC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175-0D8E-431B-939A-88B82744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EE56-BA34-497E-8A26-F648DC52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AF11-7B4D-4C07-9DD8-DB43C69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C224-1721-4BD3-9D76-10C039A3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AEA7-143A-4BD2-8F4E-144BCFF8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C173-A1D8-419F-807C-2D1CCD41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B84E-FDFD-41F1-A1E5-DADBCE49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29A7-51D6-4E9C-A0EF-422B5DBD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3787-CAAB-49F5-BC69-887AC41C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B8BB-FE7A-457F-AFF0-42A36CF1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DEFD-38E8-4E01-8E26-934DA5CB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A99-6BD8-4190-8621-8EE0A04A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FF49-FADD-452F-B26C-17597941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8438-1697-40D1-8D3E-84522555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131A-8FF7-4D79-B8EB-BEB8458D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0730-81E9-4AA4-95A2-0AECA335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840D-3927-42EB-B489-CA0475A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2152-22BE-4C4D-8562-EA105D8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DA4E-1897-4D5A-82F5-BD0E9E49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8E77-6EB2-47B2-82D6-B17BEACD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75CE7-832F-47D9-B71B-F06A020C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DC457-B6C6-4103-B130-4D57C98F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CAA-0B41-40A7-A10D-A06BE6DA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FB36F-E07B-4514-9F92-EF774BA1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6D5C5-7C23-4E66-8C4D-C12636DA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02C7-5697-488B-9EAF-ECC5B981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73ABD-06C0-457C-92C3-B4AD81DD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21031-B931-4A67-99C8-37430708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F163B-EEEA-420C-9736-8AF6262A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B441E-2E66-4170-BA8F-9F768AB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67A17-F541-4D30-82C7-E09A4FC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EF070-1ED3-449F-A3B3-D6320615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FD23-1F57-4CD4-95B4-A837CCDE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A56-9FF9-413B-8967-F16CDECB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5725C-5A16-4519-9CD2-ED36128E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67C25-010D-4239-A8F2-6C18C249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1A0A-9A53-468D-AACB-FB128418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1AFB3-5EB3-4DA9-B141-1B97B866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368A5-C26E-4070-AD5E-EDD20B16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9B9EC-B446-46DA-B09D-84DAE6D2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CC4D3-8AD0-4227-84C7-5D9BB1C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7DEFF-B3D1-4FCB-8EB9-6CBFC3D4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484A4-ABC6-4EE4-85E6-A166A29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EE3C-580B-4F2E-852E-9A326927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425-8AF9-447F-B503-B6FA9345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7DA14-6FB0-469B-B567-6DD60D1F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0AC38-2CD8-4F02-AEAE-E8F7B797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8852-7A3C-47FC-A5A0-3D7B1DE3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E6462-9EC8-4A5C-87C4-086ACA2A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FFC5-4C7D-4126-A74E-7632FCBB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DF0CC-30EF-42F9-AF87-ADC3E40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395AF-BF3C-48AC-8898-D2A2581D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3B8BC-494A-4A34-864D-0BB8E6FA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3693F-21AF-4C00-9841-41471E77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A99D-37D0-4F64-90F9-145C5E21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F21-75C3-468D-B40E-29E3317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76D5-7822-473A-A821-AA39450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5C8DE-4077-40AB-9C4B-9A2D338C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A495-B32D-4A3F-9F69-8A0074FC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5F6C0-0B2B-476B-801F-0AE8649D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76A37-9C94-4DA9-B3F5-C2775948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AC143-5B95-4BCF-A5F5-9DE9320B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629C3-B99C-4360-8362-101256C9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546BA-AD66-479E-8CEF-798D0650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4E37E-8978-4043-9B98-ECACA538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7FB6E-15F0-43AA-98DA-908CBFC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8EE-6189-4383-B2F0-F8370381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640C7-3F89-4AC4-B9CD-7E3A189D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733D0-F11F-4391-9B41-B3859E7B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7A53F-335B-4AE5-9A24-C124E0F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2D732-7520-4F80-8652-8B549337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A9045-85E3-43EA-971C-645906F1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44427-FBD0-40B5-8A30-00C1CFDE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7EBF2-5641-496B-B399-C237B361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DD97-3886-45F7-AAB0-07411478812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a livre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reto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49C2-9FE5-4989-B1F9-CB06CD464894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visa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62A2-6AF9-4153-BB29-1D6FCDB3819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20E2-BA73-409E-9D1B-EF0D0BC92D33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2961-CF97-4A12-B850-D64C06B40E55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5C7F-08F5-4136-9740-6AB6FA9A69B3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EA97-0BA3-4012-8F63-8A1A3279F9EC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ângulo retângulo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ângulo retângulo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reto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visa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52CF-B47B-42D2-B23A-400E7292EFC9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1° QUADRIMESTRE 2019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 37.903.352,1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38.484.975,5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.R$ 10.015.424,57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R$   36.480.469,8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Atualizada........R$  38.241.492,05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Empenhada.....R$    9.530.738,1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R$    9.277.544,05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ítulo 2" descr=""/>
          <p:cNvPicPr/>
          <p:nvPr/>
        </p:nvPicPr>
        <p:blipFill>
          <a:blip r:embed="rId1"/>
          <a:stretch/>
        </p:blipFill>
        <p:spPr>
          <a:xfrm>
            <a:off x="706320" y="208080"/>
            <a:ext cx="82425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.R$  10.015.424,57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..R$   9.277.544,11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....R$       737.880,5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9131400" cy="1854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928800" y="185724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29.230.373,77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43600" cy="11952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2152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º Quadrimestre/2019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..R$ 29.230.373,7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 R$  13.370.205,99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45,74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 ( máximo de 54%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http://www.crismenegon.com.br/portal/images/educacao/livros-educacao-a-distancia-ead.jpg"/>
          <p:cNvPicPr/>
          <p:nvPr/>
        </p:nvPicPr>
        <p:blipFill>
          <a:blip r:embed="rId1"/>
          <a:stretch/>
        </p:blipFill>
        <p:spPr>
          <a:xfrm>
            <a:off x="857160" y="1214280"/>
            <a:ext cx="7715520" cy="4714920"/>
          </a:xfrm>
          <a:prstGeom prst="rect">
            <a:avLst/>
          </a:prstGeom>
          <a:ln w="0">
            <a:noFill/>
          </a:ln>
        </p:spPr>
      </p:pic>
      <p:sp>
        <p:nvSpPr>
          <p:cNvPr id="403" name="Retângulo 2"/>
          <p:cNvSpPr/>
          <p:nvPr/>
        </p:nvSpPr>
        <p:spPr>
          <a:xfrm flipV="1" rot="10800000">
            <a:off x="428400" y="522000"/>
            <a:ext cx="8072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DESPESAS EDUCAÇÃ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2857680"/>
            <a:ext cx="822960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.R$    8.065.319,6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 R$   1.563.944,9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.........19,39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Arrecadada...........R$  1.368.015,87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do Fundeb...........R$ 1.340.028,35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Mínimo de 60% aplicado.....................74,95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Máximo de 40% aplicado.....................23,00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ítulo 2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olha do magistério para cumprimento do limite mínimo de 60%</a:t>
            </a:r>
            <a:r>
              <a:rPr b="1" lang="pt-PT" sz="2700" spc="-1" strike="noStrike">
                <a:solidFill>
                  <a:srgbClr val="000000"/>
                </a:solidFill>
                <a:latin typeface="Arial"/>
                <a:ea typeface="Arial"/>
              </a:rPr>
              <a:t> (art. 212 CF/1988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Com Educação Infantil................R$   323.330,7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Com Ensino Fundamental...........R$  783.722,90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........................................R$  1.107.053,6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ítulo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94920" y="1642680"/>
            <a:ext cx="82803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INVESTIMENTOS: R$  1.546.782,6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MORTIZAÇÕES: R$       42.701,7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R$  1.589.484,3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13840" y="714240"/>
            <a:ext cx="8643960" cy="57499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Lei nº 101/2000- Lei de Responsabilidade Fiscal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149/2019 – TCE -PR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99680" y="1571400"/>
            <a:ext cx="831852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R$         56.100,38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R$       157.517,9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R$       221.150,8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R$       434.769,18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28400" y="1428480"/>
            <a:ext cx="8715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De Exercícios Anteri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Processados :               R$     125.860,2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Não processados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R$      127.251,06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R$      253.111,28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Contas a pagar do Exercício de 2019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Processados:                R$   1.103.410,23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A Processar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          R$      253.209,2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 R$   1.356.619,47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TOTAL GERAL:             R$  </a:t>
            </a: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1.609.730,75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068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1° QUADRIMEST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 896.064,46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a despesa com juros, que o Município tem que pagar sobre as suas dívidas, e a inflaçã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ítulo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1° QUADRIMEST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974.152,1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928800" y="857160"/>
            <a:ext cx="75438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Lucida Sans Unicode"/>
              </a:rPr>
              <a:t>AUDIENCIA PÚBLIC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0" spc="-1" strike="noStrike">
                <a:solidFill>
                  <a:srgbClr val="000000"/>
                </a:solidFill>
                <a:latin typeface="Arial"/>
                <a:ea typeface="Arial"/>
              </a:rPr>
              <a:t>SAÚD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ítulo 2" descr=""/>
          <p:cNvPicPr/>
          <p:nvPr/>
        </p:nvPicPr>
        <p:blipFill>
          <a:blip r:embed="rId1"/>
          <a:stretch/>
        </p:blipFill>
        <p:spPr>
          <a:xfrm>
            <a:off x="128520" y="249120"/>
            <a:ext cx="8680680" cy="1177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1886040" y="1763640"/>
            <a:ext cx="5371920" cy="3962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" descr=""/>
          <p:cNvPicPr/>
          <p:nvPr/>
        </p:nvPicPr>
        <p:blipFill>
          <a:blip r:embed="rId3"/>
          <a:stretch/>
        </p:blipFill>
        <p:spPr>
          <a:xfrm>
            <a:off x="1143000" y="1928880"/>
            <a:ext cx="7072200" cy="4429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" descr=""/>
          <p:cNvPicPr/>
          <p:nvPr/>
        </p:nvPicPr>
        <p:blipFill>
          <a:blip r:embed="rId4"/>
          <a:stretch/>
        </p:blipFill>
        <p:spPr>
          <a:xfrm>
            <a:off x="571680" y="1428840"/>
            <a:ext cx="779616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R$     8.065.319,6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Ações Saúde......R$      1.792.298,7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22,22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 foi cumprido o disposto no artigo 7º da Lei Complementar n.141/2012, que prevê para o exercício o gasto mínimo de 15%(EC Nº 29/2000 CF/88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ítulo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539640" y="1357200"/>
            <a:ext cx="8136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Pessoal e Encargos......R$ 1.224.478,3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Outras Desp.Correntes.R$ 1.192.796,1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Investimentos.................R$   438.467,4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Total................................R$ 2.855.742,0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86932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SAÚDE NÃO COMPUTADAS PARA FINS DE APURAÇÃO DO PERCENTUAL MÍNIMO (15%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$ 1.063.443,33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ítulo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tângulo 1" descr=""/>
          <p:cNvPicPr/>
          <p:nvPr/>
        </p:nvPicPr>
        <p:blipFill>
          <a:blip r:embed="rId1"/>
          <a:stretch/>
        </p:blipFill>
        <p:spPr>
          <a:xfrm>
            <a:off x="566640" y="1182600"/>
            <a:ext cx="84060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udiências públicas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ítulo 2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2425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Audiência Pública é uma das formas de participação e de controle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pular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a Administração Pública no Estado Social e Democrático de Direit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um instrumento que leva a uma decisão política ou legal com legitimidade e transparência dos atos praticados na Administraçã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o  texto da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LRF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determina que o Poder Executivo "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demonstrará e avaliará o cumprimento das metas fiscais de cada quadrimestre, em audiência públic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os meses de :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MAIO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ETEMBRO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EVEREIRO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Estabelece normas de finanças públicas voltadas para a responsabilidade na gestão fiscal e dá outras providências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Lei de Responsabilidade Fiscal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(LRF),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REO - Relatório Resumido de Execução Orçamentá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GF – Relatório de Gestão Fisc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LRF regulamenta o artigo 163 da CF/88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56760" y="85716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USUARIO</cp:lastModifiedBy>
  <cp:lastPrinted>2016-02-29T14:03:55Z</cp:lastPrinted>
  <dcterms:modified xsi:type="dcterms:W3CDTF">2019-06-12T11:45:41Z</dcterms:modified>
  <cp:revision>401</cp:revision>
  <dc:subject/>
  <dc:title>JANEIRO  2005</dc:title>
</cp:coreProperties>
</file>