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E900-F216-45F1-8E6F-79EE4E15F6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3C7A-9B75-4ABB-B4B7-09B9EB28A3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Espaço Reservado para Número de Slide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8F5-FE53-40A9-8A4F-AC66C4BEC2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F593-85D4-4353-8F16-B5B64EDE5F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A11-BD94-49AB-AC83-3F5970AB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AA6-9750-4FAD-981A-16AC16FE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08F-961E-4689-90C3-9BDA784C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344-18B0-4841-9A8B-9437493C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49B7-3D98-4230-BB81-3EAC5404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1423-9B2C-4C42-BB78-3BD4C316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0D7-7AB2-4D4D-9572-9A6E157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5187-D2C3-44E5-BBF3-6AFE36EC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6733-A066-42AE-ACE3-3AD54E3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97D6-44DB-42F0-A382-75ECF41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0C3-111E-49F1-A2B1-99A225A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5A2-402C-4806-8FCA-4FEBA0FB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3A94-D53D-43E1-A7FD-C653E9A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DCB8-9175-4772-8BFB-398DCD1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268D-AEEC-4E8C-9E71-3120F9B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3A6-D588-4BB9-8D06-A258C570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18DF-3FC1-4BD6-9B1D-24168DB2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C7F9-F2F2-4374-8503-C275059E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2E1D-E55B-478E-85F2-AE7156CB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CFE1-7E01-44AC-8382-A578F80A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A051-6F03-45F1-8897-0EC3A923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2196-EB16-4911-B943-65277C5A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8DA-6CAA-4D46-9ED0-9061396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1B66-BECF-49AB-B568-52C2789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52B0-1592-4F22-9089-A23DBFA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107F-9DCB-4AB6-B3E7-234E8C3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EB33-89FD-471D-9399-32E79B7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A385-5A6F-4320-B1A8-87C8916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D93D-A742-463D-8C0D-AFF23676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E2A8-98A1-4A76-9668-70A78B9F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2745-0267-461C-BADC-540C5268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F1B1-528F-471B-9056-6173433D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1757-42BC-4123-B154-1590AB7F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3EA-A2A9-4FD0-A50A-995955E0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33C8-21D7-4058-893A-5CC0C66C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D041-97F0-405F-A8C2-2F231D86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EFBC5-C91C-4A85-889D-A2229A0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4341-356B-4AF3-9F2C-27A7AD96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AE5C-1A58-4DB0-A442-D5CB1FA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7071-BD2F-430C-AF7F-5094B0EF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C32A-E014-48E2-BC34-18F43CEE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6742-D741-44AD-AE3E-38A28416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D907-BD57-4FD8-8F1E-7814E347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4A708-0D2E-4870-AEF1-E37D0EF8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A46-8774-4670-8A85-399467B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6EFA3-1C6E-4EE9-86DC-6D70E6E0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F6DA-8449-4148-8013-E5D9F68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A785-3ED7-4C5C-A73A-5139EF2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DF81-109C-4E34-9A51-F167D646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502B-1C07-4903-BF18-C7A54868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7549-F32D-4DFE-B90C-3157564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97E4-5258-46B0-8106-C6963BD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2A24-B419-4051-AE17-C69951B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76EE-657A-4C82-B63C-951491ED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E38A-67CB-41A7-94E5-241488EC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815-1C0B-484A-9E8C-4F994A80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90B4-87F6-4811-B7A8-FF3122F0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4D02-82FD-4AE0-9AF2-5EAEF23B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4218-206E-4770-9DC7-7EA7A13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5DA6-8C49-45E5-9F4C-5D05E915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F30EE-D21C-413F-A665-4616526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309D-02A0-4B94-9398-9E8A57C9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CBB5-737E-469D-A13F-9894336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0200A-5842-4405-97F8-D8562295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51DB-AB59-46DF-9A55-C65F9BDA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4CE90-0383-4C1B-B3A0-DDFFF82E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841-0CD8-4966-844A-2747262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DAACC-23CA-448B-85C7-98480986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C849-DB68-49D3-9701-6F3E350A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29D08-5FFF-4C77-9E58-AF25458E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4BD7-34F3-4643-B5CF-5514F183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E954-6FA4-4177-A042-A60DCA65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02D7-68B5-469A-85A9-54AD1F16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71CB-6668-4B2A-9040-A4CC0D0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72CB-7EE9-4FEB-94FB-278EFA5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ED77D-C74A-491D-B5BA-54A80AD2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B9D8-CEDD-492C-B487-8FC8A78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1FB-0C25-4158-809B-269A089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BF08-6EF3-421C-BA62-3F0082D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DB8BF-3BD2-4834-A5CE-33B3FD1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DA8B-0971-481F-A27C-255B0E4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7E218-703F-4E34-AA5D-17FE5DC5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DBAA-5F00-45F4-B937-2258CF33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0189-A187-4C60-B805-61F693C0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9F926-5386-462F-9914-E67757E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7BDE4-3D30-4C6F-962D-426547CF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288E-F7FA-4911-833B-EA72D48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9264-C5EB-4F2C-8CDF-834EE31F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195-883C-4DFA-BF27-E176EFBE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4FDA1-86AB-46C2-A0AF-9531270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E89DC-1289-4241-B1CD-CD402EC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2A25-58B2-4E0C-A572-815883D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749B-99BD-4951-8948-E6C2A38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5A4B9-0A5B-4A5F-A593-0B41FD3A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80FD-FA29-489F-AE8E-B703A25C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BD09-CD2F-47B7-B525-66776E83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5849-0DFF-4706-AF40-2EF503808FC5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B1F-CC90-4C07-9570-F4C717293B82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0518-4C30-4839-AFD2-0BB79AFBC9B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738C-20AB-4CE2-81DD-BBF74A084CC9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356-FD36-4EBD-A808-408792E6DE02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7D0-7969-46E9-A426-BE99DCD0677F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C626-1544-4606-A893-592E7A16F46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FEB-C288-4CF2-A3B0-717C9A214603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2° QUADRIMESTRE 2019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37.903.352,1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39.041.160,1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 20.740.945,5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R$   36.480.469,8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Atualizada........R$  40.740.426,4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mpenhada.....R$  19.773.506,90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R$  18.877.200,4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ítulo 2" descr=""/>
          <p:cNvPicPr/>
          <p:nvPr/>
        </p:nvPicPr>
        <p:blipFill>
          <a:blip r:embed="rId1"/>
          <a:stretch/>
        </p:blipFill>
        <p:spPr>
          <a:xfrm>
            <a:off x="70632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.R$  20.740.945,5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..R$ 19.773.506,90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.R$       967.438,6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9131400" cy="1854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29.101.914,76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43600" cy="1195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215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º Quadrimestre/201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29.101.914,7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 R$  13.584.076,4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46,68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http://www.crismenegon.com.br/portal/images/educacao/livros-educacao-a-distancia-ead.jpg"/>
          <p:cNvPicPr/>
          <p:nvPr/>
        </p:nvPicPr>
        <p:blipFill>
          <a:blip r:embed="rId1"/>
          <a:stretch/>
        </p:blipFill>
        <p:spPr>
          <a:xfrm>
            <a:off x="857160" y="1214280"/>
            <a:ext cx="7715520" cy="4714920"/>
          </a:xfrm>
          <a:prstGeom prst="rect">
            <a:avLst/>
          </a:prstGeom>
          <a:ln w="0">
            <a:noFill/>
          </a:ln>
        </p:spPr>
      </p:pic>
      <p:sp>
        <p:nvSpPr>
          <p:cNvPr id="403" name="Retângulo 2"/>
          <p:cNvSpPr/>
          <p:nvPr/>
        </p:nvSpPr>
        <p:spPr>
          <a:xfrm flipV="1" rot="10800000">
            <a:off x="428400" y="522000"/>
            <a:ext cx="807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857680"/>
            <a:ext cx="822960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R$    15.858.397,0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 R$   3.912.712,6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....24,67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...........R$  2.568.065,90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do Fundeb...........R$ 2.577.065,6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ínimo de 60% aplicado.....................81,8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áximo de 40% aplicado.....................18,4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ítulo 2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olha do magistério para cumprimento do limite mínimo de 60%</a:t>
            </a:r>
            <a:r>
              <a:rPr b="1" lang="pt-PT" sz="2700" spc="-1" strike="noStrike">
                <a:solidFill>
                  <a:srgbClr val="000000"/>
                </a:solidFill>
                <a:latin typeface="Arial"/>
                <a:ea typeface="Arial"/>
              </a:rPr>
              <a:t> (art. 212 CF/1988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Educação Infantil............R$    763.108,5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Ensino Fundamental......R$ 1.421.282,12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.........................................R$ 2.184.390,7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ítulo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4920" y="164268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 3.121.367,9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MORTIZAÇÕES: R$       81.696,5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R$  3.203.064,5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13840" y="714240"/>
            <a:ext cx="8643960" cy="57499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Lei nº 101/2000- Lei de Responsabilidade Fiscal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141/2018 – TCE -PR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99680" y="1571400"/>
            <a:ext cx="831852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   32.850,3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 155.704,0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214.969,9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 403.524,3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400" y="14284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De Exercícios Anteri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 :               R$        92.444,7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Não processados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R$         89.163,56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R$       181.608,26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Contas a pagar do Exercício de 2019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:                R$       896.306,4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A Processar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          R$    1.019.532,6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 R$    1.915.839,0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TOTAL GERAL:             R$  2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.097.447,3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1° QUADRIMEST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793.453,8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ítulo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1° QUADRIMEST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964.098,3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Lucida Sans Unicode"/>
              </a:rPr>
              <a:t>AUDIENCIA PÚBLIC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000000"/>
                </a:solidFill>
                <a:latin typeface="Arial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ítulo 2" descr=""/>
          <p:cNvPicPr/>
          <p:nvPr/>
        </p:nvPicPr>
        <p:blipFill>
          <a:blip r:embed="rId1"/>
          <a:stretch/>
        </p:blipFill>
        <p:spPr>
          <a:xfrm>
            <a:off x="128520" y="249120"/>
            <a:ext cx="8680680" cy="1177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1886040" y="1763640"/>
            <a:ext cx="5371920" cy="3962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"/>
          <p:cNvPicPr/>
          <p:nvPr/>
        </p:nvPicPr>
        <p:blipFill>
          <a:blip r:embed="rId3"/>
          <a:stretch/>
        </p:blipFill>
        <p:spPr>
          <a:xfrm>
            <a:off x="1143000" y="1928880"/>
            <a:ext cx="7072200" cy="4429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" descr=""/>
          <p:cNvPicPr/>
          <p:nvPr/>
        </p:nvPicPr>
        <p:blipFill>
          <a:blip r:embed="rId4"/>
          <a:stretch/>
        </p:blipFill>
        <p:spPr>
          <a:xfrm>
            <a:off x="571680" y="1428840"/>
            <a:ext cx="779616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R$    15.465.112,1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Ações Saúde......R$       3.312.145,6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21,42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539640" y="1357200"/>
            <a:ext cx="813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......R$ 2.456.962,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Outras Desp.Correntes.R$ 2.776.374,4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Investimentos.................R$   889.794,7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Total................................R$ 6.123.131,2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86932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 2.810.985,59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tângulo 1" descr=""/>
          <p:cNvPicPr/>
          <p:nvPr/>
        </p:nvPicPr>
        <p:blipFill>
          <a:blip r:embed="rId1"/>
          <a:stretch/>
        </p:blipFill>
        <p:spPr>
          <a:xfrm>
            <a:off x="566640" y="1182600"/>
            <a:ext cx="84060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udiências públicas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ítulo 2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  texto da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LRF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determina que o Poder Executivo "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demonstrará e avaliará o cumprimento das metas fiscais de cada quadrimestre, em audiência públic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(LRF),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56760" y="85716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RubensMatos</cp:lastModifiedBy>
  <cp:lastPrinted>2016-02-29T14:03:55Z</cp:lastPrinted>
  <dcterms:modified xsi:type="dcterms:W3CDTF">2019-09-25T20:05:14Z</dcterms:modified>
  <cp:revision>441</cp:revision>
  <dc:subject/>
  <dc:title>JANEIRO  2005</dc:title>
</cp:coreProperties>
</file>