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DE6A3D-CBE0-4933-9926-FED98C9BD3B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Espaço Reservado para Número de Slide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14CAE2-B2BA-4332-B5D7-6CD151273C9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1119-DE9F-4BB9-B292-6AD7BC31C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0E3C-0B56-4166-A9C6-369C24B5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F821-B4B2-4492-B5C8-8E62C21D7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9733-60C1-4FB5-977E-7159FC7EA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2BA9F-E2C7-4F94-8A2E-4A73AB726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B76A-0663-4552-99F2-51E98428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C7B7-3CA3-4039-B35E-A42E1F37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CCB6-343B-4971-9118-3D8982D3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D5E8B-2274-44B0-B2CD-5EAF4C26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87431-34F8-4992-B58E-B08CC19E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021B-ED27-4EB8-87AC-696601E4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B9E9-4864-49E7-808C-96B0B82A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6017-7589-4AAC-AF2B-E95E184E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D910-CD90-465C-978C-58BF043C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D000F-1680-4B18-A815-FEE3809D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42F2-6E2B-4FC5-BC49-3045F8408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00E4-049D-43D3-877D-862A54C8F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A08C4-204D-40F3-86ED-A0971DFD9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C3156-E231-435B-A0C7-91909AB0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00E64-6250-42DC-B621-7BB9ABE5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2F173-FBA5-4FE1-9685-09AA7156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6DC11-D840-4824-A560-8E92F295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77BA-5560-45C5-A673-0CD31CF9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A4339-03D1-4348-8EAE-4E6FC691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80E31-5D3D-466D-BF4D-AB2ADF4F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F93B2-D6F0-4E35-B215-CFAD2E90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B540B-580C-4528-9CAA-B24D7441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6B1D5-BF53-405C-93AE-76515EEA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2A249-D633-41F0-B104-148F63AE2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45A3E-99CD-451F-8E5E-4FFDDE181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C1BA4-4256-4131-B92E-59D73A12F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34286-EDED-4EDF-93E9-432F7563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CEAC2-B1E9-4DF8-9CDA-F76E15B4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DF5B-4B74-4B83-8499-C1CDDD6D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9B8A0-830A-4950-8D0C-F287306B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5C568-5085-44AA-A1F4-FDE58C86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018B1-5D44-4285-AE14-69CE2DE0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C232A-38DA-4A50-A6AF-D7444242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80C28-53D7-4C19-9CE4-7FED5E6A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57BE9-749D-4882-8AF1-FC8565AB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3B58C-910E-45B5-976C-60CAA81C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0D9F4-AE73-41EC-9F10-0ECB31FDD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9C679-EDB2-4AFA-B1E4-B370C4E7C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A019-9430-4075-984A-88C57ED2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4A0B-DE36-4F88-93DD-7292A1FA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BF62-F627-47D5-8D30-E1CB39F3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DD41-8D41-4010-B123-E95D5BD2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55A6-343A-48BC-A57F-1CFC35F5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23E8EB-D28B-436F-9F6C-767025CCE46E}" type="slidenum">
              <a:rPr b="0" lang="pt-BR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9409BC-B253-4EBE-8009-894142248D34}" type="slidenum">
              <a:rPr b="0" lang="pt-BR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F5B11E-9715-45AF-BEB2-47EDA9688B44}" type="slidenum">
              <a:rPr b="0" lang="pt-BR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81573F-0E00-4929-8AA3-4D78EBBE3CC7}" type="slidenum">
              <a:rPr b="0" lang="pt-BR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320240" cy="553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pt-BR" sz="3600" spc="-1" strike="noStrike">
                <a:solidFill>
                  <a:srgbClr val="90c226"/>
                </a:solidFill>
                <a:latin typeface="Trebuchet MS"/>
              </a:rPr>
              <a:t>MUNICIPIO DE TUNEIRAS DO OESTE -PR</a:t>
            </a:r>
            <a:br>
              <a:rPr sz="3600"/>
            </a:b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Trebuchet MS"/>
              </a:rPr>
              <a:t>AUDIÊNCIA PÚBLICA DA SAÚDE 1 º QUADRIMESTRE 2021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0" name="Picture 2" descr="Brasão2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2928960" y="500040"/>
            <a:ext cx="20718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285480"/>
            <a:ext cx="79632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alibri"/>
              </a:rPr>
              <a:t>DESPESAS SAÚDE - 1° QUADRIMESTRE DE 2021</a:t>
            </a:r>
            <a:endParaRPr b="0" lang="en-US" sz="30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57120" y="928800"/>
          <a:ext cx="8462880" cy="5357880"/>
        </p:xfrm>
        <a:graphic>
          <a:graphicData uri="http://schemas.openxmlformats.org/drawingml/2006/table">
            <a:tbl>
              <a:tblPr/>
              <a:tblGrid>
                <a:gridCol w="2820960"/>
                <a:gridCol w="2820960"/>
                <a:gridCol w="2820960"/>
              </a:tblGrid>
              <a:tr h="546120"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 FEDE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0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 POR PROJETO ATIVIDAD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NTE RECURS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OCO ENFRENTAMENTO EMERGENCIA COVI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688,5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019 (COVID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546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IAL DE CONSUM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</a:t>
                      </a: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188,5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0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ÇOS DE TERCEIROS PESSOA JURIDI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500,0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O PROGRAMA PAB FIX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1.939,65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4 (ATENÇÃO BASICA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546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IAL DE CONSUM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</a:t>
                      </a: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6.024,61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0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ÇOS DE TERCEIROS PESSOA JURIDI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</a:t>
                      </a: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.815,14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ÇOS DE TECNOLOGIA E INFORMACA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</a:t>
                      </a: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,9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85480"/>
            <a:ext cx="79632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alibri"/>
              </a:rPr>
              <a:t>DESPESAS SAÚDE - 1° QUADRIMESTRE DE 2021</a:t>
            </a:r>
            <a:endParaRPr b="0" lang="en-US" sz="30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95280" y="907920"/>
          <a:ext cx="8424720" cy="5454720"/>
        </p:xfrm>
        <a:graphic>
          <a:graphicData uri="http://schemas.openxmlformats.org/drawingml/2006/table">
            <a:tbl>
              <a:tblPr/>
              <a:tblGrid>
                <a:gridCol w="2733840"/>
                <a:gridCol w="2846160"/>
                <a:gridCol w="2844720"/>
              </a:tblGrid>
              <a:tr h="547920"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 FEDE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O PROGRAMA PISO VARIAVEL AGENTE COMUNITARIO SAUDE-AC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9.671,23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4 (ATENÇÃO BASICA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622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LHA DE PAGAMEN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</a:t>
                      </a: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.623,28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RIGACOES PATRONAI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</a:t>
                      </a: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349,9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2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IAL DE CONSUM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</a:t>
                      </a: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698,05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2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PROGRAMA PISO VARIAVEL SAUDE BUCAL-S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.491,15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4 (ATENÇÃO BASICA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547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LHA DE PAGAMEN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</a:t>
                      </a: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.118,99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2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RIGACOES PATRONAI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</a:t>
                      </a: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066,46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2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IAL DE CONSUM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05,7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85480"/>
            <a:ext cx="79632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alibri"/>
              </a:rPr>
              <a:t>DESPESAS SAÚDE - 1° QUADRIMESTRE DE 2021</a:t>
            </a:r>
            <a:endParaRPr b="0" lang="en-US" sz="30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357120" y="928800"/>
          <a:ext cx="8462880" cy="5572080"/>
        </p:xfrm>
        <a:graphic>
          <a:graphicData uri="http://schemas.openxmlformats.org/drawingml/2006/table">
            <a:tbl>
              <a:tblPr/>
              <a:tblGrid>
                <a:gridCol w="2820960"/>
                <a:gridCol w="2820960"/>
                <a:gridCol w="2820960"/>
              </a:tblGrid>
              <a:tr h="568080"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 FEDE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PROGRAMA PISO VARIAVEL SAUDE FAMILIA-S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6.157,25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4 (ATENÇÃO BASICA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644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LHA DE PAGAMEN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</a:t>
                      </a: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8.329,84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RIGACOES PATRONAI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</a:t>
                      </a: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235,2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IAL DE CONSUM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</a:t>
                      </a: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.592,21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O PROGRAMA AIH HOSPITALA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961,34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496 (ALTA E MEDIA-MAC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56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IAL DE CONSUM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</a:t>
                      </a: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540,67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ÇOS DE TERCEIROS PESSOA JURIDI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</a:t>
                      </a: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420,67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6.909,1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285480"/>
            <a:ext cx="79632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alibri"/>
              </a:rPr>
              <a:t>DESPESAS SAÚDE - 1° QUADRIMESTRE DE 2021</a:t>
            </a:r>
            <a:endParaRPr b="0" lang="en-US" sz="30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357120" y="1000080"/>
          <a:ext cx="8462880" cy="5657760"/>
        </p:xfrm>
        <a:graphic>
          <a:graphicData uri="http://schemas.openxmlformats.org/drawingml/2006/table">
            <a:tbl>
              <a:tblPr/>
              <a:tblGrid>
                <a:gridCol w="2820960"/>
                <a:gridCol w="2820960"/>
                <a:gridCol w="2820960"/>
              </a:tblGrid>
              <a:tr h="358920"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 ESTAD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2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 POR PROJETO ATIVIDAD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NTE RECURS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542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 VIGIA SUS CUSTEI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.427,13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483 (FORMA HOSPITAL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477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ENIZAÇÕES E RESTITUIÇÕ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</a:t>
                      </a: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.427,13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2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ENTIVO FINANCEIRO ESTADUAL DO HOSPSU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785,95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94 (CUSTEIO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543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IAL DE CONSUM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</a:t>
                      </a: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2,0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7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ÇOS DE TERCEIROS PESSOA JURIDI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33,95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2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ENTIVO FINANCEIRO ESTADUAL DO APSUS E SAUDE BUC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901,78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94 (CUSTEIO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542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IAL DE CONSUM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78,7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2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ÇOS DE TERCEIROS PESSOA JURIDI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623,08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2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.114,8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285480"/>
            <a:ext cx="79632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alibri"/>
              </a:rPr>
              <a:t>DESPESAS SAÚDE - 1° QUADRIMESTRE DE 2021</a:t>
            </a:r>
            <a:endParaRPr b="0" lang="en-US" sz="30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357120" y="981000"/>
          <a:ext cx="8215560" cy="5676840"/>
        </p:xfrm>
        <a:graphic>
          <a:graphicData uri="http://schemas.openxmlformats.org/drawingml/2006/table">
            <a:tbl>
              <a:tblPr/>
              <a:tblGrid>
                <a:gridCol w="4011840"/>
                <a:gridCol w="2101680"/>
                <a:gridCol w="2102040"/>
              </a:tblGrid>
              <a:tr h="35892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 PRÓP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4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 POR PROJETO ATIVIDAD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NTE RECURS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546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QUISIÇÃO DE VEICULOS, EQUIPAMENTOS E MOBILIARI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805,0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% SAUD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479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AMENTO MATERIAL DE PERMANEN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805,0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4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O PROGRAMA E CONSELHO MUNICIPAL DE SAUD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31.696,27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544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LHA DE PAGAMEN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</a:t>
                      </a: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1.035,3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% SAUD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480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RIGACOES PATRONAI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</a:t>
                      </a: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6.054,41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% SAUD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544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RI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840,0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% SAUD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544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IAL DE CONSUM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</a:t>
                      </a: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.210,53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% SAUD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544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IAL DE CONSUM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</a:t>
                      </a: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.735,68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5 TAX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544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ÇOS DE TERCEIROS PESSOA JURIDI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</a:t>
                      </a: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7.467,38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% SAUD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285480"/>
            <a:ext cx="79632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alibri"/>
              </a:rPr>
              <a:t>DESPESAS SAÚDE - 1° QUADRIMESTRE DE 2021</a:t>
            </a:r>
            <a:endParaRPr b="0" lang="en-US" sz="30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324000" y="981000"/>
          <a:ext cx="8496000" cy="5327640"/>
        </p:xfrm>
        <a:graphic>
          <a:graphicData uri="http://schemas.openxmlformats.org/drawingml/2006/table">
            <a:tbl>
              <a:tblPr/>
              <a:tblGrid>
                <a:gridCol w="2806560"/>
                <a:gridCol w="2844720"/>
                <a:gridCol w="2844720"/>
              </a:tblGrid>
              <a:tr h="417600"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  PRÓP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ÇOS DE TERCEIROS PESSOA JURIDI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</a:t>
                      </a: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015,97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5 TAX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633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ÇOS DE TERCEIROS PESSOA FISI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</a:t>
                      </a: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.988,76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% SAUD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556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ÇOS DE TECNOLOGIA E COMUNICAÇÃ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168,7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% SAUD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631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RIGAÇÕES TRIBUTARIAS E CONTRIBUTIV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79,54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3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FERENCIA AO CONSORCIO DE SAUDE E SAM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1.495,64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% SAUD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557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TEIO PELA PARTICIPAÇÃO CONCSORCI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</a:t>
                      </a: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.649,06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3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ÇOS DE TERCEIROS PESSOA JURIDI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</a:t>
                      </a: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5.846,58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66.996,9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534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RESTOS A PAGAR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468360" y="1413000"/>
          <a:ext cx="8104320" cy="4730760"/>
        </p:xfrm>
        <a:graphic>
          <a:graphicData uri="http://schemas.openxmlformats.org/drawingml/2006/table">
            <a:tbl>
              <a:tblPr/>
              <a:tblGrid>
                <a:gridCol w="4014720"/>
                <a:gridCol w="4089600"/>
              </a:tblGrid>
              <a:tr h="4730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TOS A PAGAR  INSCRITOS EM 2021 PAGOS ATE 30/04/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O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VA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473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18 (BLOCO DE INVESTIMENT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571,5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473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496 ALTA E MEDIA MA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679,2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473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5 TAXAS PODE POLI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36,4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473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9 15% SAUDE LIV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912,0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473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4 ATENCAO BAS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.260,2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473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94 CUSTEIO ESTAD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510,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473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7 VIGIA SUS VIGILA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5,7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473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.255,3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7347240" cy="13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APLICAÇÕES EM SAÚDE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2" name="Picture 2" descr="Resultado de imagem para IMAGENS RELACIONADO A SAUDE PUBLICA"/>
          <p:cNvPicPr/>
          <p:nvPr/>
        </p:nvPicPr>
        <p:blipFill>
          <a:blip r:embed="rId1"/>
          <a:stretch/>
        </p:blipFill>
        <p:spPr>
          <a:xfrm>
            <a:off x="1116000" y="2492280"/>
            <a:ext cx="54720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Demonstrativo dos gastos em saúde pública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09480" y="2000160"/>
          <a:ext cx="7391520" cy="4165560"/>
        </p:xfrm>
        <a:graphic>
          <a:graphicData uri="http://schemas.openxmlformats.org/drawingml/2006/table">
            <a:tbl>
              <a:tblPr/>
              <a:tblGrid>
                <a:gridCol w="3695760"/>
                <a:gridCol w="3695760"/>
              </a:tblGrid>
              <a:tr h="574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MITES CONSTITUCIONA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APLIC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</a:tr>
              <a:tr h="576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APLIC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37.980,9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 MINIMA A SER APLIC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15.016,5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1433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ERENÇA ENTRE O VALOR APLICADO E DESPESA SER APLIC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2.964,4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960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IMO DE 15% DAS RECEITAS DE IMPOSTOS EC- 29/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68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214200" y="284040"/>
          <a:ext cx="8643960" cy="6299280"/>
        </p:xfrm>
        <a:graphic>
          <a:graphicData uri="http://schemas.openxmlformats.org/drawingml/2006/table">
            <a:tbl>
              <a:tblPr/>
              <a:tblGrid>
                <a:gridCol w="2468520"/>
                <a:gridCol w="1235160"/>
                <a:gridCol w="1235160"/>
                <a:gridCol w="1235160"/>
                <a:gridCol w="1234800"/>
                <a:gridCol w="1235160"/>
              </a:tblGrid>
              <a:tr h="1101960">
                <a:tc grid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S SAÚDE - 1° QUADRIMESTRE DE 202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grid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 FEDE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4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ÇÃO/BLO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N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DO EXERCICIO ANTERIOR ATE 31/12/202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RECADADO ATE 30/04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DO BANCARIO ATE 30/04/2021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762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XILIO FINANCEIRO-COVID19(AÇÃO SOCIAL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04790-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.611,71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.611,71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549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TÃO DO SU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9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58-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550,5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5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561,05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762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ENDAS PARLAMENTARES-CUSTEIO FEDERAL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0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4001-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5.000,0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5.000,0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549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STEIO DE AÇOES -COVI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0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24001-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.946,43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5.057,93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550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QUALIFICAÇÃO DA UBS-CONSTRUÇÃ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48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80-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584,5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53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600,03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550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14200" y="284040"/>
          <a:ext cx="8643960" cy="6297840"/>
        </p:xfrm>
        <a:graphic>
          <a:graphicData uri="http://schemas.openxmlformats.org/drawingml/2006/table">
            <a:tbl>
              <a:tblPr/>
              <a:tblGrid>
                <a:gridCol w="2468520"/>
                <a:gridCol w="1235160"/>
                <a:gridCol w="1235160"/>
                <a:gridCol w="1235160"/>
                <a:gridCol w="1234800"/>
                <a:gridCol w="1235160"/>
              </a:tblGrid>
              <a:tr h="1101960">
                <a:tc grid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S SAÚDE - 1° QUADRIMESTRE DE 202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grid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 FEDE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2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S/FNS/ATENÇÃO BASIC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49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75-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649,4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8,61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676,11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761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AMENTOS ATENÇÃO BASI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49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65-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9.815,55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.037,45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549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I/AIH HOSPITALAR (ALTA E MEDIA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49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42-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010,2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995,66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346,66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762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TA E MEDIA COMPLEXIDADE-MA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49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60-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8,41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9,15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549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OCO VIGILANCIA SANITARI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49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76-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600,43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61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611,04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551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QUISIÇÃO UNIDADE MOVEL DE SAUD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718-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.184,39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,28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.258,67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550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AMENTOS PARA A UB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55-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163,73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78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177,51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214200" y="284040"/>
          <a:ext cx="8534520" cy="6024600"/>
        </p:xfrm>
        <a:graphic>
          <a:graphicData uri="http://schemas.openxmlformats.org/drawingml/2006/table">
            <a:tbl>
              <a:tblPr/>
              <a:tblGrid>
                <a:gridCol w="2436840"/>
                <a:gridCol w="1219320"/>
                <a:gridCol w="1220760"/>
                <a:gridCol w="1219320"/>
                <a:gridCol w="1218960"/>
                <a:gridCol w="1219320"/>
              </a:tblGrid>
              <a:tr h="1427400">
                <a:tc grid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S SAÚDE - 1° QUADRIMESTRE DE 202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4240">
                <a:tc grid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 FEDE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7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AMENTOS UNIDADE BASICA DE SAUD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44-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273,7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3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316,0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985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OCO DE CUSTEIO FEDER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709-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787,29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6.319,57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727,77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714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OCO DE CUSTEIO FEDER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4001-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8.822,67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4.754,25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985680"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74.598,91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1.730,89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62.723,62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428760" y="357120"/>
          <a:ext cx="8143920" cy="6215040"/>
        </p:xfrm>
        <a:graphic>
          <a:graphicData uri="http://schemas.openxmlformats.org/drawingml/2006/table">
            <a:tbl>
              <a:tblPr/>
              <a:tblGrid>
                <a:gridCol w="1357200"/>
                <a:gridCol w="1357200"/>
                <a:gridCol w="1357560"/>
                <a:gridCol w="1357200"/>
                <a:gridCol w="1357200"/>
                <a:gridCol w="1357560"/>
              </a:tblGrid>
              <a:tr h="438120">
                <a:tc grid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  ESTAD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6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ÇÃO/BLOC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N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DO EXERCICIO ANTERIOR ATE 31/12/202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RECADADO ATE 30/0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DO ATE 30/04/2021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438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ISTENCIA FARMACEUT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37-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,57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,7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438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OCO DE INVESTIMENT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--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7.447,71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.862,0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9.738,1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615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OCO DE CUSTEIO ESTADU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9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--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836,7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2.731,51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.045,8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615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ONAVIRUS RESOLUÇÃO 356/20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0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--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828,4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828,4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438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ORMA DO HOSPIT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4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01-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.409,47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6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804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RUÇÃO UNIDADE DE SAUDE DA FAMIL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4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53-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8,7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9,7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1003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DO MUNICIPAL DE SAUDE (ATENÇÃO BASICA ESTADUAL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49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000410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7,3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8,4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615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DO MUNICIPAL DE SAUDE-MA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4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64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7,3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7,8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28760" y="214200"/>
          <a:ext cx="8358120" cy="6392880"/>
        </p:xfrm>
        <a:graphic>
          <a:graphicData uri="http://schemas.openxmlformats.org/drawingml/2006/table">
            <a:tbl>
              <a:tblPr/>
              <a:tblGrid>
                <a:gridCol w="1392120"/>
                <a:gridCol w="1393920"/>
                <a:gridCol w="1392120"/>
                <a:gridCol w="1393920"/>
                <a:gridCol w="1392120"/>
                <a:gridCol w="1393920"/>
              </a:tblGrid>
              <a:tr h="395280">
                <a:tc grid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  ESTAD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3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GIA/SUS CUSTE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4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68-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268,81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,09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279,01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414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S-VIGIA/SU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4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04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477,17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532,0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ISTENCIA FARMACEUTICA ESTADU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4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6-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30,8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30,8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617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PLIAÇÃO DA UBS DE APARECIDA DO OES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777-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88,19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11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98,3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820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 ESTADUAL DE QUALIICAÇÃO DOS CONSELH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--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99,9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01,97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617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GIA/SUS CUSTEIO (VIGILANCIA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--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.403,99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,8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.270,0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723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O DE INVESTIMENTO VIGIA SU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--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37,8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37,8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901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ISTENCIA FARMACEUTICA INVESTIMEN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64-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441,1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8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454,0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558720"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8.498,9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4.584,3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5.376,3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357120" y="428760"/>
          <a:ext cx="8215560" cy="5857920"/>
        </p:xfrm>
        <a:graphic>
          <a:graphicData uri="http://schemas.openxmlformats.org/drawingml/2006/table">
            <a:tbl>
              <a:tblPr/>
              <a:tblGrid>
                <a:gridCol w="1370160"/>
                <a:gridCol w="1368360"/>
                <a:gridCol w="1370160"/>
                <a:gridCol w="1368360"/>
                <a:gridCol w="1369800"/>
                <a:gridCol w="1368720"/>
              </a:tblGrid>
              <a:tr h="668160">
                <a:tc grid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  PRÓP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7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ÇÃO/BLOC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N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DO EXERCICIO ANTERIOR ATE 31/12/202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RECADADO ATE 30/0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DO BANCARIO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923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S VINCULADAS (EC 29/00 - 15%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33-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.034,64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43.518,87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655,84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668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XAS PODER DE POLIC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81-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2,45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.125,17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617,12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668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VARA DE LICENÇ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-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894,9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900,17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1033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IENAÇÃO DE BENS DO FUNDO DE SAUD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83-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4,25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9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4,74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668520"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.806,2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36.644,5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.567,8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9T20:51:43Z</dcterms:created>
  <dc:creator>.</dc:creator>
  <dc:description/>
  <dc:language>en-US</dc:language>
  <cp:lastModifiedBy>Contabilidade</cp:lastModifiedBy>
  <cp:lastPrinted>2021-05-27T18:08:49Z</cp:lastPrinted>
  <dcterms:modified xsi:type="dcterms:W3CDTF">2021-05-27T18:08:54Z</dcterms:modified>
  <cp:revision>503</cp:revision>
  <dc:subject/>
  <dc:title>JANEIRO  2005</dc:title>
</cp:coreProperties>
</file>