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0C2C4-F478-47A2-96FE-46683C2E68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72DEA-044C-4B41-B72F-36F9C3A71F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5BCE4-2F80-494C-A848-102130B94F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7BE8B-4FE6-44F0-8E38-6CF171A9F1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E8345-4533-4888-97BE-398A458BDA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7E4-A88B-440C-9CCD-6D0B5AD3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E74-8813-4FE2-BF3E-E701F038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649-6DC2-44CB-9881-939ABF0A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35C-20C0-4B34-ADDD-3BEBDB8B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7AD-9A99-4E9B-82AB-BA4D0232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A27B-18E5-4647-BD44-799F06C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C604-B15B-4DD9-B4AC-F7CB3ED3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C4D-3C7E-40D0-B9BE-0CDCE68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EDD4-FF87-478A-AEB1-B62D31F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53B-B969-427C-9A67-78DA443C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87E-0560-4AAA-A0E3-CE42606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4CD-A829-4296-B9EA-FCED95A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241-E408-4C0C-B785-162F3358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B821-9916-4E92-959F-5A7A9879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4D01-0C39-43B6-8461-36FF32B6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DE3-D55F-4D19-8322-DA8776EF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25AD-8827-40F7-8C02-6DBCF0CF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18BB-A200-4407-A276-DEBC8406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B5DA-EB35-4027-AE94-87EE6D54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812D-00AB-4E2C-8034-8C6E4DA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8A83-2189-4478-BC6B-8317EFD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4C4C-CFE5-4D29-A658-85F96837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A99-856F-4559-BC68-0FF6B430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B3A8-AAB9-49BD-A00C-CCD4AF9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3761-115C-4400-BE07-7472784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E3F9-7241-4D44-A049-52352C0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CE99-7CBB-43D7-B79B-8E89A99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B278-4842-4A8A-89C3-AF3C7619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BCC3-CADF-4FC9-8E13-000B5C9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226C-66D8-411C-86C0-3AD0BEB0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EA02-AC09-44C6-BCA8-EE5FBC82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BAF9-44C5-41DB-B81B-BFC03681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75A4-BC7E-484C-B977-35D03740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044-F8D0-4130-A793-B80CDAE2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CB5E-3A17-4AE4-BF8A-DDB826F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D080-FBC6-4FCC-B724-2B679349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9376-3291-4F7F-9CF8-E5207D6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47F7-D964-4B4F-BA84-A53AEB41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14E1B-DF19-4EDA-A58C-B0A0349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D7D2-7783-40FA-B66F-BD7B42B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5044-0554-408B-80B2-CCA7B50C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5F2A-4670-42D4-9645-464B9AA1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234E-1A2D-4430-8FDC-747932CB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CCD-C34D-4D91-ACB7-2AFA32C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219-7C00-4384-94FB-37328DC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891-3602-454F-87F2-BEB4BFFA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F2E-5C42-4AFD-86F4-5784A06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EEE-A123-405F-B81F-BE4FA38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D14E2-AF1B-413C-B5A6-CB310E85A772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1E650-5801-40C2-9987-5A08992270DD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9A2D0-B6AB-4C82-BEA9-3228849412DF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57790-15BF-4991-9C29-9996B83FD54B}" type="slidenum">
              <a:rPr b="0" lang="pt-BR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499760"/>
            <a:ext cx="5827680" cy="255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90c226"/>
                </a:solidFill>
                <a:latin typeface="Arial"/>
                <a:ea typeface="Arial"/>
              </a:rPr>
              <a:t>MUNICIPIO DE TUNEIRAS DO OESTE -PR</a:t>
            </a:r>
            <a:endParaRPr b="0" lang="en-US" sz="5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040" y="4357800"/>
            <a:ext cx="65847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rebuchet MS"/>
              </a:rPr>
              <a:t>AUDIÊNCIA PÚBLICA DA SAÚDE 1 º QUADRIMESTRE 202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2" descr="Brasão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928800" y="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85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480" y="1773360"/>
            <a:ext cx="7637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42.082.371,8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2.664.662,3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R$ 10.254.900,7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...R$  40.585.523,8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Atualizada.....R$  42.224.051,28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mpenhada...R$  10.194.238,6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Liquidada.......R$    9.669.510,3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....R$    8.169.511,4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R$ 10.254.900,7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R$ 10.194.238,6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R$        60.662,1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32.664.078,79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835812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81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º Quadrimestre/202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 32.664.078,7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...R$  13.019.895,4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39,8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-Poder Executivo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tângulo 1"/>
          <p:cNvSpPr/>
          <p:nvPr/>
        </p:nvSpPr>
        <p:spPr>
          <a:xfrm>
            <a:off x="755640" y="333360"/>
            <a:ext cx="698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EDUCAÇÃO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12" descr="Resultado de imagem para IMAGENS RELACIONADO A EDUCAÇÃO"/>
          <p:cNvPicPr/>
          <p:nvPr/>
        </p:nvPicPr>
        <p:blipFill>
          <a:blip r:embed="rId1"/>
          <a:stretch/>
        </p:blipFill>
        <p:spPr>
          <a:xfrm>
            <a:off x="941400" y="1714680"/>
            <a:ext cx="637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276640"/>
            <a:ext cx="80773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.....R$    8.766.776,81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........R$    2.549.330,56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.........29,08%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artigo 212 da CF/88  até 1° quadrimestre,  da aplicação mínima de 25% (art. 212 CF/1988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  <a:ea typeface="Arial"/>
              </a:rPr>
              <a:t>Receitas/Despesas do FUNDEB</a:t>
            </a:r>
            <a:endParaRPr b="0" lang="en-US" sz="4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421000"/>
            <a:ext cx="777888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ceita Destinada ao Fundeb.............R$   1.708.724,2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ceita liquida destinada ao Fundeb....R$     34.049,66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espesas C/Remuneração Fundeb.....R$   1.623.574,38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..........31,39%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DO FUNDEB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espesas do Fundeb......R$  2.583.422,02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FUNDEB:                                       ....................................................R$  (34.049,66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 das despesas (limites)...R$  2.549.372,36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1° QUADRIMESTRE 2021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8581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O MUNICÍPIO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640" y="2428920"/>
            <a:ext cx="75312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..........R$   1.368.523,3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RSÕES:..................R$               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..........R$          8.223,8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R$   1.376.747,1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715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71320" y="1988640"/>
            <a:ext cx="80326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                     R$ 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          R$ 153.810,6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          R$ 236.600,0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        R$ 3.789.135,7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GENCIA DE FOMENTO    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1.000.00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R$ 5.179.546,5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462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2286000"/>
            <a:ext cx="821844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.........R$    81.227,8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.:.............R$  507.817,0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AIS OBRIGAÇÕES:......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$    5.713,13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................................R$  594.757,9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5.246.803,7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LIVRES:..................................................................</a:t>
            </a:r>
            <a:r>
              <a:rPr b="1" lang="pt-BR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$  3.460.409,4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TOTAL:..............................................................................................R$  8.707.213,17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RESTOS A PAGAR-RECURSOS LIVRES</a:t>
            </a: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:..................................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$    626.245,57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-) RESTOS A PAGAR-RECURSOS VINCULADOS:.......................R$  1.739.472,0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-) DEMAIS OBRIGAÇÕES FINANCEIRAS LIVRES.......................R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223.874,8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TOTAL..............................................................................................R$   2.589.592,44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.......................................................R$  3.283.456,84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:...............................................................R$ 2.834.163,89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OTAL DISPONIBILIDADE LÍQUIDA...........................R$  6.117.620,73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1° QUADRIMESTR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s Primárias: R$ 10.154.499,58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esas Primárias: R$ 10.074.364,5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 R$ 1.856.807,79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1° QUADRIMEST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$ 1.762.772,87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2600" y="2071440"/>
            <a:ext cx="7715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80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8000"/>
            </a:b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85808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L-ESTADUAL</a:t>
            </a:r>
            <a:br>
              <a:rPr sz="3500"/>
            </a:br>
            <a:br>
              <a:rPr sz="3500"/>
            </a:b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ÊNCIAS DE RECURSOS DO FUNDO NACIONAL DE ASSISTENCIA SOCIAL-FNAS</a:t>
            </a:r>
            <a:br>
              <a:rPr sz="3500"/>
            </a:br>
            <a:br>
              <a:rPr sz="3500"/>
            </a:br>
            <a:r>
              <a:rPr b="1" lang="pt-BR" sz="4000" spc="-1" strike="noStrike">
                <a:solidFill>
                  <a:srgbClr val="ff0000"/>
                </a:solidFill>
                <a:latin typeface="Arial"/>
                <a:ea typeface="Arial"/>
              </a:rPr>
              <a:t>R$ 14.681,36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9480" y="642960"/>
          <a:ext cx="7462800" cy="5715000"/>
        </p:xfrm>
        <a:graphic>
          <a:graphicData uri="http://schemas.openxmlformats.org/drawingml/2006/table">
            <a:tbl>
              <a:tblPr/>
              <a:tblGrid>
                <a:gridCol w="3732480"/>
                <a:gridCol w="37303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DE PROTEÇÃO SOCIAL BAS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0.96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7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O FIXO MEDIA COMPLEXIDADE MAC FNAS R$ 184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84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7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CO DE GESTÃO DO PROGRAMA BOLSA FAMILIA E DO CADASTRO ÚN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3.537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4.681,3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</a:t>
            </a:r>
            <a:r>
              <a:rPr b="1" lang="pt-BR" sz="5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5000"/>
            </a:b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ESSOAL E ENCARGOS: R$  245.590,78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UTRAS DESP. CORRENTES:R$ 111.048,08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: ................................R$ 356.638,86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59/2021 – TCE-PR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TALHAMENTO DAS DESPESA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9480" y="1785960"/>
          <a:ext cx="8177400" cy="4765680"/>
        </p:xfrm>
        <a:graphic>
          <a:graphicData uri="http://schemas.openxmlformats.org/drawingml/2006/table">
            <a:tbl>
              <a:tblPr/>
              <a:tblGrid>
                <a:gridCol w="4089600"/>
                <a:gridCol w="4087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VENCIMENTOS E VANTAG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.891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BRIGAÇÕES PATRO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.696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TERIAL DE 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.162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ÇOS TERCEIRO –PESSO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90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ÇOS TERCEIRO –PESSOA JURID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ÇOS DE TECNOLOGIA E COMUN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UXILIO FINANCEIRO A PESSOAS FIS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6.638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1714680"/>
            <a:ext cx="8077320" cy="43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Objetivo da Audiênc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8066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arágrafo 4º do artigo 9º da Lei Complementar nº 101/200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 texto da  LRF  determina que o Poder Executivo " demonstrará e avaliará o cumprimento das metas fiscais de cada quadrimestre, em audiência públic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C nº 101/2000 -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2160360"/>
            <a:ext cx="785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órios Fiscais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8139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(LRF), 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RF contém os Relatórios de Gestão Fisc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76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Contabilidade</cp:lastModifiedBy>
  <cp:lastPrinted>2021-05-27T18:12:58Z</cp:lastPrinted>
  <dcterms:modified xsi:type="dcterms:W3CDTF">2021-05-27T18:16:31Z</dcterms:modified>
  <cp:revision>581</cp:revision>
  <dc:subject/>
  <dc:title>JANEIRO  2005</dc:title>
</cp:coreProperties>
</file>