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B352D-0515-4C8C-913B-C9F03F6D1F5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Espaço Reservado para Número de Slide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A1A997-071F-4978-A3EE-A76B0FEA60F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Espaço Reservado para Número de Slide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CB064F-788F-49F0-AC66-7487CE2192C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Espaço Reservado para Número de Slide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F8319-124D-4528-8F15-DF720B2B064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Espaço Reservado para Número de Slide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BCB61B-9E16-4833-8BCB-00D85E1E22D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Espaço Reservado para Número de Slide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CC9E4-445B-4D5C-BABF-87900A1758E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Espaço Reservado para Número de Slide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5AD80-548C-4EE5-B361-0FAD204519C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Espaço Reservado para Número de Slide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924490-0BC3-4731-B640-28A00178F98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Espaço Reservado para Número de Slide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648A2-456A-47E1-9B6B-DC10A7619BF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Espaço Reservado para Número de Slide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03C4E-B986-4495-9A9E-FA0679FD664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Espaço Reservado para Número de Slide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34792A-17D6-47FC-BD6D-2E605AEB04E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Espaço Reservado para Número de Slide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1530A-E3F4-440B-8F01-4E3745DB682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Espaço Reservado para Número de Slide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0A6D78-CFEA-4033-8DB2-794F3531733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Espaço Reservado para Número de Slide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5952BA-F948-4115-A5F2-F48349F7201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Espaço Reservado para Número de Slide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D3AC9-456C-4633-80C7-F84C03141C1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Espaço Reservado para Número de Slide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16EAA-7524-4E36-870A-9B460E76FF2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Espaço Reservado para Número de Slide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085329-03D1-49C2-9ED9-BBC5F9B5A26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Espaço Reservado para Número de Slide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519CF3-1481-41D3-89B2-915B60FFC3B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A85A-C0CE-4BD4-A888-45021EE7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DCBA-82DD-49E9-83AF-C8AB4499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63CD2-89C3-425B-BDEE-18441041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28DEC-B598-4782-91FD-2B5BAE5D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8BEE2-2795-43B5-91B2-B7E99F97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2DF78-C891-4F26-8716-8EA2A6E4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B8101-6128-4335-8F12-0AA10669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35573-5C72-4ECE-978F-6824E2CF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3EB5A-08AE-4B65-A4D9-D92C1D14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BCEBA-7C6F-409F-B4A4-354A3567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6F7A7-2AEB-4868-A660-8E5764AE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C2923-FED7-4B2C-88F4-40B9D1F0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3951-B72D-4A48-AEBA-D3571FE3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2D25E-FCF1-41E9-AFD2-172FF559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9396E-3A5C-447E-8B29-7694782E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7EE12-5FDB-4EF1-BA43-73C9517F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E780A-F72A-4C1F-97CD-5BCF6481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4F21D-8404-4809-BCC2-7E455C26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1FC26-CF21-4D00-B875-1D577C2C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6745A-6583-4F2F-B3D8-AB3E33A0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321B0-D4BC-4D35-B636-93E3E5C4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0D793-5E1E-4FB8-9645-DEF6EA9E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B3D3B-C38B-466F-842D-ABF3B9C5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E9F9-D808-4B1F-BD99-ECC06DC2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4AEB9-F403-49CD-BEB2-6227096E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EE023-E2DA-4156-84F9-1620DBE8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971E2-1879-43CE-B2C6-E58CF206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B2D43-D616-4092-8AEB-A9F492B2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2F31D-F09A-44E4-90D6-6694BBEF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46758-3037-4F22-A74E-A36E060E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5E996-0E03-4D09-9C34-3B68F260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B82D3-F795-4789-AF15-1086B16E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E9DA9-A1BC-484C-8F83-9568A76E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5B774-EF66-4014-A1C3-B23DCF13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FCB6-A6E8-4604-A44E-F29225A3B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EC6D2-1FE2-4CE1-AF93-380C07BD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C401B-2CF8-45D2-8D44-C0C7FE55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50DED-D472-4C5A-866C-5DBB76D0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7AA95-04E0-409A-94AD-DC1DE8E1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EDF3C-8CEE-49D8-B08A-0D50AFF5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758E6-E011-410E-BAC0-EE47CA4D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CD359-E08A-4898-B929-F9D64A35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CE1DBD-27C6-4DC1-AB4D-57FAC0F5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D6510-9975-42F8-8347-85A350A8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F3365-5099-41CA-AE2A-03BE5DE1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4E2E-6EA9-4C6C-8057-A4A66603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B16CD-9FEA-4915-AB05-04955E3E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0213D-FEDA-4D83-9EC7-CC5ADE48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7F1A2-20F8-431D-B042-CCCCE269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5E042-7F42-41BB-B374-22BF1BA1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7FF9D-2CEE-4CB6-A68C-E4B1BFC9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F512C6-87F9-4E0F-828C-8899B880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990C12-AF08-4853-B6A9-C8DFC415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E85DB9-B326-419F-9E1A-B714B11C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12D45A-F670-421B-9B33-162F2F5C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08DA67-FBD2-4FAE-B9F5-66000AA1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5532-D202-46A5-B79B-FC52A4BB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7DC7EB-9FCB-4980-A746-20D926D6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52D49B-BD6E-4F9B-AC41-F0292376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60F673-18CE-449C-A511-DA2F95A3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49576B-885E-4E00-AE82-BEC9761C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8D3EA-DC58-4C09-9D4B-D17E9C88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CA6208-7339-4575-9918-C96153A7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74AF02-62BC-4F5A-9EFD-EE8FA459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6B99E6-9B0A-4E90-AC5B-8CA92CBA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ED3984-CA01-4ECD-8140-3E3A9BFF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D6155F-EEA4-4B72-B008-F6DAA1DD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BD2A-B74B-48CA-9823-06156159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072923-2F11-472D-AF0C-EFA780E6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3AFB92-2F1A-4A01-BA0D-660124C5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0B3682-8920-460A-A444-2859CA4A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BE9BAE-9C69-491E-BEED-B1147D8F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A4885B-8580-4B86-9071-708DFAB7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E9971B-ADD5-450D-88DE-1A623AEB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061392-C9C7-4F00-B06D-7C9AC60B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F412BB-81FC-4FB4-9C31-31137CA1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3B5A09-4511-4788-8A37-A4FAC1C9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E7C18F-3CAE-4BD3-8318-1EDE4790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AAA3-344D-4BCB-B82B-C47210AC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BF65E3-E39A-4DF4-981A-0E18705D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1E43C2-6C51-41D9-BB3B-CC597738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E6391F-621D-41FA-9841-6F33B107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DF4307-16DF-4C65-9B5D-0D21027B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A9ABBF-131C-4F59-98D3-E6EBBB37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9A576A-CAC4-4D07-8209-651349DC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73A09F-A77F-4037-AB42-56B90EB1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3FFDAD-B320-4500-AC9F-3CD10A0B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BBA23B-5AD1-4F1C-A585-77EE31DF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F33690-D695-4ED9-895C-246612145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6CEF-98FB-443C-92C0-041311B3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DF1625-18D5-49AA-9808-FAB68AEE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C30060-FF92-41E1-A49C-E2CC853A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018005-B488-4ECF-8101-64032EC4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169876-105D-4DF8-8A0E-889CE8DF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B8C70F-6F11-4DDF-A91E-D388CE36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DF91DF-F69B-49F5-AECA-3CA15E7E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B4C844-9A72-422F-98C9-112A5B71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CE705B-D5B3-4A5E-8508-0DA76029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25ECB9-0D66-4F72-A108-90E158FF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4C8504-C7C5-4F56-B9EC-9EE0303B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B332-594D-4B36-A3FA-31B5368A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AE8B32-CDA5-4B06-A2D0-A62B217B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817A8D-39F5-4F3D-B52D-96B097CE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646AF5-5373-46A5-8C4A-C589C638E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C0EE10-95E1-42C5-A0F1-67299670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DB0E0C-5780-440B-A889-39FACF51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2062C9-C8D8-4D6A-8CF0-DB39D86D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DAA50D-D33D-448D-B919-E27FB647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72FA68-6A7B-4B60-81D7-FE055D25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6FC328-4369-49AF-9422-C4F79340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ECE266-FCE7-4C53-B9AA-0DD8DA56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E8C7-D1EA-44C4-8FC6-094D938C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07FF-FD43-4204-9DFF-3E989FF2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6333FF-442E-4630-A202-427C5394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C8A82B-FA8A-49D2-A2C5-4E39E77F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162EF4-803C-437B-AE7C-CEB76D63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196D77-03C5-4328-BDC5-EF34B44C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A9975A-A84B-46C0-A77E-9A563B85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62F2-A954-48D4-B786-57054DC7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622F-DE8E-4968-85E8-1514D137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6C74-99C5-42C5-8520-8F61333D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6A73-59DC-478D-AE5D-385F02C7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858C9-9B7C-48D7-89DF-618D2F05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945AB-E53D-4D98-8BDD-ECE4BDA2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699D0-43FA-4757-A2FC-92003318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4DFFF-4F47-434D-9381-0AEF7D8E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1DA27-76E4-4F48-A30F-489C8A36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5B51-86FF-42CB-A245-ECB91D10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B63D4-0E67-45A3-A0ED-FCC4BF9B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05910-1F46-4072-A427-FA7A5CDA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2AABD-247B-4BD6-B532-E9C11DA1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1B0C0-8701-430F-A9B2-FDE4C696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2C190-46B3-4413-A5EC-A9305503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41625-F0AB-410E-AFEB-49C596B0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88DD5-2C95-4EC0-86E4-03C6B2EB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B220B-2A9E-4988-AC85-7D902EBF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1459C-A005-4C42-A65C-6DFA05BE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2C0FC-47E6-4096-8E97-A640D59E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2DE-DEA7-4558-8110-45718391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5ABAA-04B7-426B-BACF-4884539A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09A3B-E4BE-4629-91A3-58B2CBC1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B1ED0-90CF-4BCD-B9A0-81995285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975C9-7F2F-403C-BEE0-3A26EEC3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82390-2E94-49A7-AE06-82BE10C8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B15CB-1DAF-484A-85D7-2BF7BC24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5D022-84F2-4F9E-88DF-F6F563EF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E3DAB-0768-41CC-A596-FE6DDD1F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2739A-3517-41EC-9BFB-FA9D40DD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ED122-86DC-44FD-B68C-0330DA49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B053-7983-4A3B-9150-FFF63715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C3F68-DF67-4D5A-BBAF-055A5A98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088DC-BA4A-472C-9817-086327CA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13D71-1B66-47EE-939B-C850F31C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F0C3A-81B3-489B-9D02-7ADE23AC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AB033-7CAE-4963-9F75-7BA91FE1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6B1FB-BFC7-416D-A47C-F08617BB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FB868-4B3C-4083-8460-37132AE3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E4FFF-AB86-4253-9A73-92AA14DB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D6E53-7986-44D0-8FCC-8E852605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4AE88-FB59-41AC-845C-5319514B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D570-2666-4212-BC15-8250E35C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11A9C-3E3C-43DD-A14D-97CAB9EB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DC263-7280-4377-87B8-FB7750C3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3E2C9-BB10-4E3C-861E-E21F1ABB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D731F-9E4F-4FE2-9385-B8ABC85B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8FC4C-AAEF-4B94-B26B-91DB97FA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28B6B-03CF-4022-B1DD-82E8FC1B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57DF8-932A-4D39-A29B-62A06349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BA28A-3733-458C-B04F-C422D607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6CC39-9109-4E05-B33D-43FAFD40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89AED-BB6E-460C-A5F0-D06AEE05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633F-DE2E-4A00-8A9C-D55A47DF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994B2-C593-4A1C-AB5D-7F22BE5F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75CA2-532B-4315-AB1C-118A4158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D4CF2-613D-4A3A-B353-7DD1A014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BDCB1-BE0B-4297-8C8D-24105C42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5DACD-0626-46AB-BE37-D64146F1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E16CE-10AC-4CB1-AB5E-20BE214B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F3C70-F194-40A8-A4BA-A73C1042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DBC8D-2902-473F-90F9-02806B96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AAE3F-E2AA-4F4B-83DB-472EB85F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F5BB8-2B40-4AFD-9F77-3ECCDBA7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8D00-B8EA-4FF8-A6ED-04E056E6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68A62-FB39-40AD-8FEC-F066050F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A1613-3755-42BE-9CDB-841A7913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27186-FE79-4440-BAFA-DAFDAC91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92188-2FEB-4FF4-912D-0905B77A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74284-0965-4EF8-99B9-10A894FD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8DA9C-6B36-4E0C-ADC7-9887D0440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0C631-1558-4746-97FE-2EFE77C5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B1A0D-7BD2-4704-B4F7-E4DF7513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C3571-5E73-4084-803E-5227D604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22C47-12A5-433F-96E7-24DDB729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21C5-C140-4DCF-9A0B-6EABA335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E78D7-D42F-4156-8185-C88A6D48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2C799-70AF-4123-B329-5BF60154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F1489-498B-42B4-9553-D4036D9F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56002-9618-41FF-8719-65754E3D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F1DBD-4ABD-4E90-B589-24BC89C5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9532E-18F9-45C9-8940-CEEAD1C9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FF0B0-A088-4C4E-8EE0-455C7EFE6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2FC5A-6ACC-4E28-AB1E-37E7AD8B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7B886-29C2-4914-940E-79EB7155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C3FD4-586E-40EA-915B-045260C0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DF267E-1410-47D1-B630-323B1EBB7557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037508-BFF2-449E-9A76-94802BE26DE7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172F33-1E13-4171-828C-200250D1595C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C99003-DFA7-45C0-9331-0C277E0A1F85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2DD4B6-BB3B-4C82-8CB2-3065A805DF2F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8DF73-D9BA-4D54-8D4F-901F1C837444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2D693F-0BA0-4933-B6CA-0826ADA482A7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80D2A9-0105-4705-8ADC-396231C1EA90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92CEC-BFB6-45D9-810E-3834F8986DDA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AE113-BDDF-4736-9AF1-64CBE2412D5E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81764A-8301-4766-9543-CBBB41B5DD4E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8DEE33-D56F-43EB-9771-80360C480DE0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F591A8-2AB1-4A99-B3C3-69CACC834CBD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7CFDF5-A94D-4E90-8C4D-0455C38D5601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95C0BB-51EC-4231-8A50-E20689469C62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E2D79-2D9C-473F-B5D8-56620E25BA9F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C27306-7C24-479F-9866-C93C4527293E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320240" cy="553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262626"/>
                </a:solidFill>
                <a:latin typeface="Century Gothic"/>
              </a:rPr>
              <a:t>MUNICIPIO DE TUNEIRAS DO OESTE -PR</a:t>
            </a: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Century Gothic"/>
              </a:rPr>
              <a:t>AUDIÊNCIA PÚBLICA DA SAÚDE 2º QUADRIMESTRE 2021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4" name="Picture 2" descr="Brasão2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928960" y="500040"/>
            <a:ext cx="20718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t-BR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02" name=""/>
          <p:cNvGraphicFramePr/>
          <p:nvPr/>
        </p:nvGraphicFramePr>
        <p:xfrm>
          <a:off x="357120" y="476280"/>
          <a:ext cx="8607600" cy="6121440"/>
        </p:xfrm>
        <a:graphic>
          <a:graphicData uri="http://schemas.openxmlformats.org/drawingml/2006/table">
            <a:tbl>
              <a:tblPr/>
              <a:tblGrid>
                <a:gridCol w="1693800"/>
                <a:gridCol w="930240"/>
                <a:gridCol w="1182960"/>
                <a:gridCol w="1550880"/>
                <a:gridCol w="1476360"/>
                <a:gridCol w="1773360"/>
              </a:tblGrid>
              <a:tr h="103968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 SAÚDE –RECURSO PRÓPRI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47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/BLO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DO QUADRIMESTRE ANTERIO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ECADADO ATE 31/0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ARRECADADO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1123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 VINCULADAS (EC 29/00 - 15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33-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6.655,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.258.645,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.265.301,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870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XAS PODER DE POLIC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81-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5.517,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97.415,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22.932,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869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VARA DE LICENÇ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-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012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.994.095,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4.010.951,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6.005.046,5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424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ESPESAS SAÚDE - 2° QUADRIMESTRE DE 2021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04" name="Espaço Reservado para Conteúdo 4"/>
          <p:cNvGraphicFramePr/>
          <p:nvPr/>
        </p:nvGraphicFramePr>
        <p:xfrm>
          <a:off x="1943280" y="2975040"/>
          <a:ext cx="6591240" cy="20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5" name="Espaço Reservado para Conteúdo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2975040"/>
                    <a:ext cx="659124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6" name=""/>
          <p:cNvGraphicFramePr/>
          <p:nvPr/>
        </p:nvGraphicFramePr>
        <p:xfrm>
          <a:off x="826920" y="836640"/>
          <a:ext cx="7993080" cy="5983200"/>
        </p:xfrm>
        <a:graphic>
          <a:graphicData uri="http://schemas.openxmlformats.org/drawingml/2006/table">
            <a:tbl>
              <a:tblPr/>
              <a:tblGrid>
                <a:gridCol w="5472360"/>
                <a:gridCol w="2520720"/>
              </a:tblGrid>
              <a:tr h="647640"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PESAS NO QUADRIMES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549360">
                <a:tc>
                  <a:txBody>
                    <a:bodyPr lIns="0" rIns="0" tIns="0" bIns="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rcentual 15% (Município) conta 6933-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2.239.488,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582480">
                <a:tc>
                  <a:txBody>
                    <a:bodyPr lIns="0" rIns="0" tIns="0" bIns="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grama Federal (Atenção Básica) 7175-7 E 11065-5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582840">
                <a:tc>
                  <a:txBody>
                    <a:bodyPr lIns="0" rIns="0" tIns="0" bIns="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grama Federal - Conta  7176-5, 9704-7 e 10468-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528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582480">
                <a:tc>
                  <a:txBody>
                    <a:bodyPr lIns="0" rIns="0" tIns="0" bIns="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grama Estadual ( Assistência Farmaceutica-9437-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517680">
                <a:tc>
                  <a:txBody>
                    <a:bodyPr lIns="0" rIns="0" tIns="0" bIns="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grama Estadual ( Atenção Básica-410-7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582480">
                <a:tc>
                  <a:txBody>
                    <a:bodyPr lIns="0" rIns="0" tIns="0" bIns="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grama de Requalificação de UBS - Construção (10080-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12.00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584280">
                <a:tc>
                  <a:txBody>
                    <a:bodyPr lIns="0" rIns="0" tIns="0" bIns="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strução Unidade Saúde da Familia-Construção (10153-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774720">
                <a:tc>
                  <a:txBody>
                    <a:bodyPr lIns="0" rIns="0" tIns="0" bIns="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grama Federal e Estadual(Aih, Teto e mac) 6942-6, 9560-5 e 10464-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61.040,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579240">
                <a:tc>
                  <a:txBody>
                    <a:bodyPr lIns="0" rIns="0" tIns="0" bIns="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grama Federal (Gestão do SUS)  8258-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332000" y="115560"/>
            <a:ext cx="7488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ESPESAS SAÚDE - 2° QUADRIMESTRE DE 2021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08" name=""/>
          <p:cNvGraphicFramePr/>
          <p:nvPr/>
        </p:nvGraphicFramePr>
        <p:xfrm>
          <a:off x="539640" y="774720"/>
          <a:ext cx="8353440" cy="5916600"/>
        </p:xfrm>
        <a:graphic>
          <a:graphicData uri="http://schemas.openxmlformats.org/drawingml/2006/table">
            <a:tbl>
              <a:tblPr/>
              <a:tblGrid>
                <a:gridCol w="5688000"/>
                <a:gridCol w="2665440"/>
              </a:tblGrid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PESAS NO QUADRIMES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407880">
                <a:tc>
                  <a:txBody>
                    <a:bodyPr lIns="0" rIns="0" tIns="0" bIns="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grama Estadual (Assistência Farmacêutica/Investimento)  10164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518040">
                <a:tc>
                  <a:txBody>
                    <a:bodyPr lIns="0" rIns="0" tIns="0" bIns="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grama Estadual (Programa Vigiasus)   00000019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10.826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369720">
                <a:tc>
                  <a:txBody>
                    <a:bodyPr lIns="0" rIns="0" tIns="0" bIns="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grama Federal (Equipamentos Unidades de Saúde)  10644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407880">
                <a:tc>
                  <a:txBody>
                    <a:bodyPr lIns="0" rIns="0" tIns="0" bIns="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grama Estaual de Qualificação dos Conselheiros Municipais (015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368640">
                <a:tc>
                  <a:txBody>
                    <a:bodyPr lIns="0" rIns="0" tIns="0" bIns="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loco de Investimento Serviços de Saúde - Federal (11718-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27.276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loco de Custeio Serviços de Saúde – Fed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11709-9) E (624.001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955.620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368280">
                <a:tc>
                  <a:txBody>
                    <a:bodyPr lIns="0" rIns="0" tIns="0" bIns="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loco de Custeio Serviços de Saúde -Federal (00000016-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156.886,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331560">
                <a:tc>
                  <a:txBody>
                    <a:bodyPr lIns="0" rIns="0" tIns="0" bIns="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xilio Financeiro ações saude-Covid -(00104790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46.201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331920">
                <a:tc>
                  <a:txBody>
                    <a:bodyPr lIns="0" rIns="0" tIns="0" bIns="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mpliação UBS Aparecida do Oeste (11777-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331920">
                <a:tc>
                  <a:txBody>
                    <a:bodyPr lIns="0" rIns="0" tIns="0" bIns="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ademia de saúde (624002-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331560">
                <a:tc>
                  <a:txBody>
                    <a:bodyPr lIns="0" rIns="0" tIns="0" bIns="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quipamentos para UBS (11455-3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518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ceita Recursos livres -conta bancaria 12081-2 e 6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102.792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701640"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3.625.661,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942920" y="1844280"/>
            <a:ext cx="6599160" cy="35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900" spc="-1" strike="noStrike">
                <a:solidFill>
                  <a:srgbClr val="262626"/>
                </a:solidFill>
                <a:latin typeface="Arial"/>
                <a:ea typeface="Arial"/>
              </a:rPr>
              <a:t>DEMONSTRATIVO RESUMIDO RECEITA/DESPESA E SALDO BANCÁRIO</a:t>
            </a: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subTitle"/>
          </p:nvPr>
        </p:nvSpPr>
        <p:spPr>
          <a:xfrm>
            <a:off x="1942920" y="4869000"/>
            <a:ext cx="6599160" cy="12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t-BR" sz="18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1" name=""/>
          <p:cNvGraphicFramePr/>
          <p:nvPr/>
        </p:nvGraphicFramePr>
        <p:xfrm>
          <a:off x="395280" y="333360"/>
          <a:ext cx="8569440" cy="6291360"/>
        </p:xfrm>
        <a:graphic>
          <a:graphicData uri="http://schemas.openxmlformats.org/drawingml/2006/table">
            <a:tbl>
              <a:tblPr/>
              <a:tblGrid>
                <a:gridCol w="1714680"/>
                <a:gridCol w="1712880"/>
                <a:gridCol w="1714320"/>
                <a:gridCol w="1712880"/>
                <a:gridCol w="1714680"/>
              </a:tblGrid>
              <a:tr h="685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DO DO QUADRIMESTRE  ANTERI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ECADADO QUADRIMES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PESAS QUADRIMES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DO PARA O QUADRIMESTRE SEGUIN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531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ual 15% do Município - conta bancaria 6933-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6.655,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2.258.645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2.239.488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25.813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669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Federal -Atenção Básica-conta bancaria 7175-7 E 11065-5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201.713,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.480,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203.193,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881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Federal/Estadual- conta bancaria  7176-5, 9704-7 e 10468-x, 10-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99.692,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705,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3.52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86.869,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703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Estadual- Assistência Farmaceutica-conta bancaria 9437-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23,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0,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24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531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Estadual -Atenção Básica-conta bancaria 410-7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838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5,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844,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703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de Requalificação de UBS - Construção -conta bancaria10080-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2.600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45,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2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645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704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ção Unidade Saúde da Familia-Construção -conta bancaria10153-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809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5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815,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879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Federal e Estadual(Aih, Teto e mac)-conta bancaria 6942-6, 9560-5 e 10464-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7.333,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39.483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61.040,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85.776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2" name=""/>
          <p:cNvGraphicFramePr/>
          <p:nvPr/>
        </p:nvGraphicFramePr>
        <p:xfrm>
          <a:off x="324000" y="333360"/>
          <a:ext cx="8569080" cy="6394320"/>
        </p:xfrm>
        <a:graphic>
          <a:graphicData uri="http://schemas.openxmlformats.org/drawingml/2006/table">
            <a:tbl>
              <a:tblPr/>
              <a:tblGrid>
                <a:gridCol w="1714320"/>
                <a:gridCol w="1712880"/>
                <a:gridCol w="1714680"/>
                <a:gridCol w="1712880"/>
                <a:gridCol w="1714320"/>
              </a:tblGrid>
              <a:tr h="728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DO DO QUADRIMESTRE  ANTERI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ECADADO QUADRIMES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PESAS QUADRIMES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DO PARA O QUADRIMESTRE SEGUIN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541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Federal (Gestão do SUS)-conta bancaria 8258-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8.561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62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8.623,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71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Estadual (Assistência Farmaceutica/Invest.)-conta bancaria  10164-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0.454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76,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0.530,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81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Estadual (Programa Vigiasus)-conta bancaria  00000019-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80.776,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.234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0.826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71.184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71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Federal (Equip. Unidades de Saúde)-conta bancaria 10644-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34.31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251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34.567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677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Estaual de Qualificação dos Conselheiros Municipais-conta bancaria 015-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.480,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0,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.490,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717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co de Investimento Serviços de Saúde - Federal -conta bancaria 11718-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60.258,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335,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27.276,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33.317,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71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co de Custeio Serviços de Saúde Federal-conta bancaria 11709-9 e 624.001-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.118.539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.188.290,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955.620,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.351.209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752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co de Custeio Serviços de Saúde -Federal-conta bancaria 00000016-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23.437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86.229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56.886,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52.780,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3" name=""/>
          <p:cNvGraphicFramePr/>
          <p:nvPr/>
        </p:nvGraphicFramePr>
        <p:xfrm>
          <a:off x="395280" y="404640"/>
          <a:ext cx="8497800" cy="6121440"/>
        </p:xfrm>
        <a:graphic>
          <a:graphicData uri="http://schemas.openxmlformats.org/drawingml/2006/table">
            <a:tbl>
              <a:tblPr/>
              <a:tblGrid>
                <a:gridCol w="2141640"/>
                <a:gridCol w="1428480"/>
                <a:gridCol w="1641600"/>
                <a:gridCol w="1643040"/>
                <a:gridCol w="1643040"/>
              </a:tblGrid>
              <a:tr h="93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DO DO QUADRIMESTRE  ANTERI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ECADADO QUADRIMES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PESAS QUADRIMES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DO PARA O QUADRIMESTRE SEGUIN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1079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xilio Financeiro ações saude-Covid -conta bancaria 00104790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81.611,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46.201,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35.409,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77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liação UBS Aparecida do Oeste-conta bancaria 11777-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8.198,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60,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8.258,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971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ademia de saúde-conta bancaria-conta bancaria 624002-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36.529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36.529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776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amentos para UBS -conta bancaria 11455-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1.177,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82,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1.259,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808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ta Recursos livres -conta bancaria 12081-2 e 6-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25.517,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97.415,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02.792,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20.139,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776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.994.095,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4.010.951,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3.625.661,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2.379.385,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09120" y="549000"/>
            <a:ext cx="821052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RESTOS A PAGAR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15" name=""/>
          <p:cNvGraphicFramePr/>
          <p:nvPr/>
        </p:nvGraphicFramePr>
        <p:xfrm>
          <a:off x="324000" y="1268280"/>
          <a:ext cx="8569080" cy="5256360"/>
        </p:xfrm>
        <a:graphic>
          <a:graphicData uri="http://schemas.openxmlformats.org/drawingml/2006/table">
            <a:tbl>
              <a:tblPr/>
              <a:tblGrid>
                <a:gridCol w="5040000"/>
                <a:gridCol w="3529080"/>
              </a:tblGrid>
              <a:tr h="67788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OS A PAGAR  INSCRITOS EM 2021 PAGOS ATE 31/08/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6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677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ÚDE 15% - FONTE 10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541,90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1525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CO DE CUSTEIO DAS AÇÕES E SERVIÇOS PÚBLICOS DE SAÚDE – FEDERAL – FONTE 4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422,08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1020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XAS PODER POLICIA E SERVIÇOS –FONTE 1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45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677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.209,00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8425080" cy="33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Arial"/>
              </a:rPr>
              <a:t>APLICAÇÕES EM SAÚDE</a:t>
            </a: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1942920" y="4776480"/>
            <a:ext cx="6599160" cy="1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t-BR" sz="18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5628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DEMONSTRATIVO DOS GASTOS EM SAÚDE PÚBLIC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188" name=""/>
          <p:cNvGraphicFramePr/>
          <p:nvPr/>
        </p:nvGraphicFramePr>
        <p:xfrm>
          <a:off x="609480" y="1700280"/>
          <a:ext cx="8066160" cy="4968720"/>
        </p:xfrm>
        <a:graphic>
          <a:graphicData uri="http://schemas.openxmlformats.org/drawingml/2006/table">
            <a:tbl>
              <a:tblPr/>
              <a:tblGrid>
                <a:gridCol w="4249800"/>
                <a:gridCol w="3816360"/>
              </a:tblGrid>
              <a:tr h="693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MITES CONSTITUCION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APL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693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 APL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4.041.398,33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693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PESA MINIMA A SER APLIC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2.650.590,15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1728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ERENÇA ENTRE O VALOR APLICADO E DESPESA SER APLIC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  1.390.808,18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1158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IMO DE 15% DAS RECEITAS DE IMPOSTOS EC- 29/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87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331640" y="692280"/>
            <a:ext cx="75610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262626"/>
                </a:solidFill>
                <a:latin typeface="Arial"/>
                <a:ea typeface="Arial"/>
              </a:rPr>
              <a:t>MONTANTE DOS RECURSOS RECEBIDOS ATÉ 31/08/2021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539640" y="2205000"/>
            <a:ext cx="8353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ALDO QUADRIMESTRE ANTERIOR + ARRECADADO ATE 31/08 =MONTANTE TOTA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PASSE FEDERAL:                                           R$  3.302.622,32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PASSE ESTADUAL:                                         R$     314.190,57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CURSOS PROPRIOS MUNICIPIO:                  R$  2.388.233,70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TOTAL REPASSES:                            R$ 6.005.046,59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t-BR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192" name=""/>
          <p:cNvGraphicFramePr/>
          <p:nvPr/>
        </p:nvGraphicFramePr>
        <p:xfrm>
          <a:off x="324000" y="320760"/>
          <a:ext cx="8712000" cy="6203880"/>
        </p:xfrm>
        <a:graphic>
          <a:graphicData uri="http://schemas.openxmlformats.org/drawingml/2006/table">
            <a:tbl>
              <a:tblPr/>
              <a:tblGrid>
                <a:gridCol w="3187440"/>
                <a:gridCol w="878040"/>
                <a:gridCol w="1089000"/>
                <a:gridCol w="1233360"/>
                <a:gridCol w="1017720"/>
                <a:gridCol w="1306440"/>
              </a:tblGrid>
              <a:tr h="99540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 SAÚDE -</a:t>
                      </a:r>
                      <a:r>
                        <a:rPr b="1" lang="pt-B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 FEDER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8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/BLO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DO QUADRIMESTRE ANTERIO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ECADADO ATE 31/0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ARRECADADO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887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XILIO FINANCEIRO-COVID19(AÇÃO SOCIA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0479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81.611,7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81.611,7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700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ÃO DO SU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58-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8.561,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62,8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8.623,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538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UALIFICAÇÃO DA UBS-CONSTRUÇÃ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80-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2.600,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45,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2.645,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538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S/FNS/ATENÇÃO BASIC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9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75-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01.713,5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.480,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03.193,6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538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AMENTOS ATENÇÃO BAS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9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65-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I/AIH HOSPITALAR (ALTA E MEDIA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42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6.346,6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39.483,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46.428,9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539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A E MEDIA COMPLEXIDADE-MA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60-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599,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t-BR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194" name=""/>
          <p:cNvGraphicFramePr/>
          <p:nvPr/>
        </p:nvGraphicFramePr>
        <p:xfrm>
          <a:off x="324000" y="333360"/>
          <a:ext cx="8640720" cy="6264360"/>
        </p:xfrm>
        <a:graphic>
          <a:graphicData uri="http://schemas.openxmlformats.org/drawingml/2006/table">
            <a:tbl>
              <a:tblPr/>
              <a:tblGrid>
                <a:gridCol w="3160440"/>
                <a:gridCol w="871560"/>
                <a:gridCol w="1008000"/>
                <a:gridCol w="1224000"/>
                <a:gridCol w="1224000"/>
                <a:gridCol w="1152720"/>
              </a:tblGrid>
              <a:tr h="115272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 SAÚDE -</a:t>
                      </a:r>
                      <a:r>
                        <a:rPr b="1" lang="pt-B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 FEDER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1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/BLO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DO QUADRIMESTRE ANTERIO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ECADADO ATE 31/0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ARRECADADO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860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CO VIGILANCIA SANITARI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76-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8.611,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450,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9.061,7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608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QUISIÇÃO UNIDADE MOVEL DE SAUD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18-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60.258,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335,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60.593,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522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AMENTOS PARA A UB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55-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1.177,5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82,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1.259,5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52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AMENTOS UNIDADE BASICA DE SAU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44-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34.316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51,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34.567,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522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CO DE CUSTEIO FEDER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09-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18.482,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500.942,6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719.424,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5209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CO DE CUSTEIO FEDER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4001-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NDAS PARLAMENTARES-CUSTEIO FEDERAL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0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4001-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325.00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630.00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955.00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t-BR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196" name=""/>
          <p:cNvGraphicFramePr/>
          <p:nvPr/>
        </p:nvGraphicFramePr>
        <p:xfrm>
          <a:off x="324000" y="404640"/>
          <a:ext cx="8640720" cy="5977080"/>
        </p:xfrm>
        <a:graphic>
          <a:graphicData uri="http://schemas.openxmlformats.org/drawingml/2006/table">
            <a:tbl>
              <a:tblPr/>
              <a:tblGrid>
                <a:gridCol w="2879640"/>
                <a:gridCol w="720720"/>
                <a:gridCol w="1008000"/>
                <a:gridCol w="1368360"/>
                <a:gridCol w="1295640"/>
                <a:gridCol w="1368360"/>
              </a:tblGrid>
              <a:tr h="152100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 SAÚDE -</a:t>
                      </a:r>
                      <a:r>
                        <a:rPr b="1" lang="pt-B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 FEDER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/BLO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DO QUADRIMESTRE ANTERIO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ECADADO ATE 31/0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ARRECADADO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11350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STEIO DE AÇOES -COVI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0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24001-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575.057,9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57.347,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632.405,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803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CO DE CUSTEIO FEDER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--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105.045,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186.229,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291.275,7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687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ADEMIA DE SAUDE (624002-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4002-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136.529,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136.529,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885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1.649.381,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1.653.241,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3.302.622,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t-BR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198" name=""/>
          <p:cNvGraphicFramePr/>
          <p:nvPr/>
        </p:nvGraphicFramePr>
        <p:xfrm>
          <a:off x="406440" y="554040"/>
          <a:ext cx="8413560" cy="6195960"/>
        </p:xfrm>
        <a:graphic>
          <a:graphicData uri="http://schemas.openxmlformats.org/drawingml/2006/table">
            <a:tbl>
              <a:tblPr/>
              <a:tblGrid>
                <a:gridCol w="1717560"/>
                <a:gridCol w="935280"/>
                <a:gridCol w="1368360"/>
                <a:gridCol w="1587240"/>
                <a:gridCol w="1403640"/>
                <a:gridCol w="1401480"/>
              </a:tblGrid>
              <a:tr h="73188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 SAÚDE –</a:t>
                      </a:r>
                      <a:r>
                        <a:rPr b="1" lang="pt-BR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 ESTADU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8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CRIÇÃO/BLO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N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T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LDO QUADRIMESTRE ANTERIO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RRECADADO ATE 31/0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ARRECADADO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414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SISTENCIA FARMACEUT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37-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123,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0,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124,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593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RONAVIRUS RESOLUÇÃO 356/20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0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--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14.828,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14.828,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595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ÇÕES DO CORONAVÍRUS (COVID-19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0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-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2.232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2.232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594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SISTENCIA FARMACEUTICA ESTADU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4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16-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1.330,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1.330,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593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STRUÇÃO UNIDADE DE SAUDE DA FAMIL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4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153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809,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5,9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815,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639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UNDO MUNICIPAL DE SAUDE (ATENÇÃO BASICA ESTADUAL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49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00000410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838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5,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844,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671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UNDO MUNICIPAL DE SAUDE-MA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4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464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387,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387,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602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MPLIAÇÃO DA UBS DE APARECIDA DO OES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777-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8.198,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60,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8.258,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t-BR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00" name=""/>
          <p:cNvGraphicFramePr/>
          <p:nvPr/>
        </p:nvGraphicFramePr>
        <p:xfrm>
          <a:off x="406440" y="554040"/>
          <a:ext cx="8558280" cy="6194520"/>
        </p:xfrm>
        <a:graphic>
          <a:graphicData uri="http://schemas.openxmlformats.org/drawingml/2006/table">
            <a:tbl>
              <a:tblPr/>
              <a:tblGrid>
                <a:gridCol w="1577880"/>
                <a:gridCol w="1135080"/>
                <a:gridCol w="949320"/>
                <a:gridCol w="1582920"/>
                <a:gridCol w="1512720"/>
                <a:gridCol w="1800360"/>
              </a:tblGrid>
              <a:tr h="73188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 SAÚDE –</a:t>
                      </a:r>
                      <a:r>
                        <a:rPr b="1" lang="pt-BR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 ESTADU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8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CRIÇÃO/BLO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N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T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LDO QUADRIMESTRE ANTERIO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RRECADADO ATE 31/0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ARRECADADO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412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MS-VIGIA/S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4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704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52.811,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52.811,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414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MS-VIGIA/S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4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704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1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GRAMA ESTADUAL DE QUALIICAÇÃO DOS CONSELH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-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1.480,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10,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1.490,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581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GIA/SUS CUSTEIO (VIGILANCI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--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38.270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254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39.562,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60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LANO DE INVESTIMENTO VIGIA S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-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1.037,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LOCO DE INVESTIME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-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179.738,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1.234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180.973,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669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SISTENCIA FARMACEUTICA INVESTIM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164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10.454,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76,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10.530,7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5810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312.540,7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1.649,8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$ 314.190,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20:51:43Z</dcterms:created>
  <dc:creator>.</dc:creator>
  <dc:description/>
  <dc:language>en-US</dc:language>
  <cp:lastModifiedBy>Patr�cia Barbato</cp:lastModifiedBy>
  <cp:lastPrinted>2021-09-29T18:47:02Z</cp:lastPrinted>
  <dcterms:modified xsi:type="dcterms:W3CDTF">2021-12-02T12:59:33Z</dcterms:modified>
  <cp:revision>582</cp:revision>
  <dc:subject/>
  <dc:title>JANEIRO  2005</dc:title>
</cp:coreProperties>
</file>