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3CE68-49BC-4034-8A9A-828E6A5FA57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D3BA57-743E-4278-9B05-32ADF9F09A4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78990-6311-4570-A0CC-9C9909F7165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C1758-C483-4755-9B16-C9F0B599548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A1C-5769-4BF8-AF97-26CB5B9F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1F1E-091A-4809-A2CA-4B541223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5AB8-3005-4F53-A14C-7912057D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4B0D-B840-476A-BC72-7AC4190F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226A-3082-4B52-9772-84CACA3E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3CB9-DBA7-433E-A047-CB3E7237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276A-82B5-4CA3-BFEA-51738D55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9A98-3914-425B-BBF5-AC0A87A2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0E5B-F3F7-4E4C-940D-82137862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6747-9327-45D8-AE11-2469DE0B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7113-C4A4-4066-86F1-19C60B7D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B3D-BABA-42D7-B36C-A8C25E7C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AAFD-9E56-4B9C-874D-CF28BDB4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7A93-B5DA-4AE2-AEA4-6014564E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C511-7CE2-4757-9D0B-FCD6CCE7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1560-8FD3-4F3D-A717-8782FE36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7F45-67AA-41A5-90D4-32542261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F326F-E379-4517-9084-9F61BEB2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6BBD4-2C2D-496E-BAE8-A44EAB16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E625A-DC5B-4DA1-9A57-1D23F0CB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9B13A-AB37-4E52-868B-66B0275E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54AB1-714D-4714-B423-1813329C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041-B96E-474F-8C23-B4611268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A0AA5-060A-4C1D-AC04-4D63D37C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049ED-9E62-4BEF-888B-779617F1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46DB0-432A-4B1E-92D3-24EA8586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C2A149-7C6A-4E77-9F9C-92654E8B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37F53-06FC-487A-88EE-3CEE1289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0D7D9-493C-45D2-99FB-1FA36A71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5165A-F26C-4252-889B-BB837084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E1FB2-236C-4F25-B6B2-2736D6A9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1FDD7-6110-4458-868E-D3C16740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8B857-A9CF-4466-AB0F-E3342B56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FA26-E971-45C1-B8E2-68A85DD6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3BF0D-DB49-4B10-B371-85B7B21B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69516-4F48-459A-8636-99BCD7B8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4C196-12D1-4786-8F9A-BB455B03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CC4B6-FB26-4E63-B770-34643C6D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2513B-4591-43CC-8BAF-A0D71671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E6B48-E614-4DE6-A176-DAA754F2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AF7DD-E138-4731-9F08-89CF7D86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48059-0510-476C-886B-B69ECE7E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BA268-C456-4B35-86AA-0E79A0E7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CB9C58-0A2E-49E7-8C5F-4D528A8B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994F-02C6-4E0C-BE82-4A7651E8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E67149-AE24-4175-ADC4-CE9F6F81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15916D-4C6D-4230-AB05-9EFE1CC0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40BFA6-6379-4D24-AF8A-B6BB7998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97B390-286A-432B-B96D-880D3D3E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9E2C1C-81FD-471B-BA45-655D1E48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BADA86-0DFA-46D0-9F4D-FAC03103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103CC2-4944-4316-803A-D0CFEB2B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F43463-F70C-4E5D-A315-507E1255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024860-9FD7-448A-B767-51E96F69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C487AC-5708-4903-B185-571C5868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A89-367A-4454-A87B-7219774F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792FC-A424-42A4-9539-6F7C3FFA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CDCE85-4EAD-4E40-B35D-5E1377B3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D4DABE-50FA-4AE6-9AB9-ACF9690A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F0E16F-4CE3-4904-97CE-32A33C36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10A83-46F0-4CE5-A89E-247DC2F9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51A733-2B11-434D-8D6C-05A826C8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370E3E-0A39-4BB2-9BA2-2B3A290E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816D18-5CE1-4CEA-B7BB-1A9E05BA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DC072B-6B77-477B-85C7-5EA2C9D6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382282-BB27-4908-B487-715ECE8F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7E7-55DB-473D-909C-39CB1DB5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7DD0B-39AD-4E11-A5CF-C4D0B7DA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90C2E3-F19F-45B8-94F0-3E4A265C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AA2C52-61B5-4591-8F68-78E55DDC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30906C-6275-4AEF-9969-2F26397B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3E70D3-3BBC-4566-B301-CF409D8D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F5752-C6AA-41F2-BB35-3F4EF3DB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E42DED-0049-453F-8CA3-C23AAB2B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60C4F9-DB8A-4A15-8662-A1380D7C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1C027B-CA89-4E53-B1DD-5621556D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FEEDCA-6063-44A5-8FE1-2C9E0ABE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7C67-A6CA-469F-8C44-88B48BE2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BC7872-3497-407F-9EAC-725C8F49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F892C1-D3CC-486F-A005-25502999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1808D-3A4D-46AA-AF8C-B1558747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9EBE7D-8F6D-4655-8C9F-C99F9580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8439F8-090E-431E-ACBD-C27D0296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5F6-4DDE-4133-8861-8728AD32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1C00D-FB6D-4B1F-9180-3A2DB945DE23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26354-FD3F-4745-B623-EB4989A54C74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09479-4EC7-41C3-B423-0D3F420F4598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212A6-63CB-43F2-90AA-2A0F6526D7A2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27D02-3C66-4B04-896A-F160F6A338AA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Conector reto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4122C-20E5-4E92-87B2-85FC2FAF8FC7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Conector reto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Conector reto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Conector reto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F432F-2F25-4A86-B436-1363637F1666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71360" y="1357200"/>
            <a:ext cx="7358040" cy="26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575f6d"/>
                </a:solidFill>
                <a:latin typeface="Arial"/>
                <a:ea typeface="Arial"/>
              </a:rPr>
              <a:t>MUNICIPIO DE TUNEIRAS DO OESTE -PR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130040" y="49287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entury Schoolbook"/>
              </a:rPr>
              <a:t>AUDIÊNCIA PÚBLICA  2 º QUADRIMESTRE 202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Brasão2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928800" y="0"/>
            <a:ext cx="2143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5722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COM PESSOA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28400" y="1714320"/>
            <a:ext cx="8072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º Quadrimestre/202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eita Corr. Liquida ajustada.........................R$ 32.837.275,46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 Com Pessoal.....R$  15.486.303,70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% aplicado...........................47,16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Desta forma, houve o cumprimento do art. 20 da LRF ( máximo de 54%-Poder Executivo)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1571400"/>
            <a:ext cx="617220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0" spc="-1" strike="noStrike">
                <a:solidFill>
                  <a:srgbClr val="000000"/>
                </a:solidFill>
                <a:latin typeface="Arial"/>
                <a:ea typeface="Arial"/>
              </a:rPr>
              <a:t>EDUCAÇÃO</a:t>
            </a:r>
            <a:endParaRPr b="0" lang="en-US" sz="7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56760"/>
            <a:ext cx="76773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EMONSTRATIVO DOS GASTOS NA EDUCAÇÃO BÁSICA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13840" y="2276640"/>
            <a:ext cx="847260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ceita de Impostos..............R$    18.129.749,03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esp. Educação Básica.........R$    4.117.826,90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% Aplicado.................................................22,71%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Valor Exigido............................ R$ 4.532.437,2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(mín. 25% s/ Receita de Imposto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Valor Aplicado............................R$ 4.117.826,90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(-)Diferença..................................... R$ 414.610,3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575f6d"/>
                </a:solidFill>
                <a:latin typeface="Arial"/>
                <a:ea typeface="Arial"/>
              </a:rPr>
              <a:t>RECEITAS EDUCAÇÃO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8115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EITAS FUNDEB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CEITAS RECEBIDAS DO FUNDEB...................R$3.271.648,58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CURSOS RECEBIDOS EXERCICIOS ANTERIORES (FUNDEB) ................................................................R$ 130.727,95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TOTAL DE RECURSOS DO FUNDEB DISPONIVEL PARA UTILIZAÇÃO...........................R$ 3.402.376,53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575f6d"/>
                </a:solidFill>
                <a:latin typeface="Arial"/>
                <a:ea typeface="Arial"/>
              </a:rPr>
              <a:t>DESPESAS EDUCAÇÃO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42680"/>
            <a:ext cx="8115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S FUNDEB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FISSIONAIS DA EDUCAÇÃO BASICA:..........R$ 2.611.558,6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ducação infantil .................................. R$    127.729,67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-Ensino Fundamental.............................. R$ 2.483.828,95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UTRAS DESPESAS ...........................R$   619.527,77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 DESPESAS...........R$ 3.231.086,39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575f6d"/>
                </a:solidFill>
                <a:latin typeface="Arial"/>
                <a:ea typeface="Arial"/>
              </a:rPr>
              <a:t>RECEITAS ADICIONAIS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00040" y="2356920"/>
            <a:ext cx="80438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ALÁRIO EDUCAÇÃO.......................... R$ 232.211,3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NAE.........................................................R$ 88.748,8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NATE...................................................... R$ 13.697,8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UTRAS TRANSF. DO FNDE..................R$      288,7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TOTAL DAS RECEITAS ADICIONAIS R$ 334.946,78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8581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DESPESAS DE CAPITAL </a:t>
            </a:r>
            <a:br>
              <a:rPr sz="4800"/>
            </a:b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DO MUNICÍPIO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57120" y="2428920"/>
            <a:ext cx="814392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INVESTIMENTOS:.........R$ 3.352.918,92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INVERSÕES:..................R$               0,00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MORTIZAÇÕES:..........R$      44.728,14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..........................R$   3.397.647,06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765000"/>
            <a:ext cx="871524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DÍVIDA FUNDADA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85840" y="1988640"/>
            <a:ext cx="885816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RECATÓRIOS:                   R$   565.939,96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FB- PARC. PASEP             R$   136.228,11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INSS                                      R$   188.912,24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FINISA:                                 R$4.972.055,18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GENCIA DE FOMENTO         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$1.000.000,00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             R$ 6.863.135,49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4628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STOS A PAGAR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2499840"/>
            <a:ext cx="8218440" cy="35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URSOS LIVRES:.........R$  3.340.675,37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URSOS VINC.:.............R$  3.895.295,24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MAIS OBRIGAÇÕES:.....R$    202.091,64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................................R$  7.438.062,25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1312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ISPONIBILIDADE DE CAIX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480680"/>
            <a:ext cx="83296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=)DISPONIBILIDADE DE CAIXA BRUTA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4040"/>
                </a:solidFill>
                <a:latin typeface="Arial"/>
                <a:ea typeface="Arial"/>
              </a:rPr>
              <a:t>RECURSOS VINCULADOS:.......................................................R$ 5.679.873,19 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4040"/>
                </a:solidFill>
                <a:latin typeface="Arial"/>
                <a:ea typeface="Arial"/>
              </a:rPr>
              <a:t>RECURSOS LIVRES:..................................................................</a:t>
            </a:r>
            <a:r>
              <a:rPr b="1" lang="pt-BR" sz="17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R$  3.812.089,43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4040"/>
                </a:solidFill>
                <a:latin typeface="Arial"/>
                <a:ea typeface="Arial"/>
              </a:rPr>
              <a:t>TOTAL:..............................................................................................R$  9.491.962,62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(-) RESTOS A PAGAR-RECURSOS LIVRES</a:t>
            </a:r>
            <a:r>
              <a:rPr b="1" lang="pt-BR" sz="1700" spc="-1" strike="noStrike">
                <a:solidFill>
                  <a:srgbClr val="404040"/>
                </a:solidFill>
                <a:latin typeface="Arial"/>
                <a:ea typeface="Arial"/>
              </a:rPr>
              <a:t>:..................................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R$    471.414,06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(-) RESTOS A PAGAR-RECURSOS VINCULADOS:.......................R$  1.380.394,67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(-) DEMAIS OBRIGAÇÕES FINANCEIRAS LIVRES.......................R</a:t>
            </a:r>
            <a:r>
              <a:rPr b="1" lang="pt-BR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    202.091,64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4040"/>
                </a:solidFill>
                <a:latin typeface="Arial"/>
                <a:ea typeface="Arial"/>
              </a:rPr>
              <a:t>TOTAL..............................................................................................R$   2.053.900,37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=)DISPONIBILIDADE DE CAIXA LÍQUIDA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4040"/>
                </a:solidFill>
                <a:latin typeface="Arial"/>
                <a:ea typeface="Arial"/>
              </a:rPr>
              <a:t>RECURSOS VINCULADOS:.......................................................R$  4.097.386,88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4040"/>
                </a:solidFill>
                <a:latin typeface="Arial"/>
                <a:ea typeface="Arial"/>
              </a:rPr>
              <a:t>RECURSOS PRÓPIOS:...............................................................R$ 3.340.675,37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TOTAL DISPONIBILIDADE LÍQUIDA......................R$ 7.438.062,25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79280" y="642960"/>
            <a:ext cx="89647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AUDIÊNCIA PÚBLICA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2° QUADRIMESTRE 2021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GESTÃO FISCAL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10568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SULTADO PRIMÁRIO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62828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ALIZADO ATÉ O 2° QUADRIMEST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ceitas Primárias: R$ 22.268.779,40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espesas Primárias: R$ 3.335.746,72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sultado Primário: R$ 2.126.221,7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rresponde ao resultado real (ou primário) das contas públicas, ou seja,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cluindo-s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a despesa com juros, que o Município tem que pagar sobre as suas dívidas, e a inflação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"/>
              </a:rPr>
              <a:t>RESULTADO NOMINAL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714680"/>
            <a:ext cx="74674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sultado Nominal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ALIZADA ATÉ O 2° QUADRIMEST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$ 1.934.945,65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Corresponde ao resultado nominal das contas do setor público, ou seja, está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luso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o efeito da inflação e do pagamento de juros sobre o fluxo de receitas e despesas do Municípi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357200"/>
            <a:ext cx="85726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pt-BR" sz="8000" spc="-1" strike="noStrike">
                <a:solidFill>
                  <a:srgbClr val="000000"/>
                </a:solidFill>
                <a:latin typeface="Arial"/>
                <a:ea typeface="Arial"/>
              </a:rPr>
              <a:t>AÇÃO SOCIAL</a:t>
            </a:r>
            <a:br>
              <a:rPr sz="8000"/>
            </a:b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56800" y="404640"/>
            <a:ext cx="7000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ASSES FEDERAL-ESTADUAL</a:t>
            </a:r>
            <a:br>
              <a:rPr sz="3500"/>
            </a:br>
            <a:br>
              <a:rPr sz="3500"/>
            </a:br>
            <a:r>
              <a:rPr b="1" lang="pt-BR" sz="3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FERÊNCIAS DE RECURSOS DO FUNDO NACIONAL DE ASSISTENCIA SOCIAL-FNAS</a:t>
            </a:r>
            <a:br>
              <a:rPr sz="3500"/>
            </a:br>
            <a:br>
              <a:rPr sz="3500"/>
            </a:br>
            <a:r>
              <a:rPr b="1" lang="pt-BR" sz="4000" spc="-1" strike="noStrike">
                <a:solidFill>
                  <a:srgbClr val="ff0000"/>
                </a:solidFill>
                <a:latin typeface="Arial"/>
                <a:ea typeface="Arial"/>
              </a:rPr>
              <a:t>R$ 44.369,26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CEITA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357120" y="1197000"/>
          <a:ext cx="8318520" cy="5446800"/>
        </p:xfrm>
        <a:graphic>
          <a:graphicData uri="http://schemas.openxmlformats.org/drawingml/2006/table">
            <a:tbl>
              <a:tblPr/>
              <a:tblGrid>
                <a:gridCol w="4159440"/>
                <a:gridCol w="415908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ÇÃ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22220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CO DE PROTEÇÃO SOCIAL BASICA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36.487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493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SO FIXO MEDIA COMPLEXIDADE MAC FN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454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8464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CO DE GESTÃO DO PROGRAMA BOLSA FAMILIA E DO CADASTRO ÚNICO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7.428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52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44.369,2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DESPESA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14200" y="1500120"/>
            <a:ext cx="842976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ESSOAL E ENCARGOS........ R$ 234.962,44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UTRAS DESPESAS CORRENTES:...........................R$ 187.889,62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DE CAPITAL.............R$ 25.384,00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 ........................................R$ 448.236,06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49120"/>
            <a:ext cx="7931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DESPESAS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14200" y="1500120"/>
            <a:ext cx="842976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457200" y="1268280"/>
          <a:ext cx="8002440" cy="5389560"/>
        </p:xfrm>
        <a:graphic>
          <a:graphicData uri="http://schemas.openxmlformats.org/drawingml/2006/table">
            <a:tbl>
              <a:tblPr/>
              <a:tblGrid>
                <a:gridCol w="5194440"/>
                <a:gridCol w="280800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NTE RECUR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43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NTE 934-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OCO DE PROTEÇÃO SOCIAL BAS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29.306,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43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NTE 936-BLOCO DE GESTAO DO SU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2.261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6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NTE 940-BLOCO DE GESTÃO DO PROGRAMA BOLSA FAMILIA E DO CADASTRO ÚN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7.281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4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NTE 1001-RECURSOS LIV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357.329,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3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NTE 31022-COVID-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52.05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30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448.236,0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DETALHAMENTO DAS DESPESA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609480" y="1785960"/>
          <a:ext cx="8177400" cy="4665600"/>
        </p:xfrm>
        <a:graphic>
          <a:graphicData uri="http://schemas.openxmlformats.org/drawingml/2006/table">
            <a:tbl>
              <a:tblPr/>
              <a:tblGrid>
                <a:gridCol w="4089600"/>
                <a:gridCol w="408780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ÇÃ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53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CIMENTOS E VANTAGE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193.769,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53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RIGAÇÕES PATRON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 41.192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53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VENÇÕES SOC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29.1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53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 DE CONSU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 90.276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5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SAGENS E LOCOMO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 204,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26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ÇOS TERCEIRO –PESSOA FIS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16.108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1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ÇOS TERCEIRO –PESSOA JURID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 51.295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5010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DETALHAMENTO DAS DESPESA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609480" y="1477800"/>
          <a:ext cx="8177400" cy="4907160"/>
        </p:xfrm>
        <a:graphic>
          <a:graphicData uri="http://schemas.openxmlformats.org/drawingml/2006/table">
            <a:tbl>
              <a:tblPr/>
              <a:tblGrid>
                <a:gridCol w="4899240"/>
                <a:gridCol w="3278160"/>
              </a:tblGrid>
              <a:tr h="567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ÇÃ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50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ÇOS DE TECNOLOGIA E COMUNIC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 1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50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RIGAÇÕES TRIBUTÁRIAS E CONTRIBU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 104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7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XILIO FINANCEIRO A PESSOAS FISI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7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49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AMENTOS E MAT. PERMAN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 25.384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68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4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 448.236,0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5640" y="1557000"/>
            <a:ext cx="61722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575f6d"/>
                </a:solidFill>
                <a:latin typeface="Century Schoolbook"/>
              </a:rPr>
              <a:t>AGRADECEMOS A PRESENÇA DE TODOS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pt-BR" sz="3000" spc="-1" strike="noStrike">
                <a:solidFill>
                  <a:srgbClr val="575f6d"/>
                </a:solidFill>
                <a:latin typeface="Century Schoolbook"/>
              </a:rPr>
              <a:t> ABERTO A PERGUNTAS....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575f6d"/>
                </a:solidFill>
                <a:latin typeface="Century Schoolbook"/>
              </a:rPr>
              <a:t>FIM!!!!!! 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213840" y="285840"/>
            <a:ext cx="8643960" cy="617832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Aspectos Legais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Lei 101/2000 – Lei de Responsabilidade Fiscal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Instrução Normativa n° 159/2021 – TCE-PR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   TRANSPARÊNCIA, CONTROLE E FISCALIZAÇÃO LEI COMPLEMENTAR Nº 101/2000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09120" y="1714680"/>
            <a:ext cx="8077320" cy="43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rt. 48, Parágrafo Único- A transparência será assegurada também mediante incentivo à participação popular e realização de audiências públicas, durante os processos de elaboração e de discussão dos planos, Lei de Diretrizes Orçamentárias e Orçamentos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571680" y="857160"/>
            <a:ext cx="85723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  <a:ea typeface="Arial"/>
              </a:rPr>
              <a:t>PODER 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  <a:ea typeface="Arial"/>
              </a:rPr>
              <a:t>EXECUTIVO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677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ORIOS FISCAI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49080" y="2000160"/>
            <a:ext cx="763740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Receit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Prevista.............R$ 42.082.371,87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Atualizada.........R$ 43.668.156,78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 Arrecadada......R$ 13.390.446,92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1549440" y="333360"/>
            <a:ext cx="1049328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ORIOS FISCAI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28760" y="16426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Despes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Fixada...........R$  42.585.523,87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Atualizada.....R$  44.894.972,14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Empenhada...R$  11.545.642,41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Liquidada.......R$  11.600.356,83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Realizada........R$ 12.031.650,41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ORIOS FISCAI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09480" y="2160360"/>
            <a:ext cx="7562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Receita e Despes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Arrecadada..........R$ 13.390.446,92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executadas..R$ 11.545.642,41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perávit..................R$      1.844.804,51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87152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CEITA CORRENTE LÍQUIDA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28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Arial"/>
              </a:rPr>
              <a:t>R$ 33.792.275,46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20:51:43Z</dcterms:created>
  <dc:creator>.</dc:creator>
  <dc:description/>
  <dc:language>en-US</dc:language>
  <cp:lastModifiedBy>Patr�cia Barbato</cp:lastModifiedBy>
  <cp:lastPrinted>2021-09-29T12:18:59Z</cp:lastPrinted>
  <dcterms:modified xsi:type="dcterms:W3CDTF">2021-12-02T12:59:08Z</dcterms:modified>
  <cp:revision>652</cp:revision>
  <dc:subject/>
  <dc:title>JANEIRO  2005</dc:title>
</cp:coreProperties>
</file>