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21A5-13D9-4CCE-AB10-92E396CA61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1DE-FF58-4296-BAEE-455BA4F101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Espaço Reservado para Número de Slide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4126-ED6F-43C6-9766-38C48A6E98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1244-04F2-4D64-AFDE-C26A8D2A61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C67-6C2A-4882-BD13-D6873F13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041-2606-49AE-A1C8-DFB76616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BCD-D846-4922-A684-1B281B03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002-A80E-493D-8957-3F4F83B4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BBF4-29D6-4677-B18B-17E83F82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125-84CB-434E-9485-7029143F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1634-CEF2-4D38-9995-84962C3A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BA46-8450-4DB5-BB19-37C5BF1E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C276-D2DA-4741-9C9B-AFD52DFD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0B3-F1A3-4F44-97C9-C26CD51C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3ACA-DDAF-4697-83B5-157681CD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D61-F9B8-425B-9E09-ED6E3259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4B14-D730-448E-9310-43DB994A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844E-B467-41C3-8879-EB200D75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2570-C39E-4419-BF3B-AF929ED2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EC0-D165-4CC3-A46A-F2FA7FA6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3A99-2386-4378-8D28-AA5A3ABA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16B05-EF97-4A3A-8132-ECB7A67A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BCFBB-6255-43DD-A0C1-048C0FDD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AD66-DD60-4FCF-8762-8929ACC2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045D-421F-420F-8BBE-090AA7F0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CBDF-CF84-41A2-867F-55B7354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00C-96F7-4D26-BDAB-4F19DE4D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45DF-2EB2-4A35-9123-33337E18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706E-2967-4ECE-BC23-0752153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D538-912E-4017-BD4D-99C09710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2367-0205-4B19-8B22-2F4A7B5E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A77D-8750-433A-93EE-02CBBAC0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8E97-1600-4BE5-9436-8723181C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8F41C-3212-49C2-8977-D28986CC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3221-E037-489A-996B-D7B287FC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020DF-6AED-490F-BCF5-E5415F37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060D-00C8-40B5-8237-D9C167B6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659-DAF0-406E-93FB-D825EFAA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8304-EC01-453D-9C19-BA5C1771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2D3F-5716-4D29-86F6-6D8C741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6EF9-4940-40BF-BD91-ADBA1459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300CD-2A42-4AFE-BF59-C7D9374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A0A81-F0DB-4759-A393-895EAE66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65D9-7B36-4E3B-B287-AED6D30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D389-B978-421C-9111-C39EA02E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F5807-AC4E-48A1-AE11-7C92097F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069C-1058-4128-AAAB-FA2FAC78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BD78-0A3A-42DF-BFF7-89E256F7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169-7E98-4635-920C-E538BB3E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FEB8-68D9-4B6C-A3DA-BD66D9FF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62B0E-1955-473E-9E43-FDAE8A30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4A308-EC08-402E-B735-7435CD18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525C-DAE5-4AD7-93B4-50A116B4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4779-E199-4881-A02A-1BFB968F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B40FC-05D2-42F8-B3D0-67670884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C1E8-3CFE-469C-AF8E-F05181A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526F-67B1-4FB1-A126-2EAC6DE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2B383-6CBD-48FB-86EF-AB7C2A3D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4687C-08BD-4C36-9E46-8FB72647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C81-DB29-48C0-A869-F5455F24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829DD-822E-4400-AD6D-20899CDE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1D9A1-CBAA-47EE-9495-58E8C3AA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C24B8-4183-4CDC-9596-38D6562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4C2B-8914-406E-BE4B-7A9976A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DAE9F-5829-4F5A-8566-56AA5BC0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0ECF-73C5-4A34-834E-AAEB45DC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E357-163A-4BDD-9415-C9599B35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5DD8F-CB4D-41BA-88D4-A13E7628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383B1-2E1D-4CD3-8E2B-2A676506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258E-9A02-4E7B-8A1F-1A93542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C85-487A-4412-BCE7-A06D93A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018E-9B2D-4E96-A10D-2EEC243A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D693-9A6E-489F-938A-56C81796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0AD01-DD12-4BB1-88E3-39D9C498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DF5B-393F-4CE8-B834-75C3F7C1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90F0E-0686-4D2E-B707-EDBE5A8B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2BB76-ED74-4593-8126-920C8CE5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F72D5-E19C-4D5A-8BD0-F640B2DC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4823D-54DF-4CCD-B767-B7F5DC0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83529-E37B-4CA4-887E-184BE418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8BEE0-D115-425A-BD8F-1BB4506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088-6DE0-4B59-B7CC-0F8AF6F1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426C-8FD9-4811-B392-48015B60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3736C-7739-47F8-BF64-55EA6726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278F-C0FE-4794-BC53-E609702A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60BBC-63CF-422A-98FB-1EE58BE8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BE0D-4584-4C63-918D-6A932A0C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C7C4-61DF-43C8-BB2D-135994AA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684B7-6AB4-49FD-94F7-8954D8C3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3B740-87C6-4F75-AF66-3E240FB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8AE6B-265F-4050-8E39-75EA403A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DA718-0E5D-4178-919A-0C9F0272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BEE-44BD-472F-9CA7-204C5BD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DD820-0054-47EC-ACFD-DA45ABB4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7E356-7108-491C-8A4D-1B74BA4C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B21D7-E254-4C9C-B663-8F4955CD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C57E4-EBFA-474F-9AB0-E9F34893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DC538-E5C3-44A0-8982-2EC780A7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FD3DD-AC15-4E00-BDAE-2A255FC7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DC9E3-D1A7-42AC-B8DB-0695E189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8F78-D81F-4FF3-ACF7-D52B6D97F0D9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1E7D-FE4B-456A-B343-A358BC0C367B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F0DC-422D-4512-9DCD-2CE0909E4A19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BAF2-C4A1-42C5-929B-6087EE89213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A25F-199E-4223-95A9-DEB692FD32D8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BE55-AC6E-4EBB-96DD-97B353A1BD04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D9A9-3B1A-4465-8433-538B0DC9F24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81B4-2FE4-4367-A115-5255CCAEEA20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3° QUADRIMESTRE 2017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29.628.573,2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30.745.217,7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.R$ 26.302.945,8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R$   28.469.542,2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Atualizada........R$  30.727.877,2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mpenhada.....R$  21.886.504,21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R$  21.775.780,4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ítulo 2" descr=""/>
          <p:cNvPicPr/>
          <p:nvPr/>
        </p:nvPicPr>
        <p:blipFill>
          <a:blip r:embed="rId1"/>
          <a:stretch/>
        </p:blipFill>
        <p:spPr>
          <a:xfrm>
            <a:off x="706320" y="208080"/>
            <a:ext cx="82425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.R$  26.302.945,8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..R$  21.775.780,4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.R$    4.527.165,41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9080" y="298440"/>
            <a:ext cx="9131400" cy="18543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928800" y="185724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 24.506.805,51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81160" y="420840"/>
            <a:ext cx="8643600" cy="11952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28760" y="1856880"/>
            <a:ext cx="82152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º Quadrimestre/201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..R$ 24.506.805,5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 R$  12.465.097,6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50,90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http://www.crismenegon.com.br/portal/images/educacao/livros-educacao-a-distancia-ead.jpg"/>
          <p:cNvPicPr/>
          <p:nvPr/>
        </p:nvPicPr>
        <p:blipFill>
          <a:blip r:embed="rId1"/>
          <a:stretch/>
        </p:blipFill>
        <p:spPr>
          <a:xfrm>
            <a:off x="857160" y="1214280"/>
            <a:ext cx="7715520" cy="4714920"/>
          </a:xfrm>
          <a:prstGeom prst="rect">
            <a:avLst/>
          </a:prstGeom>
          <a:ln w="0">
            <a:noFill/>
          </a:ln>
        </p:spPr>
      </p:pic>
      <p:sp>
        <p:nvSpPr>
          <p:cNvPr id="403" name="Retângulo 2"/>
          <p:cNvSpPr/>
          <p:nvPr/>
        </p:nvSpPr>
        <p:spPr>
          <a:xfrm flipV="1" rot="10800000">
            <a:off x="428400" y="522000"/>
            <a:ext cx="807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DESPESAS EDUCAÇÃ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R$  18.803.602,5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R$    5.330.746,26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28,35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 foi cumprido o artigo 212 da CF/88  até 3° quadrimestre,  da aplicação mínima de 25% (art. 212 CF/1988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Arrecadada...........R$  3.400.756,9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nd.Aplic.Financeira......R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      8.727,49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 da Receita.................R$  3.409.484,4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(-) Desp. c Remuneração...R$ 2.913.665,42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% aplicado....................................96,44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utras Despesas..............R$     498.427,68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% aplicado.....................................46,90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ítulo 2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olha do magistério para cumprimento do limite mínimo de 60%</a:t>
            </a:r>
            <a:r>
              <a:rPr b="1" lang="pt-PT" sz="2700" spc="-1" strike="noStrike">
                <a:solidFill>
                  <a:srgbClr val="000000"/>
                </a:solidFill>
                <a:latin typeface="Arial"/>
                <a:ea typeface="Arial"/>
              </a:rPr>
              <a:t> (art. 212 CF/1988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Pagamento magistério: R$ 2.913.665,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(-) Deduções para fins de limite d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UNDEB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:                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 (12.728,03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R$   2.900.937,39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PERCENTUAL                       85,08%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ítulo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94920" y="1642680"/>
            <a:ext cx="82803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INVESTIMENTOS: R$ 2.032.695,8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MORTIZAÇÕES: R$    114.144,17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R$ 2.146.840,0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13840" y="285840"/>
            <a:ext cx="8643960" cy="617832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Lei nº 101 de 4 de maio de 2000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Lei de Responsabilidade Fiscal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3185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R$      147.668,5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R$      158.462,9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R$        17.585,88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R$      323.717,39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536400" y="208080"/>
            <a:ext cx="7931160" cy="14446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28400" y="14284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De Exercícios Anteri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Processados :               R$ 164.664,58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Não processados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R$   95.812,42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R$  260.477,0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Contas a pagar do Exercício de 2017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Processados:                R$  403.248,15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ahoma"/>
              </a:rPr>
              <a:t>A Processar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          R$  110.723,78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 R$  513.971,93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Lucida Sans Unicode"/>
              </a:rPr>
              <a:t>TOTAL GERAL:              R$  774.448,9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000160"/>
            <a:ext cx="82296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LIVRES:             R$ 246.147,80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VINCULADOS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  R$ 528.301,1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IZANDO:                     R$  774.448,93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0680"/>
            <a:ext cx="8329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BRUT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VINCULADOS:         R$ 6.365.048,19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PRÓPIOS: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$ 1.347.025,92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                   R$ 7.712.074,11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-) INSCRIÇÃO DE RESTOS A PAGA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 R$  774.448,9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-) DEMAIS OBRIGAÇÕES FINANCEIRAS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R$  79.928,29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LÍQUID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VINCULADOS:         R$ 5.756.818,77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PRÓPIOS :               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$ 1.100.878,12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                   R$ 6.857.696,89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ítulo 2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8673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068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3° QUADRIMESTR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$ 4.118.786,27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a despesa com juros, que o Município tem que pagar sobre as suas dívidas, e a inflaçã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ítulo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3° QUADRIMEST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15.117,99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"/>
          <p:cNvSpPr/>
          <p:nvPr/>
        </p:nvSpPr>
        <p:spPr>
          <a:xfrm>
            <a:off x="928800" y="857160"/>
            <a:ext cx="75438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000000"/>
                </a:solidFill>
                <a:latin typeface="Lucida Sans Unicode"/>
              </a:rPr>
              <a:t>AUDIENCIA PÚBLIC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0" spc="-1" strike="noStrike">
                <a:solidFill>
                  <a:srgbClr val="000000"/>
                </a:solidFill>
                <a:latin typeface="Arial"/>
                <a:ea typeface="Arial"/>
              </a:rPr>
              <a:t>SAÚD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ítulo 2" descr=""/>
          <p:cNvPicPr/>
          <p:nvPr/>
        </p:nvPicPr>
        <p:blipFill>
          <a:blip r:embed="rId1"/>
          <a:stretch/>
        </p:blipFill>
        <p:spPr>
          <a:xfrm>
            <a:off x="128520" y="249120"/>
            <a:ext cx="8680680" cy="1177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" descr=""/>
          <p:cNvPicPr/>
          <p:nvPr/>
        </p:nvPicPr>
        <p:blipFill>
          <a:blip r:embed="rId2"/>
          <a:stretch/>
        </p:blipFill>
        <p:spPr>
          <a:xfrm>
            <a:off x="1886040" y="1763640"/>
            <a:ext cx="5371920" cy="39625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" descr=""/>
          <p:cNvPicPr/>
          <p:nvPr/>
        </p:nvPicPr>
        <p:blipFill>
          <a:blip r:embed="rId3"/>
          <a:stretch/>
        </p:blipFill>
        <p:spPr>
          <a:xfrm>
            <a:off x="1143000" y="1928880"/>
            <a:ext cx="7072200" cy="4429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tretch/>
        </p:blipFill>
        <p:spPr>
          <a:xfrm>
            <a:off x="571680" y="1428840"/>
            <a:ext cx="779616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R$ 18.085.774,50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Ações Saúde......R$   4.770.551,94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26,42%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 foi cumprido o disposto no artigo 7º da Lei Complementar n.141/2012, que prevê para o exercício o gasto mínimo de 15%(EC Nº 29/2000 CF/88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ítulo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539640" y="1357200"/>
            <a:ext cx="81360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ESSOAL:        R$ 3.803.383,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UTRAS DESPESAS CORRENTES:                   R$ 2.884.838,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INVESTIMENTOS:  R$  152.482,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86932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udiências públicas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ítulo 2" descr=""/>
          <p:cNvPicPr/>
          <p:nvPr/>
        </p:nvPicPr>
        <p:blipFill>
          <a:blip r:embed="rId1"/>
          <a:stretch/>
        </p:blipFill>
        <p:spPr>
          <a:xfrm>
            <a:off x="450720" y="-19080"/>
            <a:ext cx="82425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SAÚDE NÃO COMPUTADAS PARA FINS DE APURAÇÃO DO PERCENTUAL MÍNIMO (15%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$2.070.152,2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ítulo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1026" descr=""/>
          <p:cNvPicPr/>
          <p:nvPr/>
        </p:nvPicPr>
        <p:blipFill>
          <a:blip r:embed="rId1"/>
          <a:stretch/>
        </p:blipFill>
        <p:spPr>
          <a:xfrm>
            <a:off x="500040" y="1189080"/>
            <a:ext cx="844236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1026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7925040" cy="59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026" descr=""/>
          <p:cNvPicPr/>
          <p:nvPr/>
        </p:nvPicPr>
        <p:blipFill>
          <a:blip r:embed="rId1"/>
          <a:stretch/>
        </p:blipFill>
        <p:spPr>
          <a:xfrm>
            <a:off x="633240" y="-36360"/>
            <a:ext cx="7925040" cy="63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1026" descr=""/>
          <p:cNvPicPr/>
          <p:nvPr/>
        </p:nvPicPr>
        <p:blipFill>
          <a:blip r:embed="rId1"/>
          <a:stretch/>
        </p:blipFill>
        <p:spPr>
          <a:xfrm>
            <a:off x="603360" y="828720"/>
            <a:ext cx="786420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tângulo 1" descr=""/>
          <p:cNvPicPr/>
          <p:nvPr/>
        </p:nvPicPr>
        <p:blipFill>
          <a:blip r:embed="rId1"/>
          <a:stretch/>
        </p:blipFill>
        <p:spPr>
          <a:xfrm>
            <a:off x="566640" y="1182600"/>
            <a:ext cx="84060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o  texto da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LRF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determina que o Poder Executivo "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demonstrará e avaliará o cumprimento das metas fiscais de cada quadrimestre, em audiência públic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(LRF),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ítu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ítulo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56760" y="85716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USUARIO</cp:lastModifiedBy>
  <cp:lastPrinted>2016-02-29T14:03:55Z</cp:lastPrinted>
  <dcterms:modified xsi:type="dcterms:W3CDTF">2018-02-26T11:52:03Z</dcterms:modified>
  <cp:revision>308</cp:revision>
  <dc:subject/>
  <dc:title>JANEIRO  2005</dc:title>
</cp:coreProperties>
</file>