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9E55-8C9C-4E0D-ADE4-38925EF9FED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D392-7FE3-4F04-85B7-B0D461ACE55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9EBB-7474-4296-A7DB-222A6357E35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B56C-D842-4073-906E-23D8D590903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885D-0979-4CDF-A780-36304655E1B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615A-FC0D-4B3F-BC37-F37CFC12705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F2D6-C5EB-4121-A908-D81AE38044B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D61A-C00B-4F30-8657-EE8A4EE1579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7122-CB78-43CD-BB30-2D8FC75AD6D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Espaço Reservado para Número de Slide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5E79-B443-44BA-A14E-A3C56E3F6F3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CD10-0692-45C0-8D17-0678F90AF79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94C4-C86B-4E9A-8C4B-D48329640B7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89F1-146D-4FA2-86CE-0740EE51B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FC2D-7A4F-408A-919C-3B84DEDA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354F-1D5F-4670-B93E-DFB3ACD77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6EAA-0CC7-4B47-B366-9A0DA37C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7690-5B80-42DD-9254-6DA39E3AB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B71F-B871-43AA-B459-459961C0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FBCE-AD80-4F14-9CB5-7703A4CD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7F4B-3BF2-4151-987D-6E643C29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AB34-6CEF-496A-88E6-0E871B19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E678-C360-477C-9FCC-086DF892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4DAB-E3C8-4F7E-80B3-5395B40E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4986-B22E-4783-8ACF-7795A207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5F9E-F48C-4D05-88BD-6780555B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4440-3D0E-427F-8699-BA836137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EF60-EBBA-490E-9E11-DE36D623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88E9-E1E6-4791-96DD-90CFBAD5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F772-017D-4C25-81E3-CF8E25E8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4E9764-7395-47D0-8601-BC83B2EFF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CDFC32-25C3-4C7B-A900-363B6E6B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D877E6-E764-458A-A6A5-159A0860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BFDCB2-041E-458F-B7F5-9F885D90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94FDB8-2D85-4D7B-84B7-9F00AFD4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1A01-873B-411F-9CC4-3DA7AF1A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92B38F-D1E0-410A-B5A6-B52FEF57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99B3D4-B138-42F7-979E-3CAB50D7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416D10-30F5-41B9-8ABA-81752488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4BB667-6B01-4699-8AF4-CE5FBD06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7D6D13-3662-4CA1-AC30-9B800142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12B977-85FB-4DCA-A5B4-0701AE48A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57EBE3-272C-4092-A576-50DB0E1B3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12DA7-B4A6-48C7-8F5A-DE72B2BB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BABDD-8410-4664-842A-8614969A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95B0C-6428-4C26-82B6-D8C2EFF0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1FA5-0F6D-4AB8-8B4C-9FAA7811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68300-16D4-4934-B01C-99491AE3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48354-1B87-4E5F-88FE-C8134994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A2634-BCEF-47A1-AA2D-21AF3B55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67E22-CFBB-4F61-840F-143AFF00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4FFAF-914E-4473-A0AB-247B3649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7099F-3C2D-4960-B2BD-E289DF64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4C4EF-70EE-4ACC-A0CF-049037DB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0F301-5014-422D-BFA0-8607782A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7C18E-2D98-4A22-8C74-8FFDAB94C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DD5E-F8F3-4961-92F9-C339D0E2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278C-6B7A-4728-8D4E-5CAA21C1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5930-7CAB-4D0E-98B6-51D28D49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6DC1-96C9-4774-A98C-AFD5D2A6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E0E1-427C-43A4-ADC0-C0A8881B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C860-ADAD-4655-BCED-4A4582CA2DF7}" type="slidenum">
              <a:rPr b="0" lang="pt-BR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94c6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AF70-5F53-4AC6-93DF-A547B2087D41}" type="slidenum">
              <a:rPr b="0" lang="pt-BR" sz="1200" spc="-1" strike="noStrike">
                <a:solidFill>
                  <a:srgbClr val="94c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52B2-BFD2-47A6-BF08-4C4E74D1BE3A}" type="slidenum">
              <a:rPr b="0" lang="pt-BR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FD69-856E-444C-91D0-FDB06DF9D0E8}" type="slidenum">
              <a:rPr b="0" lang="pt-BR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portaldatransparencia.gov.br/convenios/convenioslista.asp?UF=pr&amp;CodMunicipio=7931&amp;CodOrgao=&amp;TipoConsulta=0&amp;Periodo=&amp;Ordem=1" TargetMode="External"/><Relationship Id="rId2" Type="http://schemas.openxmlformats.org/officeDocument/2006/relationships/hyperlink" Target="http://www.portaldatransparencia.gov.br/convenios/convenioslista.asp?UF=pr&amp;CodMunicipio=7931&amp;CodOrgao=&amp;TipoConsulta=0&amp;Periodo=&amp;Ordem=2" TargetMode="External"/><Relationship Id="rId3" Type="http://schemas.openxmlformats.org/officeDocument/2006/relationships/hyperlink" Target="http://www.portaldatransparencia.gov.br/convenios/convenioslista.asp?UF=pr&amp;CodMunicipio=7931&amp;CodOrgao=&amp;TipoConsulta=0&amp;Periodo=&amp;Ordem=3" TargetMode="External"/><Relationship Id="rId4" Type="http://schemas.openxmlformats.org/officeDocument/2006/relationships/hyperlink" Target="http://www.portaldatransparencia.gov.br/convenios/convenioslista.asp?UF=pr&amp;CodMunicipio=7931&amp;CodOrgao=&amp;TipoConsulta=0&amp;Periodo=&amp;Ordem=4" TargetMode="External"/><Relationship Id="rId5" Type="http://schemas.openxmlformats.org/officeDocument/2006/relationships/hyperlink" Target="http://www.portaldatransparencia.gov.br/convenios/convenioslista.asp?UF=pr&amp;CodMunicipio=7931&amp;CodOrgao=&amp;TipoConsulta=0&amp;Periodo=&amp;Ordem=-5" TargetMode="External"/><Relationship Id="rId6" Type="http://schemas.openxmlformats.org/officeDocument/2006/relationships/hyperlink" Target="http://www.portaldatransparencia.gov.br/convenios/convenioslista.asp?UF=pr&amp;CodMunicipio=7931&amp;CodOrgao=&amp;TipoConsulta=0&amp;Periodo=&amp;Ordem=-7" TargetMode="External"/><Relationship Id="rId7" Type="http://schemas.openxmlformats.org/officeDocument/2006/relationships/hyperlink" Target="http://www.portaldatransparencia.gov.br/convenios/DetalhaConvenio.asp?CodConvenio=679716&amp;TipoConsulta=0&amp;UF=pr&amp;CodMunicipio=7931&amp;CodOrgao=&amp;Pagina=&amp;Periodo=" TargetMode="External"/><Relationship Id="rId8" Type="http://schemas.openxmlformats.org/officeDocument/2006/relationships/hyperlink" Target="http://www.portaldatransparencia.gov.br/convenios/DetalhaConvenio.asp?CodConvenio=804601&amp;TipoConsulta=0&amp;UF=pr&amp;CodMunicipio=7931&amp;CodOrgao=&amp;Pagina=&amp;Periodo=" TargetMode="External"/><Relationship Id="rId9" Type="http://schemas.openxmlformats.org/officeDocument/2006/relationships/hyperlink" Target="http://www.portaldatransparencia.gov.br/convenios/DetalhaConvenio.asp?CodConvenio=794508&amp;TipoConsulta=0&amp;UF=pr&amp;CodMunicipio=7931&amp;CodOrgao=&amp;Pagina=&amp;Periodo=" TargetMode="External"/><Relationship Id="rId10" Type="http://schemas.openxmlformats.org/officeDocument/2006/relationships/hyperlink" Target="http://www.portaldatransparencia.gov.br/convenios/DetalhaConvenio.asp?CodConvenio=785517&amp;TipoConsulta=0&amp;UF=pr&amp;CodMunicipio=7931&amp;CodOrgao=&amp;Pagina=&amp;Periodo=" TargetMode="External"/><Relationship Id="rId11" Type="http://schemas.openxmlformats.org/officeDocument/2006/relationships/hyperlink" Target="http://www.portaldatransparencia.gov.br/convenios/DetalhaConvenio.asp?CodConvenio=816219&amp;TipoConsulta=0&amp;UF=pr&amp;CodMunicipio=7931&amp;CodOrgao=&amp;Pagina=4&amp;Periodo=" TargetMode="External"/><Relationship Id="rId12" Type="http://schemas.openxmlformats.org/officeDocument/2006/relationships/hyperlink" Target="http://www.portaldatransparencia.gov.br/convenios/DetalhaConvenio.asp?CodConvenio=819665&amp;TipoConsulta=0&amp;UF=pr&amp;CodMunicipio=7931&amp;CodOrgao=&amp;Pagina=4&amp;Periodo=" TargetMode="External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portaldatransparencia.gov.br/convenios/convenioslista.asp?UF=pr&amp;CodMunicipio=7931&amp;CodOrgao=&amp;TipoConsulta=0&amp;Periodo=&amp;Ordem=1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179280" y="213840"/>
            <a:ext cx="89647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"/>
              </a:rPr>
              <a:t>AUDIÊNCIA PÚBLICA</a:t>
            </a:r>
            <a:endParaRPr b="0" lang="en-US" sz="48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"/>
              </a:rPr>
              <a:t>1° QUADRIMESTRE 2017</a:t>
            </a:r>
            <a:endParaRPr b="0" lang="en-US" sz="48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"/>
              </a:rPr>
              <a:t>GESTÃO FISCAL</a:t>
            </a:r>
            <a:endParaRPr b="0" lang="en-US" sz="48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510320" cy="118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"/>
              </a:rPr>
              <a:t>DESPESAS EDUCAÇÃO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85880" y="2071800"/>
            <a:ext cx="757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000000"/>
                </a:solidFill>
                <a:latin typeface="Arial"/>
                <a:ea typeface="Arial"/>
              </a:rPr>
              <a:t>TOTAL FUNDEB: R$   1.347.638,14</a:t>
            </a:r>
            <a:endParaRPr b="0" lang="en-US" sz="35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(-) DEDUÇÕES PARA FINS DE LIMITE DO FUNDEB           R$ 30.299,96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TOTAL:                      R$ 1.317.338,18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ÍNDICE: 70,89%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510320" cy="118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"/>
              </a:rPr>
              <a:t>DESPESAS EDUCAÇÃO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56800" y="571320"/>
            <a:ext cx="7572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Century Gothic"/>
            </a:endParaRPr>
          </a:p>
          <a:p>
            <a:pPr marL="353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Century Gothic"/>
            </a:endParaRPr>
          </a:p>
          <a:p>
            <a:pPr marL="3538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ARA APLICAÇÃO DO LIMITE CONSTITUCIONAL (25%)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3538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3538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Total: 1.385.553,90</a:t>
            </a:r>
            <a:endParaRPr b="0" lang="en-US" sz="5000" spc="-1" strike="noStrike">
              <a:solidFill>
                <a:srgbClr val="3e3d2d"/>
              </a:solidFill>
              <a:latin typeface="Century Gothic"/>
            </a:endParaRPr>
          </a:p>
          <a:p>
            <a:pPr marL="3538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Índice: 22,06%</a:t>
            </a:r>
            <a:endParaRPr b="0" lang="en-US" sz="5000" spc="-1" strike="noStrike">
              <a:solidFill>
                <a:srgbClr val="3e3d2d"/>
              </a:solidFill>
              <a:latin typeface="Century Gothic"/>
            </a:endParaRPr>
          </a:p>
          <a:p>
            <a:pPr marL="353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Century Gothic"/>
            </a:endParaRPr>
          </a:p>
          <a:p>
            <a:pPr marL="353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Century Gothic"/>
            </a:endParaRPr>
          </a:p>
          <a:p>
            <a:pPr marL="353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920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"/>
              </a:rPr>
              <a:t>DESPESAS DE CAPITAL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072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0000"/>
                </a:solidFill>
                <a:latin typeface="Arial"/>
                <a:ea typeface="Arial"/>
              </a:rPr>
              <a:t>INVESTIMENTOS: R$ 399.813,82</a:t>
            </a:r>
            <a:endParaRPr b="0" lang="en-US" sz="3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AMORTIZAÇÕES: R$ 39.063,76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TOTAL:                 R$ 438.877,58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79200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"/>
              </a:rPr>
              <a:t>DÍVIDA FUNDADA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94920" y="2297160"/>
            <a:ext cx="8280360" cy="45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Arial"/>
                <a:ea typeface="Arial"/>
              </a:rPr>
              <a:t>PRECATÓRIOS:         R$      207.668,56</a:t>
            </a:r>
            <a:endParaRPr b="0" lang="en-US" sz="3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Arial"/>
                <a:ea typeface="Arial"/>
              </a:rPr>
              <a:t>RFB- PARC. PASEP   R$      162.090,71</a:t>
            </a:r>
            <a:endParaRPr b="0" lang="en-US" sz="3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Arial"/>
                <a:ea typeface="Arial"/>
              </a:rPr>
              <a:t>TOTAL:                        R$      369.759,27</a:t>
            </a:r>
            <a:endParaRPr b="0" lang="en-US" sz="3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3"/>
          <p:cNvSpPr/>
          <p:nvPr/>
        </p:nvSpPr>
        <p:spPr>
          <a:xfrm>
            <a:off x="684360" y="642960"/>
            <a:ext cx="745956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500" spc="-1" strike="noStrike">
                <a:solidFill>
                  <a:srgbClr val="000000"/>
                </a:solidFill>
                <a:latin typeface="Arial"/>
                <a:ea typeface="Arial"/>
              </a:rPr>
              <a:t>AUDIÊNCIA PÚBLICA DA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500" spc="-1" strike="noStrike">
                <a:solidFill>
                  <a:srgbClr val="000000"/>
                </a:solidFill>
                <a:latin typeface="Arial"/>
                <a:ea typeface="Arial"/>
              </a:rPr>
              <a:t>SAÚDE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07280" cy="118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RECEITAS DA SAÚDE</a:t>
            </a:r>
            <a:endParaRPr b="0" lang="en-US" sz="5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0920" y="2349000"/>
            <a:ext cx="78865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ctr">
              <a:lnSpc>
                <a:spcPct val="15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000000"/>
                </a:solidFill>
                <a:latin typeface="Arial"/>
                <a:ea typeface="Arial"/>
              </a:rPr>
              <a:t>R$ 6.281.067,99</a:t>
            </a:r>
            <a:endParaRPr b="0" lang="en-US" sz="35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ctr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ARA APLICAÇÃO DO LIMITE CONSTITUCIONAL (15%)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07280" cy="118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DESPESAS DA SAÚDE</a:t>
            </a:r>
            <a:endParaRPr b="0" lang="en-US" sz="5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0920" y="2349000"/>
            <a:ext cx="78865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ctr">
              <a:lnSpc>
                <a:spcPct val="1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Arial"/>
                <a:ea typeface="Arial"/>
              </a:rPr>
              <a:t>R$ 1.177.353,19</a:t>
            </a:r>
            <a:endParaRPr b="0" lang="en-US" sz="6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ctr">
              <a:lnSpc>
                <a:spcPct val="1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Arial"/>
                <a:ea typeface="Arial"/>
              </a:rPr>
              <a:t>18,74%</a:t>
            </a:r>
            <a:endParaRPr b="0" lang="en-US" sz="6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3"/>
          <p:cNvSpPr/>
          <p:nvPr/>
        </p:nvSpPr>
        <p:spPr>
          <a:xfrm>
            <a:off x="395280" y="981000"/>
            <a:ext cx="813744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ESSOAL:                        R$ 1.136.204,2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OUTRAS DESPES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CORRENTES:                  R$ 601.145,7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INVESTIMENTOS:            R$ 2.311,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OTAL DESPESAS:       R$ 1.739.661,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971280" y="1642680"/>
            <a:ext cx="719748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COM SAÚDE NÃO COMPUTADAS PARA FINS DE APURAÇÃO DO PERCENTUAL MÍNIMO (15%)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R$ 562.308,58</a:t>
            </a:r>
            <a:endParaRPr b="0" lang="en-US" sz="5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4000" y="1285920"/>
            <a:ext cx="7848360" cy="492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pt-BR" sz="5500" spc="-1" strike="noStrike">
                <a:solidFill>
                  <a:srgbClr val="000000"/>
                </a:solidFill>
                <a:latin typeface="Arial"/>
                <a:ea typeface="Arial"/>
              </a:rPr>
              <a:t>AUDIÊNCIA PÚBLICA </a:t>
            </a:r>
            <a:br>
              <a:rPr sz="5500"/>
            </a:br>
            <a:br>
              <a:rPr sz="5500"/>
            </a:br>
            <a:r>
              <a:rPr b="1" lang="pt-BR" sz="5500" spc="-1" strike="noStrike">
                <a:solidFill>
                  <a:srgbClr val="000000"/>
                </a:solidFill>
                <a:latin typeface="Arial"/>
                <a:ea typeface="Arial"/>
              </a:rPr>
              <a:t>DA </a:t>
            </a:r>
            <a:br>
              <a:rPr sz="5500"/>
            </a:br>
            <a:br>
              <a:rPr sz="5500"/>
            </a:br>
            <a:r>
              <a:rPr b="1" lang="pt-BR" sz="5500" spc="-1" strike="noStrike">
                <a:solidFill>
                  <a:srgbClr val="000000"/>
                </a:solidFill>
                <a:latin typeface="Arial"/>
                <a:ea typeface="Arial"/>
              </a:rPr>
              <a:t>AÇÃO SOCIAL</a:t>
            </a:r>
            <a:br>
              <a:rPr sz="5500"/>
            </a:br>
            <a:endParaRPr b="0" lang="en-US" sz="55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178920" y="499680"/>
            <a:ext cx="8535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 u="sng">
                <a:solidFill>
                  <a:srgbClr val="3e3d2d"/>
                </a:solidFill>
                <a:uFillTx/>
                <a:latin typeface="Century Gothic"/>
              </a:rPr>
              <a:t>EMBASAMENTOS LEGAIS:</a:t>
            </a:r>
            <a:endParaRPr b="0" lang="en-US" sz="48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LEI N° 101/2000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LEI DE RESPONSABILIDADE FISCAL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INSTRUÇÃO NORMATIVA 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N° 129/2017 DO TCE-PR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0920" y="571320"/>
            <a:ext cx="8064360" cy="514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PASSES FEDERAIS</a:t>
            </a:r>
            <a:br>
              <a:rPr sz="3000"/>
            </a:br>
            <a:br>
              <a:rPr sz="3000"/>
            </a:b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BLOCO DE PROTEÇÃO SOCIAL BASICA (SUAS) : R$ 60.000,00</a:t>
            </a:r>
            <a:br>
              <a:rPr sz="3000"/>
            </a:br>
            <a:br>
              <a:rPr sz="3000"/>
            </a:b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BLOCO DE PROTEÇÃO SOCIAL ESPECIAL (SUAS): R$ 668,91</a:t>
            </a:r>
            <a:br>
              <a:rPr sz="3000"/>
            </a:br>
            <a:br>
              <a:rPr sz="3000"/>
            </a:b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BLOCO DE CONFINAMENTO POR RESULTADO(SUAS): R$ 5.720,00</a:t>
            </a:r>
            <a:endParaRPr b="0" lang="en-US" sz="30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0920" y="1000080"/>
            <a:ext cx="8064360" cy="585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SPESAS CORRENTES:</a:t>
            </a:r>
            <a:br>
              <a:rPr sz="3000"/>
            </a:br>
            <a:br>
              <a:rPr sz="3000"/>
            </a:b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ENCARGOS SOCIAIS:</a:t>
            </a:r>
            <a:br>
              <a:rPr sz="3000"/>
            </a:b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R$ 195.412,60</a:t>
            </a:r>
            <a:br>
              <a:rPr sz="3000"/>
            </a:br>
            <a:br>
              <a:rPr sz="3000"/>
            </a:b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OUTRAS DESPEAS CORRENTES: </a:t>
            </a:r>
            <a:br>
              <a:rPr sz="3000"/>
            </a:b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$ 79.695,28</a:t>
            </a:r>
            <a:br>
              <a:rPr sz="3000"/>
            </a:br>
            <a:br>
              <a:rPr sz="3000"/>
            </a:b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TOTAL : R$ 275.107,88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680" y="-643320"/>
            <a:ext cx="7495920" cy="664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r>
              <a:rPr b="0" lang="pt-BR" sz="3500" spc="-1" strike="noStrike">
                <a:solidFill>
                  <a:srgbClr val="000000"/>
                </a:solidFill>
                <a:latin typeface="Arial"/>
                <a:ea typeface="Arial"/>
              </a:rPr>
              <a:t>ANO 2017 </a:t>
            </a:r>
            <a:br>
              <a:rPr sz="3500"/>
            </a:br>
            <a:r>
              <a:rPr b="1" lang="pt-BR" sz="3500" spc="-1" strike="noStrike">
                <a:solidFill>
                  <a:srgbClr val="000000"/>
                </a:solidFill>
                <a:latin typeface="Arial"/>
                <a:ea typeface="Arial"/>
              </a:rPr>
              <a:t>RELAÇÃO E ACOMPANHAMENTO DE OBRAS EM ANDAMENTO E A INICIAR </a:t>
            </a:r>
            <a:br>
              <a:rPr sz="3500"/>
            </a:br>
            <a:br>
              <a:rPr sz="3500"/>
            </a:b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FONTE: DIVISÃO DE PLANEJAMENTO – </a:t>
            </a:r>
            <a:br>
              <a:rPr sz="3000"/>
            </a:b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EDIR OLIVEIRA SANTOS</a:t>
            </a:r>
            <a:endParaRPr b="0" lang="en-US" sz="30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571680" y="571680"/>
          <a:ext cx="8143560" cy="6041880"/>
        </p:xfrm>
        <a:graphic>
          <a:graphicData uri="http://schemas.openxmlformats.org/drawingml/2006/table">
            <a:tbl>
              <a:tblPr/>
              <a:tblGrid>
                <a:gridCol w="495000"/>
                <a:gridCol w="2063880"/>
                <a:gridCol w="990720"/>
                <a:gridCol w="979200"/>
                <a:gridCol w="774720"/>
                <a:gridCol w="784440"/>
                <a:gridCol w="796680"/>
                <a:gridCol w="578160"/>
                <a:gridCol w="680760"/>
              </a:tblGrid>
              <a:tr h="258480">
                <a:tc gridSpan="6"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ÇÃO E ACOMPANHAMENTO DE OBRAS EM ANDAMENTO E A INICIAR - RECURSOS FEDERAIS  -  Ano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 u="sng">
                          <a:solidFill>
                            <a:srgbClr val="e68200"/>
                          </a:solidFill>
                          <a:uFillTx/>
                          <a:latin typeface="Calibri"/>
                          <a:hlinkClick r:id="rId1"/>
                        </a:rPr>
                        <a:t>Número Convên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 u="sng">
                          <a:solidFill>
                            <a:srgbClr val="e68200"/>
                          </a:solidFill>
                          <a:uFillTx/>
                          <a:latin typeface="Calibri"/>
                          <a:hlinkClick r:id="rId2"/>
                        </a:rPr>
                        <a:t>Obje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 u="sng">
                          <a:solidFill>
                            <a:srgbClr val="e68200"/>
                          </a:solidFill>
                          <a:uFillTx/>
                          <a:latin typeface="Calibri"/>
                          <a:hlinkClick r:id="rId3"/>
                        </a:rPr>
                        <a:t>Órgão Conced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 u="sng">
                          <a:solidFill>
                            <a:srgbClr val="e68200"/>
                          </a:solidFill>
                          <a:uFillTx/>
                          <a:latin typeface="Calibri"/>
                          <a:hlinkClick r:id="rId4"/>
                        </a:rPr>
                        <a:t>Emendas e Progra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 u="sng">
                          <a:solidFill>
                            <a:srgbClr val="e68200"/>
                          </a:solidFill>
                          <a:uFillTx/>
                          <a:latin typeface="Calibri"/>
                          <a:hlinkClick r:id="rId5"/>
                        </a:rPr>
                        <a:t> Valor Conveniad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 u="sng">
                          <a:solidFill>
                            <a:srgbClr val="e68200"/>
                          </a:solidFill>
                          <a:uFillTx/>
                          <a:latin typeface="Calibri"/>
                          <a:hlinkClick r:id="rId6"/>
                        </a:rPr>
                        <a:t> Valor Liberado até a presente dat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Pago p/Empreiteir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de execuçã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gência  do CV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 u="sng">
                          <a:solidFill>
                            <a:srgbClr val="e68200"/>
                          </a:solidFill>
                          <a:uFillTx/>
                          <a:latin typeface="Calibri"/>
                          <a:hlinkClick r:id="rId7"/>
                        </a:rPr>
                        <a:t>6797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LIAÇAO E MELHORIA DO SISTEMAS DE ESGOTAMENTO SANITARIO. - TC/PAC 0508/14 - PR05041379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ISTERIO DA SAUD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. Zeca Dirc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282.059,5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6.411,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8.867,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4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/05/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 u="sng">
                          <a:solidFill>
                            <a:srgbClr val="e68200"/>
                          </a:solidFill>
                          <a:uFillTx/>
                          <a:latin typeface="Calibri"/>
                          <a:hlinkClick r:id="rId8"/>
                        </a:rPr>
                        <a:t>8046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UCAO DE UM CENTRO MULTI USO (GINASIO DE ESPORTES - 1ª Etap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ISTERIO DO TURISM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. Zeca Dirc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7.5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3.75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828,8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6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/02/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 u="sng">
                          <a:solidFill>
                            <a:srgbClr val="e68200"/>
                          </a:solidFill>
                          <a:uFillTx/>
                          <a:latin typeface="Calibri"/>
                          <a:hlinkClick r:id="rId9"/>
                        </a:rPr>
                        <a:t>7945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BERTURA DA ARQUIBANCADA DO ESTADIO MUNICIPAL CLEBER RODRIGUES DE SOUZA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ISTERIO DO ESPORT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. Zeca Dirc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3.75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.875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.894,8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9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/05/2501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 u="sng">
                          <a:solidFill>
                            <a:srgbClr val="e68200"/>
                          </a:solidFill>
                          <a:uFillTx/>
                          <a:latin typeface="Calibri"/>
                          <a:hlinkClick r:id="rId10"/>
                        </a:rPr>
                        <a:t>7855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ucao de Quadra Poliesportiva (Cuaraitav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ISTERIO DO ESPORT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. Edmar Arru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2.5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6.25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9.925,3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8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/07/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ução de  Quadra Escolar Coberta  - Distrito de Aparecida do Oes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C/FN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. Zeca Dirc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9.963,5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2.472,6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8.370,9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,7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/07/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3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ução de Escola 06 Salas Distrito de Marab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C/FN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. Zeca Dirc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6.822,7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6.473,74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2.647,0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,9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/09/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8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ução de 12 salas - Escola Profª Maria Jose da Silv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C/FN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. Zeca Dirc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83.961,3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6.794,7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132,6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/05/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 u="sng">
                          <a:solidFill>
                            <a:srgbClr val="e68200"/>
                          </a:solidFill>
                          <a:uFillTx/>
                          <a:latin typeface="Calibri"/>
                          <a:hlinkClick r:id="rId11"/>
                        </a:rPr>
                        <a:t>8162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vimentacao, Meio fio e sarjeta (drenagem superficial) e construcao de calcadas em Ruas e Avenidas do Municipio. MP 6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ISTERIO DAS CIDAD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. Zeca Dirc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9.123,2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9.561,6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Licit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/08/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1842/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liação do Centro Multiuso (Ginasio de Esportes - 2ª Etap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istério do Espor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. Edmar Arru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8.75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Licit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/03/2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 u="sng">
                          <a:solidFill>
                            <a:srgbClr val="e68200"/>
                          </a:solidFill>
                          <a:uFillTx/>
                          <a:latin typeface="Calibri"/>
                          <a:hlinkClick r:id="rId12"/>
                        </a:rPr>
                        <a:t>8196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vimentacao, Meio fio e sarjeta (drenagem superficial) e construcao de calcadas em Ruas e Avenidas do Municipi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ISTERIO DAS CIDAD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. Edmar Arru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.009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Licit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/01/2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 gridSpan="4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Total Conveniado ........................................................................................................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370.439,3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03.589,6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08.667,6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SITUAÇÃO DAS OBRAS:</a:t>
            </a:r>
            <a:br>
              <a:rPr sz="4000"/>
            </a:br>
            <a:r>
              <a:rPr b="1" lang="pt-BR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CURSO FEDERAL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071360" y="2143080"/>
            <a:ext cx="70722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6208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MPLIAÇÃO E MELHORIA DO SISTEMA SANITÁRIO ( ANDAMENTO)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OBERTURA DA ARQUIBANCADA DO ESTÁDIO MUNICIPAL CLEBER RODRIGUES DE SOUZA ( CONCLUÍDA, AGUARDANDO A LIBERAÇÃO DO 50% RESTANTE DO RECURSO)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AVIMENTAÇÃO , CONVÊNIO N° 819665 (EM FASE DE LICITAÇÃO)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SITUAÇÃO DAS OBRAS:</a:t>
            </a:r>
            <a:br>
              <a:rPr sz="4000"/>
            </a:br>
            <a:r>
              <a:rPr b="1" lang="pt-BR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CURSO FEDERAL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071720" y="2357280"/>
            <a:ext cx="728640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AVIMENTAÇÃO CONVÊNIO N° 816219 ( A LICITAR)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MPLIAÇÃO DO CENTRO MULTIUSO, GINÁSIO DE ESPORTES 2° ETAPA ( A LICITAR)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DEMAIS OBRAS ( PARALISADAS COM RESCISÃO DE CONTRATO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928800" y="642960"/>
          <a:ext cx="7572240" cy="5643720"/>
        </p:xfrm>
        <a:graphic>
          <a:graphicData uri="http://schemas.openxmlformats.org/drawingml/2006/table">
            <a:tbl>
              <a:tblPr/>
              <a:tblGrid>
                <a:gridCol w="460440"/>
                <a:gridCol w="1919160"/>
                <a:gridCol w="920880"/>
                <a:gridCol w="911160"/>
                <a:gridCol w="718920"/>
                <a:gridCol w="730440"/>
                <a:gridCol w="741240"/>
                <a:gridCol w="536760"/>
                <a:gridCol w="633240"/>
              </a:tblGrid>
              <a:tr h="563400">
                <a:tc gridSpan="3"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ÇÃO DE OBRAS EM ANDAMENTO E A INICIAR - RECURSOS ESTADUAIS - Ano 20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 u="sng">
                          <a:solidFill>
                            <a:srgbClr val="e68200"/>
                          </a:solidFill>
                          <a:uFillTx/>
                          <a:latin typeface="Arial"/>
                          <a:hlinkClick r:id="rId1"/>
                        </a:rPr>
                        <a:t>Número Convên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Órgão Conceden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endas e Program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 Conveniad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 Liberado até a presente dat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 Pago p/Empreiteir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de execuçã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gência do CV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o de Adesão 036/20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ntruçã da USF - Conjunto Berço da Famil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. Estado da Saú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. Jonas /Paranh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2.440,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7.952,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1.365,0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9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 059/20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orma e Modernização do Hospital Municipal Nossa Senhora das Graç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. Estado da Saú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. Jona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.100,7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823,6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.259,8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4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S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nstrução de Unidade de Apoio Saude da Familia - Vila Rural Gralha Azu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. Estado da Saú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. Jona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.000,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000,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itadda não Inicia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S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orma da UBS - Cuaraitav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. Estado da Saú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. Jona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000,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00,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itar/Deseta Licitar Novamen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 gridSpan="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 Total Convenido....................................................................................................................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84.540,7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4.775,6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9.624,9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SITUAÇÃO DAS OBRAS:</a:t>
            </a:r>
            <a:br>
              <a:rPr sz="4000"/>
            </a:br>
            <a:r>
              <a:rPr b="1" lang="pt-BR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CURSO ESTADUAL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42560" y="2323800"/>
            <a:ext cx="745812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ONSTRUÇÃO DE UNIDADE DE APOIO SAÚDE DA FAMÍLIA – Vila Rural Gralha Azul ( Licitação deserta, à licitar novamente)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FORMA DA UBS – CUARAITAVA (Licitação deserta, à licitar novamente)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DEMAIS OBRAS ( PARALISADAS COM RESCISÃO DE CONTRATO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571680" y="857160"/>
            <a:ext cx="767232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0" algn="ctr">
              <a:lnSpc>
                <a:spcPct val="80000"/>
              </a:lnSpc>
              <a:spcBef>
                <a:spcPts val="1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3e3d2d"/>
              </a:solidFill>
              <a:latin typeface="Century Gothic"/>
            </a:endParaRPr>
          </a:p>
          <a:p>
            <a:pPr marL="357480" indent="0" algn="ctr">
              <a:lnSpc>
                <a:spcPct val="80000"/>
              </a:lnSpc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700" spc="-1" strike="noStrike">
                <a:solidFill>
                  <a:srgbClr val="000000"/>
                </a:solidFill>
                <a:latin typeface="Arial"/>
                <a:ea typeface="Arial"/>
              </a:rPr>
              <a:t>PODER </a:t>
            </a:r>
            <a:endParaRPr b="0" lang="en-US" sz="6700" spc="-1" strike="noStrike">
              <a:solidFill>
                <a:srgbClr val="3e3d2d"/>
              </a:solidFill>
              <a:latin typeface="Century Gothic"/>
            </a:endParaRPr>
          </a:p>
          <a:p>
            <a:pPr marL="357480" indent="0" algn="ctr">
              <a:lnSpc>
                <a:spcPct val="80000"/>
              </a:lnSpc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3e3d2d"/>
              </a:solidFill>
              <a:latin typeface="Century Gothic"/>
            </a:endParaRPr>
          </a:p>
          <a:p>
            <a:pPr marL="357480" indent="0" algn="ctr">
              <a:lnSpc>
                <a:spcPct val="80000"/>
              </a:lnSpc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700" spc="-1" strike="noStrike">
                <a:solidFill>
                  <a:srgbClr val="000000"/>
                </a:solidFill>
                <a:latin typeface="Arial"/>
                <a:ea typeface="Arial"/>
              </a:rPr>
              <a:t>EXECUTIVO</a:t>
            </a:r>
            <a:endParaRPr b="0" lang="en-US" sz="6700" spc="-1" strike="noStrike">
              <a:solidFill>
                <a:srgbClr val="3e3d2d"/>
              </a:solidFill>
              <a:latin typeface="Century Gothic"/>
            </a:endParaRPr>
          </a:p>
          <a:p>
            <a:pPr marL="357480" indent="0" algn="ctr">
              <a:lnSpc>
                <a:spcPct val="80000"/>
              </a:lnSpc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571680" y="285480"/>
            <a:ext cx="8177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CEITA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-255600">
              <a:lnSpc>
                <a:spcPct val="9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$ 29.628.573,24 - PREVISTA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-255600">
              <a:lnSpc>
                <a:spcPct val="9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$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 8.013.423,27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 – ARRECAD.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-255600">
              <a:lnSpc>
                <a:spcPct val="9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27,05% DE ARRECADAÇÃO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00120" y="714240"/>
            <a:ext cx="618984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"/>
              </a:rPr>
              <a:t>DESPESA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799308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$ 28.505.588,24- PREVISÃO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$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5.837.471,82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EMPEN.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20,48% REALIZADAS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14280" y="713880"/>
            <a:ext cx="68580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SUPERÁVIT</a:t>
            </a:r>
            <a:endParaRPr b="0" lang="en-US" sz="5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13880" y="2928960"/>
            <a:ext cx="79930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R$ 2.175.951,45</a:t>
            </a:r>
            <a:endParaRPr b="0" lang="en-US" sz="50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12840" y="981000"/>
            <a:ext cx="8858160" cy="226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"/>
              </a:rPr>
              <a:t>RECEITA CORRENTE</a:t>
            </a:r>
            <a:br>
              <a:rPr sz="4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br>
              <a:rPr sz="4800"/>
            </a:b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"/>
              </a:rPr>
              <a:t>LÍQUIDA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692000" y="2924280"/>
            <a:ext cx="611964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e3d2d"/>
              </a:solidFill>
              <a:latin typeface="Century Gothic"/>
            </a:endParaRPr>
          </a:p>
          <a:p>
            <a:pPr marL="301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"/>
              </a:rPr>
              <a:t>R$ 24.451.231,90</a:t>
            </a:r>
            <a:endParaRPr b="0" lang="en-US" sz="4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0920" y="1413000"/>
            <a:ext cx="7993080" cy="118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"/>
              </a:rPr>
              <a:t>DESPESA COM PESSOAL</a:t>
            </a:r>
            <a:br>
              <a:rPr sz="4800"/>
            </a:b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9640" y="2491920"/>
            <a:ext cx="79200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MAIO 2016 a ABR 2017</a:t>
            </a:r>
            <a:endParaRPr b="0" lang="en-US" sz="50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0" algn="ctr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R$ 12.194.026,56</a:t>
            </a:r>
            <a:endParaRPr b="0" lang="en-US" sz="50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0" algn="ctr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49,87%</a:t>
            </a:r>
            <a:endParaRPr b="0" lang="en-US" sz="50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510320" cy="118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"/>
              </a:rPr>
              <a:t>DESPESAS EDUCAÇÃO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85520" y="2276280"/>
            <a:ext cx="835812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Folha Magistério: R$ 949.859,20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Folha Outros: R$ 397.778,94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Total Fundeb: 1.347.638,14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Century Gothic"/>
            </a:endParaRPr>
          </a:p>
          <a:p>
            <a:pPr marL="365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20:51:43Z</dcterms:created>
  <dc:creator>.</dc:creator>
  <dc:description/>
  <dc:language>en-US</dc:language>
  <cp:lastModifiedBy>USUARIO</cp:lastModifiedBy>
  <cp:lastPrinted>2014-09-26T11:29:17Z</cp:lastPrinted>
  <dcterms:modified xsi:type="dcterms:W3CDTF">2017-05-29T14:17:18Z</dcterms:modified>
  <cp:revision>232</cp:revision>
  <dc:subject/>
  <dc:title>JANEIRO  2005</dc:title>
</cp:coreProperties>
</file>