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C858-3EF3-4C95-945F-BF52E500603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C15C-6540-4ED7-A4C6-B6886EC80C4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Espaço Reservado para Número de Slide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1480-3865-449C-A9EB-569F1DC71C2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0E53-8AC1-4101-BF0A-DB4A57311D4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F40-052E-4E87-A611-5BA1D47B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D6E-13AF-4D2A-9589-95E13E0C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3C7-D6A2-4D66-9BEA-383FCFBF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B53-2D22-484C-873E-7ADF4489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4985-4FAF-4B7F-9800-B187D9CB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2C82-99E1-4803-A0BF-CAAFD6BD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7CA8-3396-4EFF-A24B-FBE576C4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F38E-5CAA-4F4C-9D1C-CA4B4E94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2EC6-D6E9-4275-BAC9-5DB85932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F5A3-21BE-4A0A-B9BE-B217B89F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0D68-F015-4F58-A312-31D44392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319-CF5E-4207-AA62-E0FB449A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43DC-AB5D-4BC3-951B-F926B58B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31D0-D67D-4AFF-8014-EECA448E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82E3-146F-48FC-964C-91A1C595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510F-3578-4304-9D35-909BC94F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61D3-D911-4358-9BDD-B02A8AF6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8565B-6E3D-49BB-AE46-6E9F2FD1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1ECB7-CAAE-4B88-92AE-978174D5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D483A-FB39-462F-981B-B7671C01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DEEE0-5510-48AB-9E4E-1B8795BF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01A97-FAA1-4810-9F3E-3432C75F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9D7-472B-49B3-84C8-42C5068D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C23AA-8F56-4CAA-AE0A-6CCEFF13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2DECA-1000-423C-9CF4-DADBBEF6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28713-FDEB-4F7E-BC67-BCDDF2FD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D2750-0987-4B18-A269-549A3405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AFDD0-43A0-4889-A7C7-9FEEB768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E1B1E-EBDD-4353-B481-4D329E23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78BA-A250-4FBE-B64D-81687526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AF2C6-3455-4F33-9A2B-1EE05C7F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68764-6A73-42EC-94BD-ADB232C8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F6EEE-BC57-4058-AB8A-91EB98C8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EEB-8077-4415-B02D-C0B4006C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24BAF-8D9B-4226-B1CA-2F05585C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1C64-DB55-493C-B0F0-C83BB93E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CE436-0C87-4A2A-BE55-78C09382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3EBEF-314A-4D61-8C14-F3201D7F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34344-D4BE-4694-B1BE-27D6C3CF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A557F-6E9A-401E-9BE2-CFA7C567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63495-1E6F-4776-B7B6-E54985E2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BFC7A-FD31-4613-BC31-2A6258FA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6D4FD-5682-4168-8112-644B17E4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F4186-78CB-4BC8-8398-109729B4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F5F-310E-4D9D-9823-396C514C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0DDC7-FFDB-43AC-B82B-F0753382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A70B9-B560-4695-B2DC-C55F3A48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D3345-18B7-4759-AB60-8061D4CB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D7E38-71B1-415A-BCD5-93A02770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75D4A-0D48-42D3-90F6-D1194527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CF329-2B34-4B10-BD7E-01F122D0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ACD2F-90A0-4B42-B9E6-C77C0D43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95982-DAFF-4C6C-9EFA-DE851969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3335A-91CF-48EB-8916-E0A7D251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05B33-FA48-419A-A411-D5097938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D00-B666-43FE-9CCB-6287098C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461DE-C376-4F7B-86C5-095F5BF2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D375A-63EB-4FD8-A8A4-B49164F4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326AB-89F5-4477-962C-E9F508BC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43A3A-E176-4726-BEA1-234C8224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37435-FDD4-44F0-AC64-71A5BF25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D7A27-8B3D-4113-BB41-AE2FE1C4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767CC-4FF9-462C-817C-490139DA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498CC-7567-47FC-9223-895A4A63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96B42-9130-4A37-A423-00EADBD4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90B62-43EC-4E2B-B739-934B1FA0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B3F-A5EE-471A-8E03-13D14AE8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E1ADF-2D8C-429E-9F35-4DAD245E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1C046-7C5F-4E9C-BA12-D14AEED7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CFCB7-8C67-4273-B13B-D5E84999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FAF86-1934-4567-BCBF-12B5467B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BFF31-3816-4AE3-82FF-16653306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FEBCE-9F69-4910-BB68-A2771F72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F6586-9CE7-438D-B164-E8DFD4D5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2E138-B845-41AF-95AD-69507EBB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51998-21EB-486D-B277-0F23F4DF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3F0D1-BA2D-416F-93F9-402BCF7A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F95-136C-4C41-9606-26BCEFF5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A6AB8-A44D-4C82-88E7-782BA76E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CCF7F-A663-4BD9-A628-79A3905B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50A67-B059-4EE1-9162-766491F1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61C82-8B00-490B-BD83-9396FF12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AD946-17F1-4F00-AAE8-F7B03C51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76315-ADEF-402F-B107-96952CD2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6A548-08D5-4DFC-BBE9-99A2E6DC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8139A-8E8D-4A25-A8C6-3B3490CC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9FA4A-EB91-411E-A1B0-12088AF5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F4C73-DB50-44A3-BC30-EB605ABA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57E-5F28-4786-850E-A5E628D5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72B6E-ADA6-4963-97AE-5342CA95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BB068-8B98-4FC7-8707-E13D66EE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DC8E7-B8A4-4E30-B256-2288F60F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7A1F1-D16F-4B3B-9DAC-7FA0F9C6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B448C-BD58-4DDC-BC50-700F1B94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BE3BF-D656-4415-92F6-C528AF46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47627-2900-4C5F-886C-2830A8CF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reto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6F9A-9F73-41D6-820E-1E76F9DEAE11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ângulo retângu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a livre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a livre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a livre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a livr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reto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3E50-7497-409D-83C7-419CFFBE8364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a livr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a livr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ivis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visa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D2EE-1E2C-4E5C-ACB7-FDF8C8955391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a livr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a livr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1E35-8B3D-443A-B0CF-CED45427D658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845B-CD16-40AE-BB70-A3D88422FE9B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a livr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a livr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E417-5BDD-4EAF-A9A4-80DCA9FD4EAA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78AB-6101-44C6-B235-6A51EBC5D2C0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a livre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a livre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ângulo retângulo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ângulo retângulo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reto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Divisa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ivisa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AC98-66C2-4824-B775-1B58BB36B6A7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79280" y="213840"/>
            <a:ext cx="8964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  <a:ea typeface="Arial"/>
              </a:rPr>
              <a:t>AUDIÊNCIA PÚBLICA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  <a:ea typeface="Arial"/>
              </a:rPr>
              <a:t>2° QUADRIMESTRE 2018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  <a:ea typeface="Arial"/>
              </a:rPr>
              <a:t>GESTÃO FISCAL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Prevista.............R$ 31.461.310,12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tualizada.........R$ 32.437.949,46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 Arrecadada.......R$ 20.449.508,44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Despes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Fixada........R$   30.106.294,12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Atualizada........R$  33.071.667,73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Empenhada.....R$  17.044.136,35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Realizada....R$  16.453.411,73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ítulo 2" descr=""/>
          <p:cNvPicPr/>
          <p:nvPr/>
        </p:nvPicPr>
        <p:blipFill>
          <a:blip r:embed="rId1"/>
          <a:stretch/>
        </p:blipFill>
        <p:spPr>
          <a:xfrm>
            <a:off x="706320" y="208080"/>
            <a:ext cx="824256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 e Despes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rrecadada...........R$  20.449.508,44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executadas....R$ 16.453.411,73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perávit......................R$    3.996.096,71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9080" y="298440"/>
            <a:ext cx="9131400" cy="1854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928800" y="185724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Arial"/>
              </a:rPr>
              <a:t>R$27.932.640,17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43600" cy="11952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28760" y="1856880"/>
            <a:ext cx="82152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º Quadrimestre/2018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ceita Corr. Liquida..R$ 27.932.640,17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sp. Com Pessoal.. R$  12.973.388,94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% aplicado..............................46,45%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Desta forma, houve o cumprimento do art. 20 da LRF ( máximo de 54%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http://www.crismenegon.com.br/portal/images/educacao/livros-educacao-a-distancia-ead.jpg"/>
          <p:cNvPicPr/>
          <p:nvPr/>
        </p:nvPicPr>
        <p:blipFill>
          <a:blip r:embed="rId1"/>
          <a:stretch/>
        </p:blipFill>
        <p:spPr>
          <a:xfrm>
            <a:off x="857160" y="1214280"/>
            <a:ext cx="7715520" cy="4714920"/>
          </a:xfrm>
          <a:prstGeom prst="rect">
            <a:avLst/>
          </a:prstGeom>
          <a:ln w="0">
            <a:noFill/>
          </a:ln>
        </p:spPr>
      </p:pic>
      <p:sp>
        <p:nvSpPr>
          <p:cNvPr id="403" name="Retângulo 2"/>
          <p:cNvSpPr/>
          <p:nvPr/>
        </p:nvSpPr>
        <p:spPr>
          <a:xfrm flipV="1" rot="10800000">
            <a:off x="428400" y="522000"/>
            <a:ext cx="8072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DESPESAS EDUCAÇÃ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2857680"/>
            <a:ext cx="8229600" cy="31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de Impostos......R$   15.351.191,57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Educação Básica. R$   3.799.302,26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Aplicado..................................24,75%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ítulo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Arrecadada...........R$  2.613.472,05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nd.Aplic.Financeira......R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        4.571,57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 da Receita.................R$  2.618.043,62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(-) Desp. c Remuneração...R$ 2.095.720,88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% aplicado....................................91,20%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utras Despesas..............R$     438.088,44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% aplicado.....................................28,62%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ítulo 2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olha do magistério para cumprimento do limite mínimo de 60%</a:t>
            </a:r>
            <a:r>
              <a:rPr b="1" lang="pt-PT" sz="2700" spc="-1" strike="noStrike">
                <a:solidFill>
                  <a:srgbClr val="000000"/>
                </a:solidFill>
                <a:latin typeface="Arial"/>
                <a:ea typeface="Arial"/>
              </a:rPr>
              <a:t> (art. 212 CF/1988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Pagamento magistério: R$ 2.095.720,8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(-) Deduções para fins de limite d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UNDEB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:                         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$  (10.119,41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   R$  2.085.601,47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PERCENTUAL                       79,66%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ítulo 2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536400" y="208080"/>
            <a:ext cx="7931160" cy="14446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94920" y="1642680"/>
            <a:ext cx="82803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INVESTIMENTOS: R$ 2.302.197,4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AMORTIZAÇÕES: R$      73.934,1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R$ 2.376.131,59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213840" y="714240"/>
            <a:ext cx="8643960" cy="57499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Lei nº 101/2000- Lei de Responsabilidade Fiscal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INSTRUÇÃO NORMATIVA N°141/2018 – TCE -PR</a:t>
            </a:r>
            <a:endParaRPr b="0" lang="en-US" sz="5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536400" y="208080"/>
            <a:ext cx="7931160" cy="14446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99680" y="1571400"/>
            <a:ext cx="831852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ECATÓRIOS:         R$        75.385,8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FB- PARC. PASEP   R$      159.204,8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INSS                            R$       225.257,3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R$       459.847,96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536400" y="208080"/>
            <a:ext cx="7931160" cy="14446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28400" y="1428480"/>
            <a:ext cx="87152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De Exercícios Anteriore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Processados :               R$     102.547,68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Não processados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Tahoma"/>
              </a:rPr>
              <a:t>:        R$       96.060,19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  <a:ea typeface="Arial"/>
              </a:rPr>
              <a:t>TOTAL:                              R$     198.607,87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Contas a pagar do Exercício de 2018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Processados:                R$     736.015,91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A Processar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Tahoma"/>
              </a:rPr>
              <a:t>:                  R$     331.774,34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  <a:ea typeface="Arial"/>
              </a:rPr>
              <a:t>TOTAL:                               R$  1.067.790,25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TOTAL GERAL:             R$  1.266.398,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068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sultado Primário: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ALIZADO ATÉ O 2° QUADRIMESTR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$ 4.123.630,75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Corresponde ao resultado real (ou primário) das contas públicas, ou seja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cluindo-se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a despesa com juros, que o Município tem que pagar sobre as suas dívidas, e a inflação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ítulo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sultado Nominal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ALIZADA ATÉ O 2° QUADRIMEST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$ 4.265.045,10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Corresponde ao resultado nominal das contas do setor público, ou seja, está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luso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 efeito da inflação e do pagamento de juros sobre o fluxo de receitas e despesas do Município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928800" y="857160"/>
            <a:ext cx="754380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Lucida Sans Unicode"/>
              </a:rPr>
              <a:t>AUDIENCIA PÚBLIC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0" spc="-1" strike="noStrike">
                <a:solidFill>
                  <a:srgbClr val="000000"/>
                </a:solidFill>
                <a:latin typeface="Arial"/>
                <a:ea typeface="Arial"/>
              </a:rPr>
              <a:t>SAÚD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ítulo 2" descr=""/>
          <p:cNvPicPr/>
          <p:nvPr/>
        </p:nvPicPr>
        <p:blipFill>
          <a:blip r:embed="rId1"/>
          <a:stretch/>
        </p:blipFill>
        <p:spPr>
          <a:xfrm>
            <a:off x="128520" y="249120"/>
            <a:ext cx="8680680" cy="1177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"/>
          <p:cNvPicPr/>
          <p:nvPr/>
        </p:nvPicPr>
        <p:blipFill>
          <a:blip r:embed="rId2"/>
          <a:stretch/>
        </p:blipFill>
        <p:spPr>
          <a:xfrm>
            <a:off x="1886040" y="1763640"/>
            <a:ext cx="5371920" cy="39625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" descr=""/>
          <p:cNvPicPr/>
          <p:nvPr/>
        </p:nvPicPr>
        <p:blipFill>
          <a:blip r:embed="rId3"/>
          <a:stretch/>
        </p:blipFill>
        <p:spPr>
          <a:xfrm>
            <a:off x="1143000" y="1928880"/>
            <a:ext cx="7072200" cy="4429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" descr=""/>
          <p:cNvPicPr/>
          <p:nvPr/>
        </p:nvPicPr>
        <p:blipFill>
          <a:blip r:embed="rId4"/>
          <a:stretch/>
        </p:blipFill>
        <p:spPr>
          <a:xfrm>
            <a:off x="571680" y="1428840"/>
            <a:ext cx="7796160" cy="50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64304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de Impostos.....R$   14.982.607,08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Ações Saúde......R$      3.007.585,06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Aplicado...................................20,07%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Desta forma foi cumprido o disposto no artigo 7º da Lei Complementar n.141/2012, que prevê para o exercício o gasto mínimo de 15%(EC Nº 29/2000 CF/88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ítulo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539640" y="1357200"/>
            <a:ext cx="813600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PESSOAL:        R$ 2.372.566,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OUTRAS DESPESAS CORRENTES:                      R$ 2.080.283,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INVESTIMENTOS:  R$  556.207,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2600" y="208080"/>
            <a:ext cx="886932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COM SAÚDE NÃO COMPUTADAS PARA FINS DE APURAÇÃO DO PERCENTUAL MÍNIMO (15%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$ 2.001.472,14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ítulo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tângulo 1" descr=""/>
          <p:cNvPicPr/>
          <p:nvPr/>
        </p:nvPicPr>
        <p:blipFill>
          <a:blip r:embed="rId1"/>
          <a:stretch/>
        </p:blipFill>
        <p:spPr>
          <a:xfrm>
            <a:off x="566640" y="1182600"/>
            <a:ext cx="84060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rt. 48, Parágrafo Único- A transparência será assegurada também mediante incentivo à participação popular e realização de </a:t>
            </a: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audiências públicas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, durante os processos de elaboração e de discussão dos planos, Lei de Diretrizes Orçamentárias e Orçamento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ítulo 2" descr=""/>
          <p:cNvPicPr/>
          <p:nvPr/>
        </p:nvPicPr>
        <p:blipFill>
          <a:blip r:embed="rId1"/>
          <a:stretch/>
        </p:blipFill>
        <p:spPr>
          <a:xfrm>
            <a:off x="450720" y="-19080"/>
            <a:ext cx="82425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Audiência Pública é uma das formas de participação e de controle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pular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na Administração Pública no Estado Social e Democrático de Direito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um instrumento que leva a uma decisão política ou legal com legitimidade e transparência dos atos praticados na Administração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No  texto da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LRF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determina que o Poder Executivo "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demonstrará e avaliará o cumprimento das metas fiscais de cada quadrimestre, em audiência pública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nos meses de :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MAIO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ETEMBRO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EVEREIRO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ítulo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Estabelece normas de finanças públicas voltadas para a responsabilidade na gestão fiscal e dá outras providências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Lei de Responsabilidade Fiscal </a:t>
            </a: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(LRF),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o principal instrumento regulador das contas públicas no Brasil, estabelecendo metas, limites e condições  para gestão das Receitas e das Despesas e obrigando os Governantes a assumirem compromissos com a arrecadação e gastos públicos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REO - Relatório Resumido de Execução Orçamentá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GF – Relatório de Gestão Fisc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s informações contidas nesses documentos, além de determinar parâmetros e metas para a administração pública, permitem avaliar com profundidade a gestão fiscal do Poder Executivo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LRF regulamenta o artigo 163 da CF/88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ítulo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56760" y="857160"/>
            <a:ext cx="8572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  <a:ea typeface="Arial"/>
              </a:rPr>
              <a:t>PODER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  <a:ea typeface="Arial"/>
              </a:rPr>
              <a:t>EXECUTIVO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0:51:43Z</dcterms:created>
  <dc:creator>.</dc:creator>
  <dc:description/>
  <dc:language>en-US</dc:language>
  <cp:lastModifiedBy>USUARIO</cp:lastModifiedBy>
  <cp:lastPrinted>2016-02-29T14:03:55Z</cp:lastPrinted>
  <dcterms:modified xsi:type="dcterms:W3CDTF">2018-09-26T11:37:20Z</dcterms:modified>
  <cp:revision>365</cp:revision>
  <dc:subject/>
  <dc:title>JANEIRO  2005</dc:title>
</cp:coreProperties>
</file>