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E81-B11A-4F51-805C-4766F7DC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E4C-794E-41E3-A155-A581AC7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44D-E954-4E37-84D2-7DB4E94B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920-09F7-477B-A670-C54E83F4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CEF-1A0F-4733-8EFA-F8F502F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AF9-1709-4EDF-A43B-27685D0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CE0-735B-4F48-BF0B-D4C3385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5D4-E1D3-4403-A77C-93F3B30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651-EC5F-4A34-A7F1-2FC66A26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2E4-F066-4ED9-8ACC-85E1078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99B-919F-4798-9935-ED40403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3A0-C9D6-4B04-AB56-25F6D55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36568-6796-435D-9062-31F42C048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880" y="912960"/>
            <a:ext cx="8190000" cy="29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ample Text </a:t>
            </a:r>
            <a:r>
              <a:rPr b="1" lang="en-US" sz="5400" spc="-1" strike="noStrike">
                <a:solidFill>
                  <a:srgbClr val="3366ff"/>
                </a:solidFill>
                <a:latin typeface="Helvetica Neue"/>
                <a:ea typeface="Helvetica Neue"/>
              </a:rPr>
              <a:t>her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or a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Helvetica Neue Medium"/>
                <a:ea typeface="Helvetica Neue Medium"/>
              </a:rPr>
              <a:t>quote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…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387680"/>
            <a:ext cx="9144000" cy="4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416560" y="466416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x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right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…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5040" y="1460160"/>
            <a:ext cx="914868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3120" y="1107720"/>
            <a:ext cx="80010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 Condensed"/>
                <a:ea typeface="Futura Condensed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Futura Condensed"/>
                <a:ea typeface="Futura Condensed"/>
              </a:rPr>
              <a:t>SAMPLE TEXT HERE…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3760" y="1336320"/>
            <a:ext cx="6759720" cy="24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RE IDEA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&amp; </a:t>
            </a:r>
            <a:r>
              <a:rPr b="1" lang="en-US" sz="6600" spc="-1" strike="noStrike">
                <a:solidFill>
                  <a:srgbClr val="ffff00"/>
                </a:solidFill>
                <a:latin typeface="Helvetica Neue"/>
                <a:ea typeface="Helvetica Neue"/>
              </a:rPr>
              <a:t>EXAMP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3760" y="1336320"/>
            <a:ext cx="6759720" cy="24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RE IDEA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&amp; </a:t>
            </a:r>
            <a:r>
              <a:rPr b="1" lang="en-US" sz="6600" spc="-1" strike="noStrike">
                <a:solidFill>
                  <a:srgbClr val="ffff00"/>
                </a:solidFill>
                <a:latin typeface="Helvetica Neue"/>
                <a:ea typeface="Helvetica Neue"/>
              </a:rPr>
              <a:t>EXAMP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4565520"/>
            <a:ext cx="9161640" cy="595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5340240" y="4684680"/>
            <a:ext cx="54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480" y="1034640"/>
            <a:ext cx="87930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SAMPLE TEXT HERE 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FOR A </a:t>
            </a:r>
            <a:r>
              <a:rPr b="0" lang="en-US" sz="47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QUOTE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  <a:ea typeface="Arial"/>
              </a:rPr>
              <a:t>?”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4387680"/>
            <a:ext cx="9144000" cy="4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16560" y="466416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4040" y="1199880"/>
            <a:ext cx="780588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be this for a longer quote for thing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ant to talk m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ike marketing blogs and fun design techniques?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R. ALBERT EINS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4387680"/>
            <a:ext cx="9144000" cy="4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16560" y="466416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4040" y="1199880"/>
            <a:ext cx="7805880" cy="26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ample Text for quotes of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words…”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R. ALBERT EINS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4387680"/>
            <a:ext cx="9144000" cy="4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16560" y="466416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480" y="1034640"/>
            <a:ext cx="87930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SAMPLE TEXT </a:t>
            </a:r>
            <a:r>
              <a:rPr b="0" lang="en-US" sz="4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ERE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FOR A </a:t>
            </a:r>
            <a:r>
              <a:rPr b="1" i="1" lang="en-US" sz="47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QUOTE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?”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480" y="915480"/>
            <a:ext cx="87930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al Intro Line here…</a:t>
            </a:r>
            <a:br>
              <a:rPr sz="3200"/>
            </a:br>
            <a:r>
              <a:rPr b="0" lang="en-US" sz="7200" spc="-1" strike="noStrike">
                <a:solidFill>
                  <a:srgbClr val="3366ff"/>
                </a:solidFill>
                <a:latin typeface="Futura Condensed"/>
                <a:ea typeface="Futura Condensed"/>
              </a:rPr>
              <a:t>“WHAT’S THAT QUOTE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4379760"/>
            <a:ext cx="9144000" cy="5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416560" y="456408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480" y="948960"/>
            <a:ext cx="87930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al Intro Line here…</a:t>
            </a:r>
            <a:br>
              <a:rPr sz="3200"/>
            </a:br>
            <a:r>
              <a:rPr b="0" lang="en-US" sz="7200" spc="-1" strike="noStrike">
                <a:solidFill>
                  <a:srgbClr val="3366ff"/>
                </a:solidFill>
                <a:latin typeface="Futura Condensed"/>
                <a:ea typeface="Futura Condensed"/>
              </a:rPr>
              <a:t>“WHAT’S THAT QUOTE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33480" y="0"/>
            <a:ext cx="93474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-1727280" y="204840"/>
            <a:ext cx="54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Optional Intro Line here…</a:t>
            </a:r>
            <a:br>
              <a:rPr sz="2900"/>
            </a:br>
            <a:r>
              <a:rPr b="0" lang="en-US" sz="6500" spc="-1" strike="noStrike">
                <a:solidFill>
                  <a:srgbClr val="ffffff"/>
                </a:solidFill>
                <a:latin typeface="Futura Condensed"/>
                <a:ea typeface="Futura Condensed"/>
              </a:rPr>
              <a:t>“WHAT’S THAT QUOTE”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914400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mpl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x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right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…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0520" y="1473120"/>
            <a:ext cx="918216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419720" y="4565520"/>
            <a:ext cx="4741920" cy="595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4183200" y="4684680"/>
            <a:ext cx="54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OGO HE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9:39:42Z</dcterms:created>
  <dc:creator>Britney Arkin</dc:creator>
  <dc:description/>
  <dc:language>en-US</dc:language>
  <cp:lastModifiedBy>Russ Henneberry</cp:lastModifiedBy>
  <dcterms:modified xsi:type="dcterms:W3CDTF">2014-09-11T17:09:46Z</dcterms:modified>
  <cp:revision>30</cp:revision>
  <dc:subject/>
  <dc:title>TITLE 1</dc:title>
</cp:coreProperties>
</file>