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6EE-83EC-4326-9509-E4127C06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699-3011-44C9-B623-59B0930A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609-F159-4B5D-8A8F-AE384991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972-4291-4F3C-8975-BC8FE1D5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58D-9E99-4CCD-8AFC-C8F4184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108-5051-40EF-8E77-D3DAFBF9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A57-3504-4B30-BB1B-24C84553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1E9-2E70-4DAC-A12A-B4598378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A1D-FB15-412B-905E-4812FC9E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598-55F2-49FA-B217-0ECD384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9AA-C34A-4E37-B81C-B7134B0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247-11FB-40F1-9780-42FE143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205F-A90E-4DFC-B991-62AFEBD6B7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e Wretched, Hungry, Starving Poor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Anne Steele   Music:  Katy Bowser  ©2002 Velveteen So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retched, hungry, starving po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a royal fe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mercy spreads her bounteou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very humble gu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retched, hungry, starving po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a royal fe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mercy spreads her bounteous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very humble gu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, Jesus stands with open 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lls, He bids you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lt holds you back and fear al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ee, there still is roo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, Jesus stands with open 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lls, He bids you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lt holds you back and fear ala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see, there still is roo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om in the Savior’s bleeding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love and pit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bid the soul de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rembles at His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om in the Savior’s bleeding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love and pity m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ll He bid the soul de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rembles at His f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, the Father reconci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ites your souls to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ebel shall be called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kindly welcomed h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m, the Father reconci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ites your souls to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ebel shall be called a chi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kindly welcomed h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48:19Z</dcterms:modified>
  <cp:revision>23</cp:revision>
  <dc:subject/>
  <dc:title>By Thy Mercy Words by James J. Cummins Music by Greg Thompson © 2004 Greg Thompson Music</dc:title>
</cp:coreProperties>
</file>