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B70E-3270-4A69-970F-5A41853B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BA1F-7242-4A1B-9F4B-B55F3068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8764-C171-4FF6-A0D9-21D3C37D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FC2C-56A8-487B-8906-D82714CF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3A9C-BA95-4019-8CED-D7D109CC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4E2A-D0C9-4B17-B1A0-BB50128F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7794-347A-4B73-A49C-E76DB55A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1791-A501-4F66-9568-2A015B60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D06C-5C8D-4EFE-AF58-EE66EE4E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290B-B6D9-4E4A-9C03-EFE58996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B93A-E7F7-4B63-B69F-B7F6563F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B116-E20E-4188-9EA6-BB5ECD61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A82C-0270-4355-A3D1-8A194EA462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e Wretched, Hungry, Starving Poor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Anne Steele   Music:  Katy Bowser  ©2002 Velveteen So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wretched, hungry, starving poo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hold a royal fea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mercy spreads her bounteous st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every humble gu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wretched, hungry, starving poo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hold a royal fea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mercy spreads her bounteous st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every humble gu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, Jesus stands with open a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calls, He bids you c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uilt holds you back and fear ala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see, there still is room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, Jesus stands with open a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calls, He bids you c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uilt holds you back and fear ala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see, there still is room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om in the Savior’s bleeding he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love and pity m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will He bid the soul dep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trembles at His f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om in the Savior’s bleeding he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love and pity m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will He bid the soul dep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trembles at His f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Him, the Father reconcil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ites your souls to c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rebel shall be called a chi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kindly welcomed ho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Him, the Father reconcil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ites your souls to c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rebel shall be called a chi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kindly welcomed ho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2:48:19Z</dcterms:modified>
  <cp:revision>23</cp:revision>
  <dc:subject/>
  <dc:title>By Thy Mercy Words by James J. Cummins Music by Greg Thompson © 2004 Greg Thompson Music</dc:title>
</cp:coreProperties>
</file>