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01F-77E7-4E50-9C81-4B5B3D73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D4A-11B9-429C-A2DD-CF1978B7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FD5-8C24-4C92-9477-9C987076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610-1760-49B4-B2EB-86BD7A3E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EF5-A578-43DE-BB07-2288B25E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617-9D66-4F84-BE93-A51D8B6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CCD-84C6-4460-8C85-8D79742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B06-8916-4669-B0E0-E1553216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6D8-0678-4DD8-A4CA-C9E7524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3B4-E7C0-4A5E-8B6B-22CEF20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411-3340-4E4B-9B5F-4EEDC5C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A66-19B8-4892-BD4C-E9C9849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81F5-A97C-4B6E-B1F8-C10D92123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This, So Weak and Helpless?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How   Music:  Chris Miner  ©1997 Christohper Miner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, so weak and helpl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of lowly Hebrew mai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dely in a stable shelte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ly in a manger lai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Lord of all cre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his wondrous path has tr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Lord from everlast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everlasting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, a Man of Sorrow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lking sadly life’s hard 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less, weary, sighing, weep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sin and Satan’s s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ur God, our glorious Savi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bove the starry s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for us a place prepar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no tear can dim the e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? Behold him shed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ps of blood upon the grou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, despised, reje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cked, insulted, beaten, bou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ur God, Who gifts and gr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His church is pouring dow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hall smite in holy venge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s foes beneath His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is that hangs there d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rude world scoffs and scor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ed with the malefacto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rn with nails, and crowned with thor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ur God Who lives for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d the shining ones on hig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glorious golden c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igning everlasting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6:45Z</dcterms:modified>
  <cp:revision>22</cp:revision>
  <dc:subject/>
  <dc:title>By Thy Mercy Words by James J. Cummins Music by Greg Thompson © 2004 Greg Thompson Music</dc:title>
</cp:coreProperties>
</file>