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473-B170-4FDD-AB80-8303F7ED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0EE-3DF2-445E-9FE5-2D8B3A3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EB6-89DB-4B5D-9F13-5FAA49D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10E-F464-4792-9F58-798FB8C9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998-96CB-4C77-BA3A-1FA9527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660-4DCF-4345-AE57-0CFC287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7E5-D443-47C7-9490-11A537BC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E85-C7F9-488F-BB34-E794DD3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22C-F93F-4374-BCE2-C443E6A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0DE-CDA9-4552-B4AD-37CA708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96E-F670-4D83-9269-8E2AB79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F55-AB7B-4F5C-9D75-10647E7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FA3-3558-4D05-A238-CD0DE7556F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This, So Weak and Helpless?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ow   Music:  Chris Miner  ©1997 Christohp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so weak and help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of lowly Hebrew m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dely in a stable shelte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ly in a manger lai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Lord of all cre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his wondrous path has tr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Lord from 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everlasting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a Man of Sorrow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lking sadly life’s hard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less, weary, sighing, weep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sin and Satan’s s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, our glorious Savi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bove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for us a place prepa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no tear can dim the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? Behold him shed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ps of blood upon the grou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despised,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cked, insulted, beaten, bou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, Who gifts and gr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is church is pouring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hall smite in holy venge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foes beneath Hi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 that hangs there d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rude world scoffs and scor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ed with the malefacto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rn with nails, and crowned with thor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 Who lives for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d the shining ones on h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glorious golden c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igning everlasting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6:45Z</dcterms:modified>
  <cp:revision>22</cp:revision>
  <dc:subject/>
  <dc:title>By Thy Mercy Words by James J. Cummins Music by Greg Thompson © 2004 Greg Thompson Music</dc:title>
</cp:coreProperties>
</file>