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09B-957D-4536-874A-4A5D1FFF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54D-FD8C-41F4-AFBD-36099918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C0D-53D2-4BFD-94B3-3135C4AF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D3D-C19D-4E27-A6EA-31CB0CFD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092-A75F-4D22-A7F6-4332CB8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E14-0119-4D32-81BC-9463C885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A78-268B-4325-AF15-DE8BA28D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8EE-E760-43B9-ACE7-501B8799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9CF-810A-4C91-8FC2-64BC55E4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F96-23D3-4757-A0CE-A3CFDDF0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806-B648-4143-9E59-2706AEA7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3D2-C849-4D41-BF48-48BB2ED1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AF9D-BA8D-459E-BDAC-2CAC6C95A7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on the Lord’s Side?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Frances Havergal   Music:  Mo Leverett  ©1996 Justice Road Produ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on the Lord’s sid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ll serve the K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ll be His helpe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lives to br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erce may be the conflic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may be the fo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King’s own arm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can overthrow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und His standard rang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tory is secu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is truth unchang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s the triumph s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yfully enlis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grace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on the Lord’s side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we are Th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ll leave the world’s sid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ll face the fo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on the Lord’s sid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for Him will g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call of merc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grace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on the Lord’s side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we are Th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for weight of glo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for crown and pal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er we the arm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the warrior psal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for love that claimeth liv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hom He di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m Jesus name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be on His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call of merc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grace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on the Lord’s side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we are Th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Thou hast bought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with gold or ge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ith Thine own life blo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y diade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blessing filling eac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omes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made us will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made us fr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grand redemp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grace div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on the Lord’s side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we are Thi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45:18Z</dcterms:modified>
  <cp:revision>21</cp:revision>
  <dc:subject/>
  <dc:title>By Thy Mercy Words by James J. Cummins Music by Greg Thompson © 2004 Greg Thompson Music</dc:title>
</cp:coreProperties>
</file>