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CF2C-2C61-46E2-8A85-7AA58AACC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2585-35C5-48FE-8F8E-A62DD59F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05E3-B9B4-49FA-92D7-A6ABE763A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04BA-805D-494F-B4CA-BA3C9E0A8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4663-0431-476A-BF0F-B2AB8EB2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CDB5-B8D8-4CFA-9AA7-FEBB7930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0DDA-67B0-42DA-B00C-7586ABF4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C854-5A01-49C7-B4F8-04FEFEE4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F73C-A7DD-478C-8DBF-F6CC1A1F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4FF2-E552-4768-80BE-AD2ACC43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8E6A-5E43-467F-8D53-502ADD78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9CE8-2EA4-4A4F-A3AC-1D5D1914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B7DF-3110-4812-BCD3-83FF2EF061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o Is on the Lord’s Side?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Frances Havergal   Music:  Mo Leverett  ©1996 Justice Road Produ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is on the Lord’s side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will serve the Ki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will be His helper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ther lives to bri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erce may be the conflic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rong may be the fo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the King’s own arm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ne can overthrow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und His standard ranging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ctory is secu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His truth unchangi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kes the triumph su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yfully enlisti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Thy grace divi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are on the Lord’s side—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vior, we are Thin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will leave the world’s side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will face the fo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is on the Lord’s side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for Him will go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Thy call of merc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Thy grace divi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are on the Lord’s side—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vior, we are Thin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 for weight of glor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 for crown and pal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nter we the arm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aise the warrior psalm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for love that claimeth liv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whom He died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hom Jesus nameth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st be on His s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Thy call of merc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Thy grace divi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are on the Lord’s side—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vior, we are Thin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Thou hast bought u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 with gold or ge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with Thine own life bloo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y diadem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Thy blessing filling each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comes to Th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hast made us willing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hast made us fr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Thy grand redemptio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Thy grace divi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are on the Lord’s side—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vior, we are Thin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5T22:45:18Z</dcterms:modified>
  <cp:revision>21</cp:revision>
  <dc:subject/>
  <dc:title>By Thy Mercy Words by James J. Cummins Music by Greg Thompson © 2004 Greg Thompson Music</dc:title>
</cp:coreProperties>
</file>