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0705-D0D6-4E5C-BFDF-00A91E85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42C-47D8-4068-ABA7-43FABE47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9F5-F9F3-4852-8270-23E07805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89F-D7CC-4CD7-9D24-9FF33D44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3DE-3A52-4818-9C8B-E4688BAF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112-9EFF-49C2-BD59-9305794C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5E5-3106-47E3-AB1A-DD13A0FA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C3B-461D-40A7-8FDE-0D343918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E75-71FD-43D9-B56F-6E6FDE45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151-D02D-4EE6-9602-7466A0D6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9B4-60DF-4506-81EF-D5CAAC30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B77-35DD-4B11-9062-C3479D5B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CF28-BE4C-45BB-B96C-AE8EDC948B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I Survey the Wondrous Cros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aac Watts   Music:  American Folk Tune 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survey the wondrous cr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which the Prince of glory di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richest gain I count but lo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our contempt on all my p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bid it, Lord, that I should bo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e in the death of Christ my G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vain things that charm me mo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acrifice them to His bl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from His head, His hands, His fe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ow and love flow mingled dow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e’er such love and sorrow me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thorns compose so rich a crow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re the whole realm of nature m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were a present far too small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 so amazing, so div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mands my soul, my life, my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40:22Z</dcterms:modified>
  <cp:revision>20</cp:revision>
  <dc:subject/>
  <dc:title>By Thy Mercy Words by James J. Cummins Music by Greg Thompson © 2004 Greg Thompson Music</dc:title>
</cp:coreProperties>
</file>