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AC8-EB24-42E6-BA71-CE77D58D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E4E-FE75-42EE-AA8E-EB377BE7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674-8CC6-42B0-B77D-E416CDCF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1CE-967B-4244-9EB6-BEC3D61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6B9-2174-4B94-B1A3-9D8ECB01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FFB-BD15-4F43-A617-3F56E6F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DFF-1C01-4C00-B26F-274D33C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BD5-33F1-43F3-BAD0-12CD2BF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2CB-CD7F-4356-A810-719EA28F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7B7-73B1-451F-9CC8-13313CA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8A5-4A8A-4A93-BAC6-DC5AF49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9AB-C984-46BC-BC6E-F7B5B7F1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77E-927D-4CF7-AAF7-D15A7B55C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 American Folk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urvey the wondrous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which the Prince of glory di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chest gain I count but l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our contempt on all my p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it, Lord, that I should bo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in the death of Christ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vain things that charm me m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crifice them to Hi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from His head, His hands, His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and love flow mingled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e’er such love and sorrow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thorns compose so rich a cr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e whole realm of natur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ere a present far too smal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so amazing, so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mands my soul, my life,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0:22Z</dcterms:modified>
  <cp:revision>20</cp:revision>
  <dc:subject/>
  <dc:title>By Thy Mercy Words by James J. Cummins Music by Greg Thompson © 2004 Greg Thompson Music</dc:title>
</cp:coreProperties>
</file>