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211-D74C-476F-9A5E-ABBEE5EC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961-D3FE-4E00-90B5-508E86F5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561-008D-45D7-860D-A9FBA530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CC3-E15B-4E41-8906-E7C164AB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D03-7A0E-42E4-843D-A242A932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DD4-4BC9-4A03-AF2D-5F2EBA4A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616-0A4C-44DF-9771-38429834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BF2-3546-451C-A73D-90626DC8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AB7-278F-48F2-A8B0-E5B90E8F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328-2A7D-497D-B0DE-64A3D73D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742-B143-4D47-91B1-5FA1C3F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425-7DFF-4B88-A088-EBFB528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B25D-20E5-4C02-A8A5-192B14A37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I Survey the Wondrous Cros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 American Folk Tune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survey the wondrous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which the Prince of glory di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ichest gain I count but l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our contempt on all my p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bid it, Lord, that I should bo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e in the death of Christ my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vain things that charm me mo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acrifice them to His bl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from His head, His hands, His f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ow and love flow mingled d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e’er such love and sorrow m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thorns compose so rich a crow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re the whole realm of nature m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were a present far too smal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so amazing, so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mands my soul, my life, my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40:22Z</dcterms:modified>
  <cp:revision>20</cp:revision>
  <dc:subject/>
  <dc:title>By Thy Mercy Words by James J. Cummins Music by Greg Thompson © 2004 Greg Thompson Music</dc:title>
</cp:coreProperties>
</file>