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CE0-AB9E-465F-8318-03A60EA5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652-687F-4B8D-94BE-A8B8A59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7D7-AB8B-4E84-BA59-4AF290BC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5D3-08C9-415F-A0F0-40339D9B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1D5-63E3-43AA-8508-E44C1D6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684-146B-410C-9AAF-58DE0345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339-4A6E-476F-B011-BB889FD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A3C-1164-498C-9E1A-DDB7A94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FAD-4482-4749-9CE9-9DBD0B54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76F-282B-4367-8C48-7E6A8EE5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77A-1D18-4169-9BF0-19986CE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2DA-F6F4-45E4-B0A4-082ECA1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A6A-B14E-45FC-A156-5EF1BFF2EB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 American Folk Tune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which the Prince of glory di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ichest gain I count but l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our contempt on all my p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bid it, Lord, that I should bo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in the death of Christ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vain things that charm me m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crifice them to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from His head, His hands, His f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and love flow mingled d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e’er such love and sorrow m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thorns compose so rich a crow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the whole realm of nature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were a present far too smal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so amazing, so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mands my soul, my life, my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0:22Z</dcterms:modified>
  <cp:revision>20</cp:revision>
  <dc:subject/>
  <dc:title>By Thy Mercy Words by James J. Cummins Music by Greg Thompson © 2004 Greg Thompson Music</dc:title>
</cp:coreProperties>
</file>