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31E-7897-4053-87EC-51014A2E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859-B80C-4C81-931D-9EFA43F8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DFC-FB8D-4E74-B1E5-CB15FC8D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B58-5395-4F01-9BD4-F779A276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B9F-0E2C-4ADA-A51E-564DF61C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A8A-F772-4357-9084-FF51732D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BBC-FA9E-4F63-ADA2-8DE000C3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6DD-0B3B-4E9F-91D7-FB67B3ED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5BC-EDCF-48D1-9E1E-191AD6BB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187-30FB-4426-B221-D5EEC0A2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FF3-4F14-43B1-9A53-1A235521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93C-0091-4031-BE63-3D302062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AF60-2DE6-484F-956D-470C28D281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All Thy Mercie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seph Addison   Music: Stephen Barnes  ©1997 Stephen Barnes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ll Thy mercies, O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ising soul surve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ported with the view, I’m l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onder, love, and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numbered comforts to my so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ender care bestow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my infant heart concei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Whom those comforts flow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oyful song I’ll 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h, eternity’s too sh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tter all Thy prais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rn with sickness, oft hast Th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ealth renewed my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in sins and sorrow su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newed my soul with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 thousand thousand precious gif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daily thanks emplo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is the least a cheerful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astes those gifts with jo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oyful song I’ll 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h, eternity’s too sh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tter all Thy prais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very period of my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oodness I’ll pursu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fter death, in distant worl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ous theme rene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oyful song I’ll 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h, eternity’s too sh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utter all Thy prais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39:00Z</dcterms:modified>
  <cp:revision>19</cp:revision>
  <dc:subject/>
  <dc:title>By Thy Mercy Words by James J. Cummins Music by Greg Thompson © 2004 Greg Thompson Music</dc:title>
</cp:coreProperties>
</file>