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D40-1AFD-462C-9C30-6BA0E4EA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5DC-5B31-4B9E-8C2E-30CA452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89C-CBD0-4F99-A3D5-2D171026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924-FE19-4ABD-AF9B-FCDBD8ED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075-ECF4-42B2-B622-7F4380B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A7D-783F-4F09-BF5B-11F504BD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C9E-2091-4ADF-A720-EAA45389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E64-5013-4789-996D-6D74BFE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6B5-775C-4E41-AAEF-0B0EC37D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FC8-3E4F-4500-9375-F12936BE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63F-4BC0-4488-A5D0-89DBDDAA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67E-4A0E-4FC1-AD6E-F68AB850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E26-C223-405B-B3F0-24673F2CA0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All Thy Mercie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seph Addison   Music: Stephen Barnes  ©1997 Stephen Barnes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Thy mercies, O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ising soul surve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ported with the view, I’m l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onder, love, and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numbered comforts to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ender care bestow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my infant heart concei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Whom those comforts flow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oyful song I’ll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h, eternity’s too sh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all Thy prais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rn with sickness, oft hast Th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ealth renewed my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in sins and sorrow su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newed my soul with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 thousand thousand precious gif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daily thanks emplo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is the least a cheerful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astes those gifts with j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oyful song I’ll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h, eternity’s too sh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all Thy prais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very period of my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oodness I’ll pursu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fter death, in distant worl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ous theme rene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oyful song I’ll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h, eternity’s too sh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all Thy prais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39:00Z</dcterms:modified>
  <cp:revision>19</cp:revision>
  <dc:subject/>
  <dc:title>By Thy Mercy Words by James J. Cummins Music by Greg Thompson © 2004 Greg Thompson Music</dc:title>
</cp:coreProperties>
</file>