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A9F-B57D-46A5-A438-39F30B7E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489-7903-4603-B994-BA16DBEC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ACE-0BCB-4739-85CC-B261A99D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42C-98BB-4B1D-A4D6-A71C2AA9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30D-412C-49D4-ADE1-9A894810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776-F1F4-4B77-BD95-19CAD0F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F9D-D5F1-48F1-8A66-7A75D72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D7A-D0E9-43EF-AC58-185A370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E8E-90A3-4F66-ADDE-CE27AA7A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E06-CCA4-4502-A8ED-71695E2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766-4FB3-4F97-9E13-A55D368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A76-0067-4986-96AF-20A9597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CF4-6AD6-430D-823A-CD2E5344BB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ondrous Love Is Thi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American Folk Hymn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 is th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O my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 is this, O my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 is t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e Lord of bli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the dreadful cur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oul, for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the dreadful curse for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was sinking dow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king down, sinking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was sinking down, sinking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was sinking dow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God’s righteous fr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laid aside His crow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oul, for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laid aside His crown for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 and to the Lamb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, I will s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 and to the Lamb I will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 and to the Lam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great “I Am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millions join the the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, I will s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millions join the theme, I will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from death I’m fr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on, I’ll sing 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from death I’m free, I’ll sing 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from death I’m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and joyful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rough etern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on, I’ll sing 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rough eternity I’ll sing 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37:44Z</dcterms:modified>
  <cp:revision>18</cp:revision>
  <dc:subject/>
  <dc:title>By Thy Mercy Words by James J. Cummins Music by Greg Thompson © 2004 Greg Thompson Music</dc:title>
</cp:coreProperties>
</file>