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26F-D51E-43C9-85E7-7AADE76D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5BB-AC20-4D80-BC48-95809187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408-5EAC-401F-B0CE-D6193F7C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61D-CD55-411A-A411-F28C9392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0F9-8B43-417B-9E95-B5BAF8AF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DFE-B2B1-44EE-B62E-33FC6372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137-05CE-4A84-A4B1-85AC74C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679-FDB2-4E48-A074-DB4CAFD8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939-E148-43D7-9CBC-42168AB6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F65-36AA-423F-857E-8EC3ADC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FB4-C4A6-4682-B6DC-DEF8E24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E9D-5BA2-4F08-AC4B-4BAE1EA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5D6-4E83-456A-A51B-6E0AFFBF7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ondrous Love Is Thi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American Folk Hymn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 is th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, O my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 is this, O my sou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 is t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e Lord of bli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the dreadful cur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oul, for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the dreadful curse for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was sinking dow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king down, sinking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was sinking down, sinking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was sinking dow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God’s righteous fr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laid aside His crow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oul, for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laid aside His crown for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 and to the Lamb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, I will s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 and to the Lamb I will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od and to the Lam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great “I Am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millions join the the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, I will s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millions join the theme, I will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from death I’m fr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on, I’ll sing 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from death I’m free, I’ll sing 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from death I’m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and joyful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rough etern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on, I’ll sing 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rough eternity I’ll sing 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37:44Z</dcterms:modified>
  <cp:revision>18</cp:revision>
  <dc:subject/>
  <dc:title>By Thy Mercy Words by James J. Cummins Music by Greg Thompson © 2004 Greg Thompson Music</dc:title>
</cp:coreProperties>
</file>