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521-48A6-4496-9F19-D47351B8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6F6-6854-42B2-B521-56B8BD23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C23-863B-4184-BA25-D44E3883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D5B-2BAF-49A5-9247-25109C9C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4C9-46F0-415C-9D91-8B0AC9FC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EAF-F667-4020-BD10-90D5BED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AA2-D0C2-4FEC-8FBD-05B1C497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F27-D588-4EFA-A3B7-30436453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405-3B04-4E62-90A8-A434E325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479-7990-4E52-B98D-F4ECB2E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6F4-2012-4442-A875-B5AF361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B78-355C-44B5-B321-CF38370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EB22-BBE0-45CC-BDC1-06B49FA95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e’er My God Ordains Is Righ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8 David Braud Music. Words: Samuel Rodigast. Music: David Brau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His will abi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be still whate’er He do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llow where He gui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dark my ro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me that I shall not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fore to Him I leave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never will deceiv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s me by the proper pa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He will not leav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, conten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e hath s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and can turn my griefs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atiently I wait His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now this cup in dr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bitter seem to my faint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 it all unshr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 is tru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morn an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comfort yet shall fill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ain and sorrow shal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my God ordains is 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shall my stand be ta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orrow, need, or death be m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I am not forsa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ther’s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round me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olds me that I shall not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 to Him I leave it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3:04Z</dcterms:created>
  <dc:creator>Zachary</dc:creator>
  <dc:description/>
  <dc:language>en-US</dc:language>
  <cp:lastModifiedBy>Zachary</cp:lastModifiedBy>
  <dcterms:modified xsi:type="dcterms:W3CDTF">2013-01-04T00:34:29Z</dcterms:modified>
  <cp:revision>1</cp:revision>
  <dc:subject/>
  <dc:title>Whate’er My God Ordains Is Right ©1998 David Braud Music. Words: Samuel Rodigast. Music: David Braud.</dc:title>
</cp:coreProperties>
</file>