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F11-A386-40E3-B4C6-DFE2200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273-2692-4F27-9932-E52C282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98E-D257-4E38-8C84-278B57F7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A2D-055F-47D3-A698-B426A089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DE3-5EE4-473E-9743-A2EB8427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763-D133-4F91-9202-B815369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85D-877A-4143-89F2-A177876D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6D7-FEF0-4967-95C7-C830278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763-4DB9-4DC4-A2CF-A191246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FA3-F45E-4675-8062-41344759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013-5C0C-4050-8B72-96D0A11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504-5CF8-4FC4-BC51-560DA5A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4F5-A627-4D04-858F-528CC15B5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e’er My God Ordains Is Righ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8 David Braud Music. Words: Samuel Rodigast. Music: David Brau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His will abi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be still whate’er He do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llow where He gui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dark my ro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me that I shall not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fore to Him I leave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never will deceiv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s me by the proper p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He will not leav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, cont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e hath s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can turn my griefs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atiently I wait Hi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now this cup in dr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bitter seem to my faint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 it all unshr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is tru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morn a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comfort yet shall fill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ain and sorrow shal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hall my stand be ta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orrow, need, or death b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I am not forsa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ther’s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round me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me that I shall not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 to Him I leave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3:04Z</dcterms:created>
  <dc:creator>Zachary</dc:creator>
  <dc:description/>
  <dc:language>en-US</dc:language>
  <cp:lastModifiedBy>Zachary</cp:lastModifiedBy>
  <dcterms:modified xsi:type="dcterms:W3CDTF">2013-01-04T00:34:29Z</dcterms:modified>
  <cp:revision>1</cp:revision>
  <dc:subject/>
  <dc:title>Whate’er My God Ordains Is Right ©1998 David Braud Music. Words: Samuel Rodigast. Music: David Braud.</dc:title>
</cp:coreProperties>
</file>