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C1F-CC25-4B02-9DB9-94720183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8DC-F2B4-4E5B-85FD-EAD9700C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F2D-B141-46B1-B368-EA3DBBF2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038-F08D-42FA-BB2D-5B18A803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7D7-123B-49FB-9C15-1007FA0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BCF-E126-4D56-864B-BAF6D50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E00-89E2-45A5-95FE-4B41EC17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852-2A2A-4D8F-87E9-2E0FD78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1F4-53CC-4A78-BCAB-E92B37C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4E0-88CE-409C-8151-CB7D2194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696-F31A-4524-871F-00A5B222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CA1-7DA0-4BC6-82AE-0AD7E6A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419C-891B-46EE-879B-F8A44DA6D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 Rest on Thee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ith Cher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usic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rick Bush and Brian Murphy   ©2001 Patrick Bush Music /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ian T. Murphy Mus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ield and our def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go not fo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one against the f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in Thy m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n Thy keeping t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name w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 in Thy name O capta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dear name all oth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s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righteous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ure fou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prince of glory and our 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of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go in faith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own great weakness fe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eeding m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day Thy grace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from our hear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ong of triumph pl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name w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 our shiel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ur def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is the batt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shall be the pra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assing through the ga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pearly sple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tors we rest with Thee through endl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ndless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hield and our def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go not fo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one against the f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in Thy migh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n Thy keeping t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rest on The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name we 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 in Thy name O capta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sal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dear name all oth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s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our righteousnes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ure fou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prince of glory and our 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of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5T22:36:33Z</dcterms:modified>
  <cp:revision>17</cp:revision>
  <dc:subject/>
  <dc:title>By Thy Mercy Words by James J. Cummins Music by Greg Thompson © 2004 Greg Thompson Music</dc:title>
</cp:coreProperties>
</file>