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B18-5378-4FF6-83FC-D3755B35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5C3-2897-41D3-B4A1-FE3EE632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AAB-489B-4752-BEB8-885A11A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68-FA9D-4C91-B661-B87A5C80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3AF-4285-43E5-9ED7-DBDFC72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B6E-836B-423F-B7D2-683D5904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C29-7F7F-42A4-AD74-17E4B0C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A2E-24B2-446F-8ACB-553CDF0F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FB8-0013-4F67-9B6B-A6FBF558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A6A-3757-4EE4-9F8D-5463742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33-E9BA-4BBC-B64E-0339334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073-0FAB-40AE-AF90-840B326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32C-1D0F-48B2-AF8D-F844BED94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 Rest on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ith Cher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rick Bush and Brian Murphy   ©2001 Patrick Bush Music /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an T. Murphy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not fo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one against the f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in Thy m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 Thy keeping t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in Thy name O capta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name all oth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s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ur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ince of glory and our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of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in fait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own great weakness fe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eeding m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day Thy grace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from our hear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ong of triumph pl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 our shie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is the bat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shall be the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assing through the ga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early sple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s we rest with Thee through end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ndless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not fo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one against the f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in Thy m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 Thy keeping t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in Thy name O capta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name all oth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s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ur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ince of glory and our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of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6:33Z</dcterms:modified>
  <cp:revision>17</cp:revision>
  <dc:subject/>
  <dc:title>By Thy Mercy Words by James J. Cummins Music by Greg Thompson © 2004 Greg Thompson Music</dc:title>
</cp:coreProperties>
</file>