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C65-3A2F-4A56-A756-CF00D8D2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C33-B177-49A4-9144-969B59B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37B-CD46-426E-93EF-366993C5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2D4-4A33-4D73-9B01-AD4491EF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158-53CF-44E5-93F4-6A5B8D28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C58-2C49-4E23-835C-E98B3B5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9FF-B025-4496-AD2D-AC3A4F6C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5A5-417B-4F5F-A809-9F377F16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2D9-1F43-4E3E-9D85-0E668A79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CA7-55FC-41E3-AD1A-4FB60501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4F9-FA01-4E04-9658-B38BFCD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FE2-8D07-4517-B5AA-7D1C4F48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3B4-EB56-4762-87A3-CD7B515C5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pon a Life I Did Not Liv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2012 Kevin Twit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a Life I have not liv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a Death I did not d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other’s Life; Another’s D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take my whole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on the tears which I have sh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on the sorrows I have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other’s tears; Another’s grief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se I rest, on these a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esus, Son of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uild on what Thy cross has done for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both my death and life I rea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uilt, and pardon there I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I believe; O deal wi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one who has Thy Word believ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ake the gift, Lord, look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one who has Thy gift recei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esus, Son of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uild on what Thy cross has done for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both my death and life I rea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uilt, and pardon there I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28:03Z</dcterms:modified>
  <cp:revision>17</cp:revision>
  <dc:subject/>
  <dc:title>By Thy Mercy Words by James J. Cummins Music by Greg Thompson © 2004 Greg Thompson Music</dc:title>
</cp:coreProperties>
</file>