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5A8-F600-4613-B3F0-306E12C6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6188-B646-4FC4-B6FE-21BDD590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ED0-8D4A-41E2-B61E-4F60D72C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C27-312C-4ADF-BBE0-1016743B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FE9E-EBBA-4517-8341-775D80D8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41A-11D5-48BE-8A49-142F70B2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178A-3B76-4C92-9831-ED0CECE6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5FB7-13F9-4878-9679-9E9086D0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EB83-7339-4C05-8AE7-FE092A2D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5674-75DB-404D-9673-14631E13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8DE-AFF4-466E-A8EB-ABBA817E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B628-573E-4DCE-B4E5-262E81C4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F982-4743-477D-B1AB-603F324B8C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pon a Life I Did Not Liv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ratius Bon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vin Twit   ©2012 Kevin Twit Music (ASCA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on a Life I have not liv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on a Death I did not di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other’s Life; Another’s Dea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take my whole etern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on the tears which I have sh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on the sorrows I have k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other’s tears; Another’s grief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se I rest, on these al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Jesus, Son of Go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build on what Thy cross has done for 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both my death and life I rea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uilt, and pardon there I s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I believe; O deal with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one who has Thy Word believ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take the gift, Lord, look o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one who has Thy gift receiv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Jesus, Son of Go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build on what Thy cross has done for 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both my death and life I rea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uilt, and pardon there I s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2:28:03Z</dcterms:modified>
  <cp:revision>17</cp:revision>
  <dc:subject/>
  <dc:title>By Thy Mercy Words by James J. Cummins Music by Greg Thompson © 2004 Greg Thompson Music</dc:title>
</cp:coreProperties>
</file>