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68F-FF84-42EE-920D-5AD41963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616-FB87-4E41-B04C-091E0B3F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18F-C087-4C92-9974-E4D165B0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5CB-AE16-4348-9934-48CB727A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8F1-A41D-4784-A95F-FB0AFC3B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459-8AFA-4896-AA3D-2858CDA0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4C8-28A0-4A70-A305-E04939C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C58-20D1-4077-98D3-E0760D7C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AA5-99F7-4F03-B277-48C1D917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606-BFDF-4EC9-853D-C1E37342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BE7-29ED-4950-A293-701A95FC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95D-169C-4835-B05B-FE812345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538-092B-463A-8CC9-999DBBBFD3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til the Daybreak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ratius Bon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2012 Kevin Twit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vision of the Bridegroo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s the well-beloved B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red only for a seas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her Well-beloved's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hour when morn ascende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shadows disapp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signs of heavenly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 of morns, it comes at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gloom of ages p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y of days the bright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coming of the Bridegroo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m, though yet unseen, w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King of saints, retur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glory from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shout that shakes the pris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trumpet loud and cl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voice of the archange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 of morns, it comes at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gloom of ages p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y of days the bright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ight beyond the dark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reign of sin is d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storm has ceased its rag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haven has been w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joy beyond the sorr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the eternal y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resurrection splend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 of morns, it comes at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gloom of ages p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y of days the bright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56:20Z</dcterms:modified>
  <cp:revision>16</cp:revision>
  <dc:subject/>
  <dc:title>By Thy Mercy Words by James J. Cummins Music by Greg Thompson © 2004 Greg Thompson Music</dc:title>
</cp:coreProperties>
</file>