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38B7-513A-4168-A6E0-844D2410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25C-A37E-4927-9DB7-4C5A4BD2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A57-ADCA-4407-AC61-02DFFDCD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913-503A-418C-BD7C-5384A561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78C-DDB6-4734-8790-38B73278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90A0-0640-4E07-BC69-6CF749DE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230-2AAB-4F6C-9B75-5DF0DEC9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59EC-9F9B-4758-A959-9AED06B2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DCC-8BE0-4D82-87B3-A85CBD05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C2F-E019-49AE-8D6E-6575B219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39B-F41C-41C4-9811-941C38EF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62A-DAFA-461E-ADCA-DCFF9020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74F6-EEFF-49AD-AF84-A057C2358B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til the Daybreak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ratius Bon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vin Twit   ©2012 Kevin Twit Music (ASCA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vision of the Bridegroo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its the well-beloved Br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red only for a seas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her Well-beloved's s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hour when morn ascende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shadows disapp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signs of heavenly gl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is waiting, waiting he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n of morns, it comes at l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gloom of ages p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day of days the brighte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is waiting, waiting he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coming of the Bridegroo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m, though yet unseen, we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King of saints, return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s glory from ab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shout that shakes the pris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trumpet loud and cl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voice of the archange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is waiting, waiting he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n of morns, it comes at l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gloom of ages p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day of days the brighte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is waiting, waiting he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light beyond the dark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reign of sin is d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storm has ceased its rag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haven has been w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joy beyond the sorr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 of the eternal y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resurrection splendo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is waiting, waiting he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n of morns, it comes at l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gloom of ages p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day of days the brighte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is waiting, waiting he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56:20Z</dcterms:modified>
  <cp:revision>16</cp:revision>
  <dc:subject/>
  <dc:title>By Thy Mercy Words by James J. Cummins Music by Greg Thompson © 2004 Greg Thompson Music</dc:title>
</cp:coreProperties>
</file>