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40F-1A4B-49A4-B816-DE696B15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590-04B1-417D-A9AD-3EAAE869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1C5-0B80-4A29-B157-C3C99655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66E-1847-4930-9F9A-D3E6650E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447-43B5-4872-8D7E-5BDB433C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E32-6F22-440E-A687-1E4179C6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A1F-8730-47BF-AEA0-19E34B39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EF7-0C30-4DF4-816D-910CECBD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864-D8A8-4707-9AB0-4CC40084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435-BC07-4431-99D8-1859A791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B76-3983-4596-9BFE-3FFF0D7E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2DC-4D81-4CE4-8673-AD6D4EAC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82A4-37AD-4A10-9CD8-580089D838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y Will Be Don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lotte Elliot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stin Smith   ©2009 Justin Smith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 and Father! while I s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 from my home in life’s rough 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! teach me from my heart to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ll be done!” “Thy will be done!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 shouldst call me to resig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ost I prize, it ne’er was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only yield Thee what was Th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ll be done!” “Thy will be done!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but my fainting heart be bl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y sweet Spirit for its gu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! To Thee I leave the r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ll be done!” “Thy will be done!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new my will from day to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nd it with Thine, and take a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now that makes it hard to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ll be done!” “Thy will be done!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when on earth I breathe no m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ayer oft mixed with tears bef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ing upon a happier sh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ll be done!” “Thy will be done!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53:50Z</dcterms:modified>
  <cp:revision>15</cp:revision>
  <dc:subject/>
  <dc:title>By Thy Mercy Words by James J. Cummins Music by Greg Thompson © 2004 Greg Thompson Music</dc:title>
</cp:coreProperties>
</file>