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7C5D-3CA6-4A17-8551-A779FF1F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4816-2180-4D91-9F39-26575FBE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1D9F-9AFC-43E9-9620-D63A6F78B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E1A4-49FD-4502-A4EB-4B7C7164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61CD-7B2D-4798-8C54-D7085D26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DD8C-F243-4D11-9E8E-82360196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F25E-D257-408F-B627-515022A3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398B-0408-479F-B59D-1EEEF133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2EC0-EBC4-4E4E-A0A3-DA8D925B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4396-3BB6-4640-B689-2EB32293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0B6D-AE65-45FF-843C-4418E138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DA9F-5514-4FDF-8A33-253A4389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C4D3-0096-474E-BD0D-90DB734950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y Will Be Don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lotte Elliot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ustin Smith   ©2009 Justin Smith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God and Father! while I st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r from my home in life’s rough w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! teach me from my heart to s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will be done!” “Thy will be done!”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Thou shouldst call me to resig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most I prize, it ne’er was m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only yield Thee what was Thin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will be done!” “Thy will be done!”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but my fainting heart be ble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hy sweet Spirit for its gue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God! To Thee I leave the re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will be done!” “Thy will be done!”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new my will from day to d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end it with Thine, and take aw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now that makes it hard to s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will be done!” “Thy will be done!”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when on earth I breathe no mo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rayer oft mixed with tears befo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’ll sing upon a happier sho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will be done!” “Thy will be done!”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1:53:50Z</dcterms:modified>
  <cp:revision>15</cp:revision>
  <dc:subject/>
  <dc:title>By Thy Mercy Words by James J. Cummins Music by Greg Thompson © 2004 Greg Thompson Music</dc:title>
</cp:coreProperties>
</file>