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EA4-4D1C-4C60-B6EF-AE66EB4F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B34-FA73-48F3-B8B1-1CFF9F24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D17-3641-46E9-8510-35CF4713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9A2-A939-4F0F-9FB4-6453BF69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298-7D2E-425F-938F-87A2F650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4B9-A030-46C8-85F3-1DD29DCF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AF9-39AE-4806-B26D-53423200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6D1-7EE9-4884-AB70-1073A36E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009-0DE4-4B5C-BECA-8A8DC095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127-9185-47D1-AD43-9EF3CF7B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A40-BA1F-44C8-9D18-BA59C51D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980-4054-4D2C-8568-17DEEA11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D86C-785A-4128-8CDA-6D69C10CA9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 Christ the Lord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2001 Laura Taylor Music. Words: Samuel Stennett and Laura Taylor. Music: Laura Tayl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rist the Lord let every tong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noblest tribute b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e’s the subject of the s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an refuse to s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vey the beauties of His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n His glories d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k of the wonder of Hi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His triumphs t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jestic sweetness sits enthro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His awful b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head with radiant glories crow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lips with grace over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tal can with Him comp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ong the sons of 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er He is than all the f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fill the Heavenly tr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aw me plunged in deep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fled to my rel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e He bore the shameful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rried all my g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hand a thousand blessings pou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my guilty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resence gilds my darkest hou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uards my sleeping b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m I owe my life and br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joys I h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akes me triumph over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ves me from the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ven the place of His ab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brings my weary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s me the glories of my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akes my joy comple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from His bounty I rece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h proofs of love div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d I a thousand hearts to g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they should all be Th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ousand men could not comp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worthy song to b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Your love is a mel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earts can’t help but sing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5:12Z</dcterms:created>
  <dc:creator>Zachary</dc:creator>
  <dc:description/>
  <dc:language>en-US</dc:language>
  <cp:lastModifiedBy>Zachary</cp:lastModifiedBy>
  <dcterms:modified xsi:type="dcterms:W3CDTF">2013-01-05T21:49:12Z</dcterms:modified>
  <cp:revision>1</cp:revision>
  <dc:subject/>
  <dc:title>To Christ the Lord ©2001 Laura Taylor Music. Words: Samuel Stennett and Laura Taylor. Music: Laura Taylor.</dc:title>
</cp:coreProperties>
</file>