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E59-BC6B-4340-882D-1E1CC03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A19-9525-4AB1-B101-B5B74B97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9B7-8EFF-49EA-A2D0-F3E5D542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60B-0ADD-4265-91AF-6448099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B7C-1BAF-439C-8D39-E6193B00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C80-5FEC-40F5-9843-696C778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143-932E-44E3-837F-B47B7C65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730-D2D9-4A7A-BFC9-60BCB84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69D-C31D-4F0D-925B-6E7B0AE1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5B2-D027-4075-A496-BD23F4D0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7A0-1635-4D77-96DF-74CE870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127-AD9F-4142-93D1-E3CAC8D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91B4-B7DA-4136-915E-E25B1EDEB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Christ the Lord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Samuel Stennett and Laura Taylor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rist the Lord let every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noblest tribute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’s the subject of the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refuse to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vey the beauties of Hi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His glories d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of the wonder of Hi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His triumphs t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estic sweetness sits enthro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His awful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ead with radiant glories crow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ps with grace ov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tal can with Him comp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ong the sons of 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He is than all the f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ill the Heavenly t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w me plunged in deep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led to my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He bore the shameful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rried all my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a thousand blessings p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my guilty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esence gilds my darkest h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uards my sleeping b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I owe my life and br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joys I h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akes me triumph ove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ves me from the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ven the place of His ab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ings my wear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s me the glories of my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s my joy comple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from His bounty I rece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proofs of love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d I a thousand hearts to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hey should all be T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 men could not comp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worthy song to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Your love is a mel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can’t help but s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5:12Z</dcterms:created>
  <dc:creator>Zachary</dc:creator>
  <dc:description/>
  <dc:language>en-US</dc:language>
  <cp:lastModifiedBy>Zachary</cp:lastModifiedBy>
  <dcterms:modified xsi:type="dcterms:W3CDTF">2013-01-05T21:49:12Z</dcterms:modified>
  <cp:revision>1</cp:revision>
  <dc:subject/>
  <dc:title>To Christ the Lord ©2001 Laura Taylor Music. Words: Samuel Stennett and Laura Taylor. Music: Laura Taylor.</dc:title>
</cp:coreProperties>
</file>