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EB1-A82D-4DF5-8E96-C5EB7C2E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E5A-DBA2-47DD-94CF-ACBA024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39C-9282-4279-A948-828378EA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E2A-C201-4E83-9A09-B5A8F69F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1ED-1057-4462-B7FC-7047EB4A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503-A53B-4830-9D45-3E37F2CA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9E7-DCCB-454C-8365-DEB15EA9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550-5E83-4F84-91D4-4000F32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ACA-12BA-4DD4-B38A-1E30BE22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3F4-42D8-4898-8B3B-AFE44EB3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4B1-1E87-40E9-AB57-96784FA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7A2-0B6E-42DE-B839-1C18E225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109-9F11-413C-BFE3-E5619A783E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s So Sweet to Trust in Jesu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uisa Stead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Kirkpatrick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so sweet to trust i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take Him at His w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rest upon His prom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know “Thus saith the Lord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sweet to trust i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trust His cleansing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in simple faith to plunge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th the healing, cleansing floo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’tis sweet to trust i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from sin and self to cea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from Jesus simply t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and rest, and joy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m so glad I learned to trust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cious Jesus, Savior, frie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know that Thou art wi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be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8:32Z</dcterms:modified>
  <cp:revision>17</cp:revision>
  <dc:subject/>
  <dc:title>By Thy Mercy Words by James J. Cummins Music by Greg Thompson © 2004 Greg Thompson Music</dc:title>
</cp:coreProperties>
</file>