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2BB-5D71-46FC-A4DA-1771A89F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666-33E6-4F54-B47F-5F59E395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782-C4FE-4E01-A7CD-6999A009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3A5-190B-4E82-AADA-1CDCA0E0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9C9-3FE1-4DD6-BC92-03F50D38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FF3-07DD-4B7A-BAA4-1CB9C587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739-C789-4A8E-ACF5-DC01988B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48A-BC86-4326-9648-49465C44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9EC-B955-407A-983F-1DD44B8C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27C-E61B-4CF4-A4FC-C059DA3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E0F-4EF2-4E6D-A645-3121B1C3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898-5367-4412-8187-35E2D8EA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FBF9-E230-48FA-96E0-C85F7514A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s So Sweet to Trust in Jesu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uisa Stead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lliam Kirkpatrick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so sweet to trust i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take Him at His w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rest upon His prom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know “Thus saith the Lord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sweet to trust i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o trust His cleansing bloo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in simple faith to plunge 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th the healing, cleansing floo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’tis sweet to trust in Jes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from sin and self to cea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from Jesus simply t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e and rest, and joy and pe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m so glad I learned to trust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cious Jesus, Savior, frien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know that Thou art with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be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how I trust Hi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’ve proved Him o’er and o’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Jesus, precious Jesu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or grace to trust Him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48:32Z</dcterms:modified>
  <cp:revision>17</cp:revision>
  <dc:subject/>
  <dc:title>By Thy Mercy Words by James J. Cummins Music by Greg Thompson © 2004 Greg Thompson Music</dc:title>
</cp:coreProperties>
</file>