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8CB-BEC6-4CC2-A3B8-5AB2F16C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226-3DBB-4F57-A9EC-6265CF6F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0EC-B4BA-465E-BFB8-4F43F5AC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304-DD05-49A9-BB4E-F231A3B7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373-04F6-4214-8B6E-B17B20A8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767-E7CA-4EC3-B302-79F20D78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57A-1E4B-41E3-A627-0FC12DA6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4A8-23BC-471C-BB3F-A7D39262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F67-7D15-4DE6-AF75-2F9996D5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CAB-F824-4A81-B2C0-3B515C4C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EB6-68C8-47A2-B734-C23948E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271-476D-4EEB-9059-3EE28C2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07E3-0100-4662-AB59-DA37159D7F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y Mercy My Go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hn Stock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ra McCracken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2001 Same Old Dress Music (ASCAP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ercy, my G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theme of my s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oy of my hea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boast of my tongu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free grace alon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first to the 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th won my affectio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ound my soul f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out Thy sweet merc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uld not live he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 would reduce 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utter despai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, through Thy free good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pirits revi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that first made 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keeps me ali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ercy is m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a match for my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wonders to fee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own hardness dep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solved by Thy good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all to the gr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ep to the p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mercy I’ve f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Father of merci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oodness I 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covenant lo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y crucified So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praise to the Spiri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whisper div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ls mercy, and pard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ighteousness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47:01Z</dcterms:modified>
  <cp:revision>16</cp:revision>
  <dc:subject/>
  <dc:title>By Thy Mercy Words by James J. Cummins Music by Greg Thompson © 2004 Greg Thompson Music</dc:title>
</cp:coreProperties>
</file>