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791-D56F-425E-B0F1-70B37533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429-DE6D-4713-97A5-D75EF89C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3E0-7C41-41C1-A9C6-11A7C83C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009-8782-4385-A056-47ECC652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CD9-9F5C-434B-BFC2-EC992A6A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24E-EFB1-4575-AC90-125C91BC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976-FB94-4593-BE61-D642E149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581-514F-4DF4-B961-8A1D835E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4AD-E6CD-4450-8EA7-F708C395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B80-95B8-4507-BDD9-F21C64BE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4AB-097E-4053-A9D8-8AE9444C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ED7-3B6A-4CAA-B728-D4E43E16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1715-8C36-48CB-9F64-53EA45462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y Mercy My Go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Stock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ra McCracken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1 Same Old Dress Music (ASCAP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y, my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theme of my s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oy of my hea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boast of my tongu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free grace alon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first to the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th won my affectio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ound my soul f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Thy sweet merc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uld not live he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 would reduce 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tter despai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, through Thy free good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pirits rev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that first made 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keeps me al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y is m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a match for my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wonders to fee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own hardness dep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solved by Thy good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all to the gr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ep to the p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mercy I’ve f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Father of merci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oodness I 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covenant lo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y crucified So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praise to the Spiri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whisper div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ls mercy, and pard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ighteousness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47:01Z</dcterms:modified>
  <cp:revision>16</cp:revision>
  <dc:subject/>
  <dc:title>By Thy Mercy Words by James J. Cummins Music by Greg Thompson © 2004 Greg Thompson Music</dc:title>
</cp:coreProperties>
</file>