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B14-E6A5-42B7-BA55-CCDC4BEE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74B-3C2B-4AC4-93B5-E519B63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595-4319-4C50-9821-78F64272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5D1-82B8-4B1E-83A4-97F9C76C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307-8086-4959-9A21-402141B9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DEE-E9FF-48CA-B2A3-FB38F94D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D43-D5B8-49F5-BA1C-89FB281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2E4-FB1C-4484-BB78-5D3ECC82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E50-B7DD-4A83-BA12-F21C467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BC7-1A33-4171-AF5F-075680E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F20-B1FD-4D7E-BADC-FE96E2B6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D3F-5AB3-4CB8-98B7-C77EED3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C75-D857-4001-B5FF-993B52773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u Lovely Source of True Delight</a:t>
            </a: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1998 Kevin Twit Music. Words: Anne Steele (alt. Kevin Twit). Music: Kevin Tw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ovely source of true de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m I unseen ad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veil Thy beauties to my s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might love Thee mo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that I might love Thee mo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o’er creation sh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Thy sacred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ad in fairer, brighter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bleeding, dying Lo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my bleeding, dying L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s here, whene’er my comforts dro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in and sorrow 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love with cheering beams of h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nting heart supplie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nting heart’s suppl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ah! Too soon the pleasing sce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clouded o’er with 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gloomy fears rise dark betw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again compl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and I again com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my Lord, my life, my 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 come with blissful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 radiant through the shades of 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hase my fears aw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’t You chase my fears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soul with rapture t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nders of Thy l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full glories of Thy 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only known abo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re only known abo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1:23:01Z</dcterms:created>
  <dc:creator>Zachary</dc:creator>
  <dc:description/>
  <dc:language>en-US</dc:language>
  <cp:lastModifiedBy>Zachary</cp:lastModifiedBy>
  <dcterms:modified xsi:type="dcterms:W3CDTF">2013-01-04T01:23:44Z</dcterms:modified>
  <cp:revision>1</cp:revision>
  <dc:subject/>
  <dc:title>Thou Lovely Source of True Delight ©1998 Kevin Twit Music. Words: Anne Steele (alt. Kevin Twit). Music: Kevin Twit.</dc:title>
</cp:coreProperties>
</file>