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795-F0EF-44D8-96E0-72C2A71F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A0F-5A54-46F3-A0B9-BB270819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509-BE48-4997-944A-8BBD8C92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CDA-2A29-4ABE-8CE1-392EB052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AC9-7E07-4774-88DB-5255E7BC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B1B-231E-4FCE-877B-8E7CB2A6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BAE-6B4A-4859-A930-3725399B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87A-84EE-416A-A49C-C3705D4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192-3B5A-4D92-BD37-E0D5159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88D-297E-4CA3-B3D1-1DA6459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738-B10F-48FD-903C-F2BB6C3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EC2-3EF1-46B3-80D2-3E9BD42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5AF7-1DAB-48EB-A705-0DB8A9809B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u Lovely Source of True Delight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1998 Kevin Twit Music. Words: Anne Steele (alt. Kevin Twit). Music: Kevin Twi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lovely source of true de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m I unseen ad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veil Thy beauties to my s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might love Thee 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that I might love Thee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o’er creation sh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sacred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ad in fairer, brighter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leeding, dying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my bleeding, dying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here, whene’er my comforts dro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 and sorrow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with cheering beams of h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nting heart suppl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nting heart’s suppl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ah! Too soon the pleasing sce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clouded o’er with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loomy fears rise dark betw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again compl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I again com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my Lord, my life, my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come with blissful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k radiant through the shades of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hase my fears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’t You chase my fears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my soul with rapture t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nders of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full glories of Thy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only known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re only known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23:01Z</dcterms:created>
  <dc:creator>Zachary</dc:creator>
  <dc:description/>
  <dc:language>en-US</dc:language>
  <cp:lastModifiedBy>Zachary</cp:lastModifiedBy>
  <dcterms:modified xsi:type="dcterms:W3CDTF">2013-01-04T01:23:44Z</dcterms:modified>
  <cp:revision>1</cp:revision>
  <dc:subject/>
  <dc:title>Thou Lovely Source of True Delight ©1998 Kevin Twit Music. Words: Anne Steele (alt. Kevin Twit). Music: Kevin Twit.</dc:title>
</cp:coreProperties>
</file>