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364-BDA9-4641-8A0D-5A244D7F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CE6F-D03A-4BDA-8EE5-9A327D1F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FCFD-2EC0-4FCF-8FC2-E5C8DFFB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62B-F02B-478F-A515-F084CCE9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469-818A-464B-BC06-574FADD2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04D-009A-42AC-A316-E561D797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E04-147D-4B91-8EA4-AF985A9C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E6AF-7027-4B1F-ADFE-0A070DA3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FF1-DBA4-4DAD-A2A9-A3FD481F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C84-D05D-4337-B452-60F69F8B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8EC-686A-4AE4-960C-B8A7DB70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D29-6495-46EE-87F9-8F04C9B5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94FC-3AC4-4FA9-8254-12DEA94093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olid Rock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Edward Mote   Music: William Bradbury 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ope is built on nothing les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Jesus’ blood and righteousness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are not trust the sweetest fram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holly lean on Jesus’ n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Christ, the solid Rock I st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darkness veils His lovely f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rest on His unchanging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very high and stormy gal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anchor holds within the vei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Christ, the solid Rock I st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oath, His covenant, His bloo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pport me in the whelming flood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all around my soul gives way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then is all my hope and st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Christ, the solid Rock I st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He shall come with trumpet sou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may I then in Him be f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essed in His righteousness al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ultless to stand before the thr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Christ, the solid Rock I st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40:28Z</dcterms:modified>
  <cp:revision>20</cp:revision>
  <dc:subject/>
  <dc:title>By Thy Mercy Words by James J. Cummins Music by Greg Thompson © 2004 Greg Thompson Music</dc:title>
</cp:coreProperties>
</file>