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4BF-60FA-4BE4-AF2D-CBE034F1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B71-7D88-491C-BA71-711F7733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21C-D0D5-4542-8B48-A33F590D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5FA-0688-4748-99E8-49493692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E56-5497-4889-9844-44B850F3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507-A84E-4BB6-9253-CEEFCC1F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AE3-DBDB-43FB-B85D-E8926B2B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3F9-9DE7-4472-9C1D-4534BB13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256-ABFE-4B4D-8149-A79C3D17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4E1-C6F3-4A1C-91F0-FE6448EB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F82-F4E2-42D7-BECD-0CDBDCB0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ED7-1E9B-4641-AB61-E17D2FAD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9A27-5121-4FE6-B11F-BABB6A3BED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olid Rock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Edward Mote   Music: William Bradbury 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ope is built on nothing les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Jesus’ blood and righteousness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are not trust the sweetest fram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olly lean on Jesus’ n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 I st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arkness veils His lovely f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est on His unchanging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very high and stormy ga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anchor holds within the vei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 I st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oath, His covenant, His bloo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pport me in the whelming flood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ll around my soul gives way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then is all my hope and st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 I sta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e shall come with trumpet s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may I then in Him be f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essed in His righteousness al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less to stand before the thr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 I st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40:28Z</dcterms:modified>
  <cp:revision>20</cp:revision>
  <dc:subject/>
  <dc:title>By Thy Mercy Words by James J. Cummins Music by Greg Thompson © 2004 Greg Thompson Music</dc:title>
</cp:coreProperties>
</file>