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F32-98CD-47F6-A1F1-49D42AC6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775-4C4C-4312-A593-92ED2FDC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727-2AB2-4C2E-887D-9E8C0D48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39D-1640-4F56-8A6F-A3921EA2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045-CA00-4168-A4D9-06DD4900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4EC-B0DD-4C51-AA12-5BA6DD62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5AC-4492-4F32-AE2A-E18EE1E6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440-3684-4633-B7B8-E8BA1ACD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857-45F5-4AD4-BC57-9926E5D2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AB9-96F0-4286-B272-01EEB99D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FA9-A196-4FBA-8BAD-761BD61D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454-9771-451A-99C6-06AC96C8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5A41-EA77-4443-BAD8-70B0E4EAB2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helter of Your Wings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and Music: Scott Roley  ©Scott Roley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ut a begga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id upon Your doorstep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eart is like a ston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bell that cannot r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 me in the burning ligh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Your eternal pres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ide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 (hide 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helt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 (in the shelt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and hide me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ide 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helter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shelt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Your w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draw deep wate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well of Your true Spiri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leave behind 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hallows of my spring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me up with every wor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You alone have spo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ide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 (hide 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helt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 (in the shelt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and hide me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ide 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helter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shelt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Your w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sing Your prais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You have cast Your sha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vering that overco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ickness and the 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d me in forgiveness thr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arkness and the dan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ide 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 (hide 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helt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 (in the shelt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and hide me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ide 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helter 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 the shelt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Your w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39:01Z</dcterms:modified>
  <cp:revision>19</cp:revision>
  <dc:subject/>
  <dc:title>By Thy Mercy Words by James J. Cummins Music by Greg Thompson © 2004 Greg Thompson Music</dc:title>
</cp:coreProperties>
</file>