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D8D-D4F2-49C7-89DC-D7CDAA7B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D57-1DA9-425B-950C-2B6AA0E6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351-FD2C-4ADC-9B6F-A3E7C556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AD6-B096-4E2F-A170-DBE459C1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0B3-622A-4656-B2F4-9296D9B6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F34-B5C8-4487-9BA8-90B69C05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53D-E580-4F72-925E-9F92E5E2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E5C-03F9-45AA-B61C-4D084EF3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61E-1E1F-42D9-AF9E-D93F9713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EB5-C04B-46D8-BB30-159CF391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9BD-EFD3-4F20-AA06-EFBE1D8B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761-6205-4C25-84FE-6C002768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CD83-1868-4396-80A5-A8091E9040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helter of Your Wings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: Scott Roley  ©Scott Roley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ut a begga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id upon Your doorstep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art is like a ston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ell that cannot r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 me in the burning ligh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Your eternal pres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ide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(hide 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helt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(in the shelt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and hide me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ide 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helter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shelt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Your w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draw deep wate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well of Your true Spiri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leave behind 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hallows of my spring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me up with every wor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You alone have spo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ide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(hide 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helt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(in the shelt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and hide me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ide 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helter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shelt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Your w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sing Your prais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You have cast Your sha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vering that overco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ickness and the 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d me in forgiveness thr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arkness and the dan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ide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(hide 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helt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(in the shelt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and hide me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ide 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helter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shelt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Your w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39:01Z</dcterms:modified>
  <cp:revision>19</cp:revision>
  <dc:subject/>
  <dc:title>By Thy Mercy Words by James J. Cummins Music by Greg Thompson © 2004 Greg Thompson Music</dc:title>
</cp:coreProperties>
</file>