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B85F-4B6D-4823-AE2B-091C686DD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FBF5-6EC1-43FD-B503-EF7DEDD6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D23B-6269-4D71-90C9-F0B48B404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DD4D-3451-47A5-A44A-E409A451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7A47-0CE1-49F1-BDEC-811AB0B1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6E30-A329-4EF0-A8BF-D68B7345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2B2F-17DB-4D79-9F1E-35496C7C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6C93-E49E-40A7-94E9-02BD94CC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3B23-00FE-4DE1-8B50-E1B29020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C640-4846-46D7-8F29-1D74DC9B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2047-351B-4E8D-B073-5A7336F3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579C-FAAF-48E5-AAF3-C9ACD6B3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5E22-4F66-4E4E-88BB-2582A30A2E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Sands of Time Are Sinking</a:t>
            </a:r>
            <a:br>
              <a:rPr sz="40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ords: Anne Cousin (based on Samuel Rutherford’s letters) Music: Philip Palmertree  ©2001 Phillip Palmertree Mus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6840" y="14176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ands of time are sink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dawn of heaven break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ummer morn I’ve sighed for 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fair, sweet morn awak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rk, dark had been the midn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dayspring is at han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glory, glory dwelle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Emmanuel’s la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218960"/>
            <a:ext cx="88390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king there in His beaut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out a veil is seen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were a well-spent journe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seven deaths lay between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amb with His fair arm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th on Mount Zion stan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glory, glory dwelle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Emmanuel’s l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Christ, He is the fountai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deep, sweet well of lov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treams on earth I’ve tast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deep I’ll drink abov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to an ocean full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mercy doth expan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glory, glory dwelle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Emmanuel’s la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bride eyes not her garmen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her dear Bridegroom’s fac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will not gaze at gl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on my King of gr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at the crown He give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on His pierced han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amb is all the gl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Emmanuel’s la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I am my Beloved’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my Beloved is min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brings a poor vile sinn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o His house of w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tand upon His merit 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know no other stan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e’en where glory dwelle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Emmanuel’s la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13:00Z</dcterms:created>
  <dc:creator>Zachary</dc:creator>
  <dc:description/>
  <dc:language>en-US</dc:language>
  <cp:lastModifiedBy>Zachary</cp:lastModifiedBy>
  <dcterms:modified xsi:type="dcterms:W3CDTF">2013-01-05T21:04:35Z</dcterms:modified>
  <cp:revision>2</cp:revision>
  <dc:subject/>
  <dc:title>The Sands of Time Are Sinking Words: Anne Cousin (based on Samuel Rutherford’s letters) Music: Philip Palmertree  ©2001 Phillip Palmertree Music</dc:title>
</cp:coreProperties>
</file>