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3D5-B443-47EA-BBDC-96E93CE2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BA6-6DE6-460F-B767-C5D525A5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9CF-7BB9-44F7-BD3F-74FA27C9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281-B797-4860-9360-124D1CEA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6D2-0E5F-4EFB-8AAC-A12041C7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80A-A236-4F4D-962E-2F19A5D1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4BD-8B71-43FB-B6A9-E3E4973A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38F-ACBF-496E-A94E-2638615B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612-58C6-45EC-8CE8-E22EE065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131-E98D-4AAA-8681-C8A1719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41C-7080-4218-AC3B-779B67DE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42C-E869-4CE9-A488-4CE7F9A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695E-8860-41D5-8D22-D501F4F89B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ands of Time Are Sinking</a:t>
            </a:r>
            <a:br>
              <a:rPr sz="4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ds: Anne Cousin (based on Samuel Rutherford’s letters) Music: Philip Palmertree  ©2001 Phillip Palmertree Mus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1417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ands of time are sin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awn of heaven break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ummer morn I’ve sighed for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air, sweet morn awak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rk, dark had been the mid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dayspring is at h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lory, glory dwelle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mmanuel’s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218960"/>
            <a:ext cx="88390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ing there in His beau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out a veil is see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were a well-spent journe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seven deaths lay betwee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mb with His fair arm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th on Mount Zion st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lory, glory dwelle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mmanuel’s 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hrist, He is the fount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eep, sweet well of lov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eams on earth I’ve tas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deep I’ll drink abov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to an ocean full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mercy doth exp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lory, glory dwelle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mmanuel’s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ride eyes not her garmen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her dear Bridegroom’s fa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not gaze at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 my King of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t the crown He give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 His pierced ha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mb is all the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Emmanuel’s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I am my Beloved’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y Beloved is m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brings a poor vile sinn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His house of w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tand upon His merit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no other st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e’en where glory dwelle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mmanuel’s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13:00Z</dcterms:created>
  <dc:creator>Zachary</dc:creator>
  <dc:description/>
  <dc:language>en-US</dc:language>
  <cp:lastModifiedBy>Zachary</cp:lastModifiedBy>
  <dcterms:modified xsi:type="dcterms:W3CDTF">2013-01-05T21:04:35Z</dcterms:modified>
  <cp:revision>2</cp:revision>
  <dc:subject/>
  <dc:title>The Sands of Time Are Sinking Words: Anne Cousin (based on Samuel Rutherford’s letters) Music: Philip Palmertree  ©2001 Phillip Palmertree Music</dc:title>
</cp:coreProperties>
</file>