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D36-8ADE-4C29-B93E-BED7D5E6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E0E-497F-4330-BF39-632D6249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0E9-A510-46F2-B7B9-A12D85D3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FDB-5672-4340-95F6-62D57D2B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9B9-5693-4520-A8F7-5E74771F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E72A-3B6C-4ACD-90FF-32E4F583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76D-9E83-4D33-8A0C-55F48F2A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24F-2CC3-464E-965E-098E8E75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8E2-D0B2-42EE-83CC-693229DF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F02-EA6C-4F83-9EE2-6A1CEA29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304-263F-476D-B84C-6B65A860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5F3-0510-4C79-8A40-A9F0CFB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FA99-940B-4C4F-B1D2-05A151E46A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re Is a Fountai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Cow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rwin Jordan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Darwin Jordan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fountain filled with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n from Emmanuel’s vein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inners plunged beneath that f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e all their guilty stai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ying thief rejoiced to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fountain in his d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re may I, though vile as h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 all my sins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dying Lamb, Thy preciou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never lose its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 all the ransomed church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aved to sin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’er since, by faith, I saw the 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flowing wounds supp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eming love has been my the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all be ’til I d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is poor lisping, stammering tong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es silent in the gra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in a nobler, sweeter s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sing Thy pow’r to sa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41:56Z</dcterms:modified>
  <cp:revision>15</cp:revision>
  <dc:subject/>
  <dc:title>By Thy Mercy Words by James J. Cummins Music by Greg Thompson © 2004 Greg Thompson Music</dc:title>
</cp:coreProperties>
</file>