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058-EB06-4DB4-9790-1AEE37EF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3DC-AF6F-4012-BC37-274ECEAD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AA2-4CBB-474B-A739-397FEE7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F2C-A365-43C6-A25A-7884F2E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E92-452F-45E0-B4DD-05C57B9D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240-F4F4-467C-A188-DFD29BB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9CE-E028-4BC7-BF49-C4DB169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D45-D638-4CB4-87EB-878C0E33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47D-35B0-443F-9D48-B8C87B5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85C-1BFF-471F-BBCB-9781D19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3BE-9EC4-4CC1-BE0B-CC52C6E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E22-AED2-42D2-B9C7-5CDA2947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66A-D199-40FF-AFA5-BF8FC3388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re Is a Fountai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rwin Jorda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Darwin Jordan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fountain filled with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n from Emmanuel’s ve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ners plunged beneath that f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e all their guilty sta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ying thief rejoiced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ountain in his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may I, though vile as h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all my sins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ying Lamb, Thy preciou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never lose its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all the ransomed church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aved to sin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’er since, by faith, I saw the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lowing wounds supp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ing love has been my the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be ’til I d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is poor lisping, stammering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s silent in the gra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n a nobler, sweeter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Thy pow’r to s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1:56Z</dcterms:modified>
  <cp:revision>15</cp:revision>
  <dc:subject/>
  <dc:title>By Thy Mercy Words by James J. Cummins Music by Greg Thompson © 2004 Greg Thompson Music</dc:title>
</cp:coreProperties>
</file>