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BF16-5478-4EC8-A8C7-FDBCE574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3E7D-F9FF-49E7-A160-FFD3C9E8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6E8-F7E2-4195-9273-77C606CA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2680-83FD-4788-8677-F855DC02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E8FA-640E-4C08-B5EA-00BFF3FA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B129-E19F-4C5E-9B1E-57FD55BC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41FC-D1CC-4C26-8E5B-4A94358F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2016-87E7-43E1-B7B6-F60A6604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88E0-36F2-469E-ADD4-D5BF9CD5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7EA5-F661-44AC-89AA-61CC5162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1411-0F38-4808-A6C6-64A69AB5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4E95-5EA1-438A-9C6C-75BA84C7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D117-2872-419B-BEA9-9A8787A906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Love of Christ is Rich and Free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William Gadsby   Music: Sandra McCracken   ©2001 Same Old Dress Music (ASCAP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ove of Christ is rich and free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xed on His own eternally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earth, nor hell, can it remove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ng as He lives, His own He’ll l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loving heart engaged to b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ir everlasting Surety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Twas love that took their cause in han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ove maintains it to the e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ve cannot from its post withdraw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death, nor hell, nor sin, nor la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turn the Surety’s heart aw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’ll love His own to endless d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ve has redeemed His sheep with blood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ove will bring them safe to God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ve calls them all from death to life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ove will finish all their strif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loves through every changing scen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aught from Him can Zion wean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all the wanderings of her hear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make His love for her depar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ve cannot from its post withdraw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death, nor hell, nor sin, nor la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turn the Surety’s heart aw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’ll love His own to endless d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 death, beyond the grave, He’ll lo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endless bliss, His own shall pr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lazing glory of that l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never could from them rem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1:37:55Z</dcterms:modified>
  <cp:revision>18</cp:revision>
  <dc:subject/>
  <dc:title>By Thy Mercy Words by James J. Cummins Music by Greg Thompson © 2004 Greg Thompson Music</dc:title>
</cp:coreProperties>
</file>