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251-C93F-46DD-B46A-CFF7A659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518-0043-4205-97E3-1192D591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760-C6FD-4115-87BD-68308B99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16E-EB91-4E77-92C6-0B68CB5D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B73-5181-4832-A125-3BE7A94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7CD-48E6-443E-BEFB-EF8BB09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99B-AD1C-4E10-944D-0FD4F36F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10E-C8E8-4CBD-A61E-06C38BC1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F10-E50E-44BF-8E4C-D10156BC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758-A202-4D84-A07A-2D3DE97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74A-C82C-4C47-B9F2-3ABC754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671-308D-42BF-8F52-F09EB79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0BD-37F2-4071-9C98-A2939108D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ve of Christ is Rich and Fr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 Music: Sandra McCracken   ©2001 Same Old Dress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ve of Christ is rich and fre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xed on His own eternall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earth, nor hell, can it remov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as He lives, His own He’ll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oving heart engaged to b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everlasting Suret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was love that took their cause in h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maintains it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nnot from its post withdra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death, nor hell, nor sin, nor la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urn the Surety’s hear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love His own to endles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has redeemed His sheep with bloo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will bring them safe to Go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lls them all from death to lif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will finish all their str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s through every changing sce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aught from Him can Zion wea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the wanderings of her hear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His love for her dep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nnot from its post withdra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death, nor hell, nor sin, nor la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urn the Surety’s hear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love His own to endles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death, beyond the grave, He’ll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ndless bliss, His own shall pr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azing glory of that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ever could from them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7:55Z</dcterms:modified>
  <cp:revision>18</cp:revision>
  <dc:subject/>
  <dc:title>By Thy Mercy Words by James J. Cummins Music by Greg Thompson © 2004 Greg Thompson Music</dc:title>
</cp:coreProperties>
</file>