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23E-5E7D-456B-A2FC-64EE8518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FB0-A35C-4C9B-ADEF-B2124C6B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57D-4FAB-4FCF-A64F-1B23A3C7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46B-9B9D-4F6B-A9AA-FC842CF0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BA8-708B-4D95-A751-15181573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5F0-0DC9-4AF5-9404-47243F2D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677-667C-47D0-9E80-77F5A8E0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F6D-DEE3-43E9-A5DC-F438E363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B69-E815-43E3-BF00-E9F467AA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A07-58C8-4D36-8080-9C80CD15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916-AD78-4D99-AF43-526E15C0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239-E7B9-419F-9F8A-1FCACF2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5327-8A82-4BFF-8856-4C6D879A8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King of Love My Shepherd I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Baker   Music: Traditional Irish Tune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 of Love my Shepherd i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goodness faileth neve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othing lack if I am 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is mine forev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streams of living water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ansomed soul He leade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, where the verdant pastures gr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food celestial feede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verse and foolish, oft I stray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yet in love He sought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n His shoulder gently lai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me, rejoicing brough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death’s dark vale, I fear no 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e, dear Lord, beside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rod and staff my comfort st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cross before to guide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pread’st a table in my s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unction grace bestowe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 what transport of de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y pure chalice flowe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o through all the length of d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oodness faileth neve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Shepherd, may I sing Thy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in Thy house forev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6:10Z</dcterms:modified>
  <cp:revision>17</cp:revision>
  <dc:subject/>
  <dc:title>By Thy Mercy Words by James J. Cummins Music by Greg Thompson © 2004 Greg Thompson Music</dc:title>
</cp:coreProperties>
</file>