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2040-16CA-4A7F-91BB-AAD0F249C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3DE4-3CDF-45D0-B311-ACAA874FC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84A7-9832-44A2-ACC1-93F77A854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350C-5A4E-4DAB-A056-D3D6CEEB3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9E61-30EA-46C7-A68D-4B96C3429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D875-5362-4D0E-A7DE-64FFCC59A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5DD5-BE28-430C-A2C5-0501F32C8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9A78-D55D-44FD-97A3-C720DCAA3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D821-9289-44C1-86D2-EA5F9C19F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2FF7-17F4-4F54-ABE0-7DD854B45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D38D-7918-4C0D-BF4E-E612B49D0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B2B6-6546-4B09-9467-D1F6993AA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0F04E-B011-4801-803B-34D89B557A5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King of Love My Shepherd Is</a:t>
            </a:r>
            <a:br>
              <a:rPr sz="36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ds: Henry Baker   Music: Traditional Irish Tune   Public Doma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King of Love my Shepherd is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ose goodness faileth never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nothing lack if I am Hi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He is mine forever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re streams of living water flow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y ransomed soul He leadeth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, where the verdant pastures grow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ith food celestial feedeth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erverse and foolish, oft I straye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ut yet in love He sought me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on His shoulder gently lai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home, rejoicing brought m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death’s dark vale, I fear no il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ith Thee, dear Lord, beside me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y rod and staff my comfort still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y cross before to guide m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ou spread’st a table in my sight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ne unction grace bestoweth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O what transport of deligh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rom Thy pure chalice floweth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so through all the length of days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y goodness faileth never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ood Shepherd, may I sing Thy prai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ithin Thy house forever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1:02:06Z</dcterms:created>
  <dc:creator>Zachary</dc:creator>
  <dc:description/>
  <dc:language>en-US</dc:language>
  <cp:lastModifiedBy>Zachary</cp:lastModifiedBy>
  <dcterms:modified xsi:type="dcterms:W3CDTF">2013-01-05T21:36:10Z</dcterms:modified>
  <cp:revision>17</cp:revision>
  <dc:subject/>
  <dc:title>By Thy Mercy Words by James J. Cummins Music by Greg Thompson © 2004 Greg Thompson Music</dc:title>
</cp:coreProperties>
</file>