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725-994E-4938-B9AE-15C65C84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0DD-D9F8-488E-94F9-948B254A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D3F-AAC5-49A4-B0E5-5E05F763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2ED-C995-4360-A7D9-F9ADC544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127-AB9D-4501-98C5-30213BE7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A1F-937C-4300-B690-4C60565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4A2-36A6-4997-AB5E-60753D6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964-5876-492C-9C6E-DA1DD94F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E2D-32A0-4C2E-ACBF-D76A226A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E75-9E66-4DB9-AD27-6865A7F5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68E-E057-4BD4-9002-2A8AB38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949-75E2-45A6-A34B-3B9D2F3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338-8599-48BF-A1D0-369A264FA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hurch’s One Foundation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Samuel Stone   Music: Brian Mos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©1996 Parson John Publishing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's on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Jesus Christ her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is His new cre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ater and the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eaven He came and sought 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is holy br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is own blood He bought 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her life He d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 from every n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one over all the ea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charter of salv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Lord, one faith, one bir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holy Name she bl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akes one holy f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one hope she pr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very grace endu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ith a scornful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 see her sore oppr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chisms rent asund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eresies distress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saints their watch are keep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cry goes up, "How long?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on the night of weep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e morn of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shall never peris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dear Lord to def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uide, sustain and cheris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with her to 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re be those that hate 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alse sons in her p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st a foe or trait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ever shall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d toil and tribul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umult of her w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aits the consum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eace forevermor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l, with the vision glorio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longing eyes are ble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great church victo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the church at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she on earth hath un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od the Three in 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stic sweet comm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ose whose rest is w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appy ones and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give us grace that w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them, the meek and low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igh may dwell wi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3:16Z</dcterms:modified>
  <cp:revision>3</cp:revision>
  <dc:subject/>
  <dc:title>By Thy Mercy Words by James J. Cummins Music by Greg Thompson © 2004 Greg Thompson Music</dc:title>
</cp:coreProperties>
</file>