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BDB-C348-4FB5-BACB-434E7973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C49-451C-4991-A68A-F696B93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B3B-ABAA-467B-9C83-E40B849B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D12-BEA4-4EFD-B025-801777CA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61E-C094-4EB0-9841-5981718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D4F-7612-474B-82D2-8AB95E8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6D9-C50F-458A-8E48-7464CB0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97E-8FAB-4946-8D7C-802B3B8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CC8-072E-402F-8EB9-0EF7923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735-41D3-445B-9C7A-892DE14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20E-8465-4BB3-8D14-4755FA1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652-CE9F-4AA9-831C-47B2F02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F994-721C-4B38-91FC-00ED656CEE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hurch’s One Foundation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Samuel Stone   Music: Brian Mos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1996 Parson John Publishing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's on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Jesus Christ her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His new cre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ater and the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eaven He came and sought 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is holy br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is own blood He bought 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her life He d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 from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ne over all the ea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charter of salv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Lord, one faith, one bi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holy Name she bl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akes one holy f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one hope she pr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grace endu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ith a scornful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 see her sore oppr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chisms rent asund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eresies distress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saints their watch are keep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cry goes up, "How long?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on the night of weep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e morn of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shall never peris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dear Lord to def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uide, sustain and cher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with her to 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re be those that hate 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alse sons in her p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st a foe or trait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ever shall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d toil and tribu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umult of her w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aits the consum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eace foreverm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, with the vision gl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longing eyes are bl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great church victo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e church at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she on earth hath un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od the Three in 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stic sweet comm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ose whose rest is w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appy ones and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give us grace that w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them, the meek and low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igh may dwell wi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3:16Z</dcterms:modified>
  <cp:revision>3</cp:revision>
  <dc:subject/>
  <dc:title>By Thy Mercy Words by James J. Cummins Music by Greg Thompson © 2004 Greg Thompson Music</dc:title>
</cp:coreProperties>
</file>