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E02-1F6D-4AE0-93E3-AABDE7F8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ACA-3C52-44BD-8571-546B8CC5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3E8-4CC9-40FB-9DBB-B979DD6A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22E-73EC-4903-BFB1-4BF5392D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48D-45E3-45F4-A8FE-BF3686E9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054-8E19-4F97-8233-CE0D14ED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074-DB88-4BDE-A0DC-9401803C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04A-311B-410E-B622-398D5CB4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1A3-834C-4FA2-9529-5627FD8D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707-38DB-46D6-A9CC-89CB2D4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BD8-DF16-4A3A-940A-DD6ADD3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D79-F077-4812-88B1-81B6838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39E2-7F65-4EA1-9E5A-FA86841FA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n Thousand Times Ten Thousan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nry Allfo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 Miner   ©1997 Christopher Miner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 thousand times ten thous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parkling raiment b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rmies of the ransomed saints thr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 the steep of ligh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finished, all is finish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fight with death and s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ing open wide the golden gat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the victors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ush of allelu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s all the earth and sk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inging of a thousand har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speaks the triumph nig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day, for which cre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its tribes were ma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oy, for all its former wo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ousandfold repai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n what raptured greet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anaan’s happy sho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knitting severed friend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 where partings are no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eyes with joy shall spark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brimmed with tears of la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phans no longer fatherl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dows deso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near Thy great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Lamb for sinners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up the roll of Thine elec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ake Thy power, and reig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ear, Desire of natio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exiles long for h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e in the heaven Thy promised sig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Prince and Savio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3:20Z</dcterms:modified>
  <cp:revision>15</cp:revision>
  <dc:subject/>
  <dc:title>By Thy Mercy Words by James J. Cummins Music by Greg Thompson © 2004 Greg Thompson Music</dc:title>
</cp:coreProperties>
</file>