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AA5-2FA8-499F-AB78-6244EB4D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EC1-7B42-42A0-8ADE-B46F68F0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5D4-2580-48C2-9EAF-FDC90E7E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8A4-2EC3-45A4-933B-504107E9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F93-3901-4405-888A-6046B97D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F29-ADF4-4DB0-88DF-10D9D08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A4E-DA33-4E41-9EF0-570E3858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BFC-2086-4B3C-BE75-9188C85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369-1546-4FD5-8B23-0A90B63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CB4-27F5-4D16-8DE6-E9E73C5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9B9-8C9C-415B-B2A3-F6250E6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4F4-5887-4F4C-8F8C-1C61642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2316-D855-4851-8656-DFC39B99B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 Thousand Times Ten Thousand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nry Allfo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 Miner   ©1997 Christopher Miner Mu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 thousand times ten thous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parkling raiment brigh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mies of the ransomed saints thr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the steep of ligh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finished, all is finish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fight with death and s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ing open wide the golden gat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the victors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ush of allelu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s all the earth and sk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inging of a thousand har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peaks the triumph nigh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day, for which cre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l its tribes were mad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oy, for all its former wo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ousandfold repai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n what raptured gree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anaan’s happy sho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knitting severed friend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 where partings are no mo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eyes with joy shall spark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brimmed with tears of l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phans no longer father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dows deso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near Thy great salvati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amb for sinners slai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up the roll of Thine elec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ake Thy power, and re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ear, Desire of nation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exiles long for hom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e in the heaven Thy promised sign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Prince and Savior, c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1:33:20Z</dcterms:modified>
  <cp:revision>15</cp:revision>
  <dc:subject/>
  <dc:title>By Thy Mercy Words by James J. Cummins Music by Greg Thompson © 2004 Greg Thompson Music</dc:title>
</cp:coreProperties>
</file>