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5EB-E463-4C00-A8C1-742620F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C6B-AEED-4AA4-983B-76029C58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6A5-E972-4A5D-8781-553D65B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4A4-8B7E-427B-9F2F-9A86E7BA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8D2-60AB-447B-B825-A2AD9FD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2D5-DED5-47B4-ABD9-CD5B455A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EF8-C9FA-4A48-8604-DC4BDA8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AAA-E8A2-4384-9289-8353E903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EC7-2FC0-4E90-A482-A4D07D6C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3AD-BFA4-4E58-8E59-603BCBE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166-AE9E-4D73-9598-CE07165B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592-496D-4BB7-A3C4-7DEF2C0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8E1-FEB0-466E-BC7C-6A1AFA7F6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der Mercy (Psalm 28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Scott Roley and Paige Overton Pitts   ©1999 Scott Role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my cry for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 call to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 lift my hands in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ru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tender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ught by grace throug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ift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ard Your most Holy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Father most Ho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on Who was sl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have merc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name of the Spirit indwel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ry mer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der mercy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4:56Z</dcterms:modified>
  <cp:revision>16</cp:revision>
  <dc:subject/>
  <dc:title>By Thy Mercy Words by James J. Cummins Music by Greg Thompson © 2004 Greg Thompson Music</dc:title>
</cp:coreProperties>
</file>