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1E49-9466-4377-BC76-602FDB1AD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94A9-33CB-4CF1-9DC0-5703592BE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9BA4-9DE6-4174-8F71-E34EE33FB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2B5D-2D95-4A0D-9863-75391CAB4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F9D8-2AE4-44D6-A15E-7673F0CEE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D984-C01D-4988-871A-479AC61EE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400F-1452-429F-84A4-EE334F178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38CE-D2F2-4003-AA21-6ED04FF3A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3681-9588-4CFE-B69B-DF4A6EB43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B0B7-5D5C-4D48-BAD6-24B1E867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A077-2C4A-4EBD-965B-F9CA7DDB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DA1B-E0F0-42CA-8FD8-28FFDFFD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BC02E-0734-4B26-8A86-F712ADF412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ender Mercy (Psalm 28)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 and music: Scott Roley and Paige Overton Pitts   ©1999 Scott Roley Musi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ar my cry for merc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 I call to Yo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 I lift my hands in Spir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in Tru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cry mercy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n the name of the Father most Hol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cry merc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n the name of the Son Who was slain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rd have mercy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n the name of the Spirit indwelling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nder mercy Lo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 are mercy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n the name of the Father most Hol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 are mercy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n the name of the Son Who was slain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rd have mercy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n the name of the Spirit indwelling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nder mercy Lo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Your tender merc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rought by grace through fai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will lift my he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ward Your most Holy pl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cry mercy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n the name of the Father most Hol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cry merc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n the name of the Son Who was slain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rd have mercy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n the name of the Spirit indwelling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nder mercy Lo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 are mercy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n the name of the Father most Hol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 are mercy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n the name of the Son Who was slain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rd have mercy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n the name of the Spirit indwelling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nder mercy Lo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cry merc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cry merc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cry merc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nder mercy Lo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nder mercy Lo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5T21:34:56Z</dcterms:modified>
  <cp:revision>16</cp:revision>
  <dc:subject/>
  <dc:title>By Thy Mercy Words by James J. Cummins Music by Greg Thompson © 2004 Greg Thompson Music</dc:title>
</cp:coreProperties>
</file>