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ACB-DA42-40D5-83CB-35CEC0EE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9BC-7A7B-436C-BE11-2A790BC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E6C-0A3F-4C10-BC15-87461FD4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947-22F6-4B76-B972-5B3E9A4E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761-F94E-426D-A4AC-B763B611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894-2883-4B32-A6AE-C487323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020-C1BC-42C2-976F-53898C17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D55-FF8E-4427-917C-F6666A5D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28F-5897-4FF0-ACFB-B863C804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752-F7D4-4476-83BE-1449C4BA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7F2-C9BB-4835-A77B-64A011C6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D96-13D2-4D24-83CE-5699398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F9EF-288E-483D-B0B3-48AC1E0DB5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icken, Smitten, Afflicte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omas Kel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entury German tune arr. Philip Palmertree  ©Phillip Palmertree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icken, smitten, and affli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Him dying on the t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Christ by man reject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my soul, ’tis He, ’tis H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long expected proph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vid’s Son, yet David’s L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Son, God now has spoke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true and faithful W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, ye who hear Him groa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there ever grief like H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 through fear His cause disow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es insulting His distres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hands were raised to wound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would interpose to sa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deepest stroke that pierced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the stroke that Justice ga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ho think of sin but light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suppose the evil gr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may view its nature right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its guilt may estim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 the Sacrifice appoint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Who bears the awful loa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Word, the Lord’s Anoin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n of Man, and Son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we have a firm found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 refuge of the lo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’s the Rock of our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the Name of which we bo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mb of God for sinners wound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e to cancel guil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shall ever be confoun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on Him their hope have buil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28:19Z</dcterms:modified>
  <cp:revision>18</cp:revision>
  <dc:subject/>
  <dc:title>By Thy Mercy Words by James J. Cummins Music by Greg Thompson © 2004 Greg Thompson Music</dc:title>
</cp:coreProperties>
</file>