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7F5F-E5D2-4497-9FDC-09B20B500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7C20-1B30-4FDE-8B74-5CFC38456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DBD6-F31C-4763-A84C-DC03DAF34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315A-A30C-4D8A-B514-E13901A84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D31D-2767-4114-A822-4214CCC82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DB6C-39F1-4E58-A0AD-633740B36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2F81-86F3-4820-8792-4DE338890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7963-231C-4DCF-A388-1A2651334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131F-368F-47CF-8CFF-D0B509475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138D-CD81-4FE0-8E1E-BF5B7CDB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6CA7-6A0C-4264-8EA2-DCBEB8EA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32A4-EB54-417B-B89A-C4E8DC73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F941A-531B-49A2-967B-F4507F6595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tricken, Smitten, Afflicted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omas Kell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Music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7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century German tune arr. Philip Palmertree  ©Phillip Palmertree Musi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ricken, smitten, and afflicte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e Him dying on the tre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is the Christ by man rejected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s, my soul, ’tis He, ’tis H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is the long expected prophe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vid’s Son, yet David’s Lord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 His Son, God now has spoken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is the true and faithful Wor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ll me, ye who hear Him groan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s there ever grief like Hi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iends through fear His cause disown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es insulting His distres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ny hands were raised to wound Him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ne would interpose to sav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the deepest stroke that pierced Him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s the stroke that Justice gav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 who think of sin but lightl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r suppose the evil grea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re may view its nature rightl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re its guilt may estimat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rk the Sacrifice appointed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e Who bears the awful load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is the Word, the Lord’s Anointe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n of Man, and Son of Go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re we have a firm foundatio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re the refuge of the los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rist’s the Rock of our salvatio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the Name of which we boas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amb of God for sinners wounded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crifice to cancel guilt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ne shall ever be confound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on Him their hope have buil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5T21:28:19Z</dcterms:modified>
  <cp:revision>18</cp:revision>
  <dc:subject/>
  <dc:title>By Thy Mercy Words by James J. Cummins Music by Greg Thompson © 2004 Greg Thompson Music</dc:title>
</cp:coreProperties>
</file>