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4668-309C-4B8E-A863-B954A889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59A7-4429-4AC5-8C3A-267C6B69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90A1-2285-4DEC-9963-43A9FD6A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B8D4-8AE6-4C4E-8038-C915E95E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AD2B-BEBD-42F9-B0DE-F621384A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518B-1986-460B-A4E6-42E1EF2E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26F7-4601-42C3-83EA-A00B95EA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2C7D-D031-450B-B8F2-064B17E8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AFD-8A0F-430B-BED3-5D560E67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29D1-750D-46CA-8F03-D1CB0E9E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C5BB-28CD-45C2-840D-553F8843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1C8F-FF92-48BB-926B-63C8931E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4DF2-5982-4C03-9353-EFB4A4691F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and Up, My Soul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saac Wat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obby Guy  © Bobby Guy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nd up, my soul, shake off your fea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ird the gospel-armor o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 to the gates of endless jo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your great Captain-Savior’s g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ll and your sins resist your cours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hell and sin are vanquished foe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Jesus nailed them to the cro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ang the triumph when He ro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let my soul march boldly 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ss forward to the heav’nly gat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peace and joy eternal reig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litt’ring robes for conqu’rors wa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shall I wear a starry cr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riumph in almighty grac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all the armies of the sk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 in my glorious Savior’s prai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1:26:57Z</dcterms:modified>
  <cp:revision>17</cp:revision>
  <dc:subject/>
  <dc:title>By Thy Mercy Words by James J. Cummins Music by Greg Thompson © 2004 Greg Thompson Music</dc:title>
</cp:coreProperties>
</file>