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4F6-EF19-4AB0-A46E-83A682C4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F43-F28E-4EE8-BCA3-0183B5A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6F6-A40C-4A84-94CF-1DA6B27A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8DB-8E15-4B48-8E84-CAC4F3FF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19D-7820-44C9-B681-DFF2B408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DFE-1E04-4E0B-AB93-7C7D574B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192-99F6-41D6-8D82-987C0782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B13-2D46-48BA-9A95-81CED75D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D9D-3384-41AA-9791-A377D47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470-5069-437E-8230-F112B43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72B-6E41-42F9-B8CD-E639EB0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B6F-59F7-467A-A4BD-9A591D5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7F5B-1CEA-4434-A0EF-374A697AE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nd Up, M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aac Wa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bby Guy  © Bobby Guy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 up, my soul, shake off your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rd the gospel-armor 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to the gates of endless j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your great Captain-Savior’s g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 and your sins resist your cour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ll and sin are vanquished fo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Jesus nailed them to the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ng the triumph when He ro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let my soul march boldly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s forward to the heav’nly g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peace and joy eternal reig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itt’ring robes for conqu’rors wa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I wear a starry cr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iumph in almighty gr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all the armies of the sk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in my glorious Savior’s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6:57Z</dcterms:modified>
  <cp:revision>17</cp:revision>
  <dc:subject/>
  <dc:title>By Thy Mercy Words by James J. Cummins Music by Greg Thompson © 2004 Greg Thompson Music</dc:title>
</cp:coreProperties>
</file>