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640D-46B8-45EE-9BF8-D6794BF3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4717-7F80-468E-BDEF-486E3D52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E74D-0745-4079-B95E-DA50A930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644A-51D4-4E38-90AC-2F6AF1FA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4D54-3359-4BE8-848C-136C0EFA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560B-8398-4ECD-BC0C-B9870138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BA43-3E1D-47FB-AA54-9F636106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3820-2C84-429A-AC43-9A126630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AE98-1E4E-481D-B650-E3208603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9C9C-411E-42FE-A30C-43C1C05E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DD93-FF30-4C47-9895-B0BF4786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2CEC-E050-4D82-B13A-411AA3D6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06DB-AAD0-4F9A-A9C7-7A3298410E0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vereign Grace o’er Sin Abounding</a:t>
            </a:r>
            <a:br>
              <a:rPr sz="40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©2001 Same Old Dress Music (ASCAP). Words: John Kent. Music: Sandra McCracken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vereign grace o’er sin abounding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Ransomed souls, the tidings swell;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is a deep that knows no sounding;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o its breadth or length can tell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n its glories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et my soul for ever dwell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at from Christ that soul can sever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ound by everlasting bands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nce in Him, in Him for ever;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us the eternal covenant stands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None shall take The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rom the Strength of Israel’s hands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eirs of God, joint-heirs with Jesus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ong ere time its race begun;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o His name eternal praises;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 what wonders love has done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ne with Jesus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y eternal union one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n such love, my soul, still ponder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ove so great, so rich, so free;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ay, while lost in holy wonder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y, O Lord, such love to me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allelujah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race shall reig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allelujah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race shall reig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allelujah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race shall reign eternally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07:51Z</dcterms:created>
  <dc:creator>Zachary</dc:creator>
  <dc:description/>
  <dc:language>en-US</dc:language>
  <cp:lastModifiedBy>Zachary</cp:lastModifiedBy>
  <dcterms:modified xsi:type="dcterms:W3CDTF">2013-01-04T00:08:56Z</dcterms:modified>
  <cp:revision>1</cp:revision>
  <dc:subject/>
  <dc:title>Sovereign Grace o’er Sin Abounding ©2001 Same Old Dress Music (ASCAP). Words: John Kent. Music: Sandra McCracken.</dc:title>
</cp:coreProperties>
</file>