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401C-5F42-4D16-8BC5-1057BD9FA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3B11-C04C-4920-8072-1D070EC3E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5ECB-C02D-4081-A006-856C59A70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C10D-9143-4CB0-8212-6814FF398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A0F0-DBC7-4D2C-B80E-FD3EC74F8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6BC1-4F36-4BDD-BBAD-F67CC63E4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7A78-87EC-4655-AFF4-B9175B8CA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F252-3BCA-4D30-A734-F84FFC1F1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88F4-2CCF-4C43-85A2-BD9B7AA3C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23B8-52B8-4B23-81C8-027B36149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7424-406D-44C1-A35C-D66B5DCF5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108F-5EAD-4C01-9290-087ACAF23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13DEC-0A50-47B3-9C1D-F27ADACD774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overeign Grace o’er Sin Abounding</a:t>
            </a:r>
            <a:br>
              <a:rPr sz="40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©2001 Same Old Dress Music (ASCAP). Words: John Kent. Music: Sandra McCracken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overeign grace o’er sin abounding!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Ransomed souls, the tidings swell;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is a deep that knows no sounding;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Who its breadth or length can tell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On its glories,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Let my soul for ever dwell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What from Christ that soul can sever,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Bound by everlasting bands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Once in Him, in Him for ever;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hus the eternal covenant stands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None shall take The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From the Strength of Israel’s hands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Heirs of God, joint-heirs with Jesus,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Long ere time its race begun;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o His name eternal praises;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O what wonders love has done!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One with Jesus,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By eternal union one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On such love, my soul, still ponder,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Love so great, so rich, so free;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ay, while lost in holy wonder,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Why, O Lord, such love to me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Hallelujah!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Grace shall reign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Hallelujah!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Grace shall reign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Hallelujah!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Grace shall reign eternally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0:07:51Z</dcterms:created>
  <dc:creator>Zachary</dc:creator>
  <dc:description/>
  <dc:language>en-US</dc:language>
  <cp:lastModifiedBy>Zachary</cp:lastModifiedBy>
  <dcterms:modified xsi:type="dcterms:W3CDTF">2013-01-04T00:08:56Z</dcterms:modified>
  <cp:revision>1</cp:revision>
  <dc:subject/>
  <dc:title>Sovereign Grace o’er Sin Abounding ©2001 Same Old Dress Music (ASCAP). Words: John Kent. Music: Sandra McCracken.</dc:title>
</cp:coreProperties>
</file>