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3EA6-896A-448C-AD2D-C78DADD5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3E8-0D4F-47CC-8FF6-131B2E87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609-BA6F-4E1E-95AF-1D7A4F01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D48-A64E-456E-B4CA-C5778473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DD1-8CD2-45D7-938C-BF6548D1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3F5-BDA9-45F5-A9D2-64527F60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6E9-2886-4B9D-8E50-CF555D8C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F29C-ECFB-4F26-903A-C5374B03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1463-41B1-4B55-A2B7-612C7D0D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4D7-94E1-4FCC-87B7-916E5EFC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C22-9B5C-4D51-AE27-F822AFB8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AAC9-6C2C-4C19-94F5-009214A1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FB32-207F-4191-AD19-41CD930723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metimes a Light Surprise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lliam Cow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vin Twit  © 2001 Kevin Twit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times a light surpr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ristian while he sing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the Lord Who r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healing in His wing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comforts are declin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grants the soul ag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eason of clear shin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cheer it after the r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oly contemp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sweetly then purs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heme of God’s salva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ind it ever ne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t free from present sorr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heerfully can s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 unknown tomor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ing with it what it m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morrow can bring us noth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He will bear us through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gives the lilies clot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l clothe His people, too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ath the spreading heave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creature but is f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 Who feeds the rave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l give His children brea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vine nor fig tree nei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ir wonted fruit should b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all the fields should with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flocks or herds be t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, God the same abi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praise shall tune my voic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, while in Him confid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nnot but rejo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25:47Z</dcterms:modified>
  <cp:revision>16</cp:revision>
  <dc:subject/>
  <dc:title>By Thy Mercy Words by James J. Cummins Music by Greg Thompson © 2004 Greg Thompson Music</dc:title>
</cp:coreProperties>
</file>