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9AF9-40FD-4D19-99C1-C040ECF1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335-0751-4D36-B57F-99E3A92D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59A-BC18-4AF6-909D-BC2313A7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11E-A687-436C-9DC1-66F551DD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DC5-13F6-4897-A146-8210F9A3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AB6B-BDE0-44CC-B294-64EBA85D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ED5-0DD6-41EC-B5CB-2DA3ED1C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C22-20DB-4EB1-971F-0A8EF4D8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18D-E305-4E67-8141-6EBFA10E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44E-521C-4EE3-AEFC-30CD3149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08C-5537-41FA-805F-8B27D5B2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8E2A-0DDA-41C7-8B7B-5E46BEAF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3135-A36C-4976-BCC0-D6C06331AF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metimes a Light Surprise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Cow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vin Twit  © 2001 Kevin Twit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times a light surpr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ristian while he sing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the Lord Who r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healing in His wing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comforts are declin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grants the soul ag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eason of clear shin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heer it after the r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oly contemp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sweetly then purs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heme of God’s salv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ind it ever ne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t free from present sorr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heerfully can s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unknown tomor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ng with it what it m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morrow can bring us noth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He will bear us through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gives the lilies clo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 clothe His people, too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the spreading heave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creature but is f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Who feeds the rave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 give His children bre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vine nor fig tree nei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wonted fruit should b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all the fields should with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flocks or herds be t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, God the same abi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praise shall tune my voi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, while in Him confi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nnot but rejo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25:47Z</dcterms:modified>
  <cp:revision>16</cp:revision>
  <dc:subject/>
  <dc:title>By Thy Mercy Words by James J. Cummins Music by Greg Thompson © 2004 Greg Thompson Music</dc:title>
</cp:coreProperties>
</file>