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B3F-3402-400E-8C93-F2A706BF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74A-D7FD-4B18-8772-6696302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4DE-5A5B-4A04-B0F4-4D5E8F1C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78F-505B-46FC-97FF-26DDA265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1C6-1F9E-41A4-BC3B-A32CB1D0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846-8C76-4827-82F3-09FAC275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14D-BBB4-41E2-9957-468BF139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D8C-D6F3-45D3-8C89-8E67EB06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B25-3A55-4475-93B1-330A1575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B5A-7C4C-44DA-99C9-AB2F799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598-5C16-4795-A2C6-B52A7B2C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1A1-B367-45E1-8619-117EE8D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76FE-E7C6-4316-8699-F9263EC94B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vation to the Lamb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Hart and Justin Smi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Smith  © 2005 Justin Smith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or sinner come, cast off thy f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aise thy drooping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sing with all poor sinners he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who once was d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vation sing no word more mee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join to Jesus'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thankful tongue repeat "Salvation to the Lamb"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alvation to the Lamb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ints from the garden to the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quering Lord purs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, dearly to redeem your l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aned, bled, and died for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reigns victorious ove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ous great I 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soul repeat with fa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vation to the Lamb. Salvation to the Lam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incurred the wrath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as! What could be wor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me, and with His heart's own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emed us from the c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Paschal Lamb, his blood can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eanse ye from each s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at, ye ransomed souls, rep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alvation to the Lamb." "Salvation to the Lamb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24:30Z</dcterms:modified>
  <cp:revision>15</cp:revision>
  <dc:subject/>
  <dc:title>By Thy Mercy Words by James J. Cummins Music by Greg Thompson © 2004 Greg Thompson Music</dc:title>
</cp:coreProperties>
</file>