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0CC-339A-49E7-9216-0D31FA4E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84F-9C1C-427F-A1B9-4B92FB32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F56-139B-419B-9615-4306AC2A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D19-AF3D-46F0-90CB-77F6220E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EDD-F110-44B8-BCB5-55908E3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E69-1295-4C95-8C59-2027712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A65-E35F-4286-8BAF-D20BEC52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892-F212-4884-8A0E-FD1FACB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3C0-8AE6-46F2-B670-FFCA80D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FC2-EC11-4900-A299-F79B018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7BC-7CBB-4F27-B7A9-6A364E2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2A2-DD06-428B-8679-57F2C6F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106D-D874-41F0-BECD-A62DCEC0F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vation to the Lamb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 and Justin Sm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Smith  © 2005 Justin Smith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sinner come, cast off thy fe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ise thy drooping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sing with all poor sinners he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who once was d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vation sing no word more mee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join to Jesus'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thankful tongue repeat "Salvation to the Lamb"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alvation to the Lamb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from the garden to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nquering Lord pur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, dearly to redeem your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aned, bled, and died for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reigns victorious ove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rious great I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soul repeat wit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vation to the Lamb. Salvation to the La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incurred the wrath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! What could be wor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me, and with His heart's own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d us from the c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aschal Lamb, his blood can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eanse ye from each 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, ye ransomed souls, rep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alvation to the Lamb." "Salvation to the Lamb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4:30Z</dcterms:modified>
  <cp:revision>15</cp:revision>
  <dc:subject/>
  <dc:title>By Thy Mercy Words by James J. Cummins Music by Greg Thompson © 2004 Greg Thompson Music</dc:title>
</cp:coreProperties>
</file>